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4.jpeg" ContentType="image/jpeg"/>
  <Override PartName="/ppt/media/image21.jpeg" ContentType="image/jpeg"/>
  <Override PartName="/ppt/media/image7.jpeg" ContentType="image/jpeg"/>
  <Override PartName="/ppt/media/image11.png" ContentType="image/png"/>
  <Override PartName="/ppt/media/image29.jpeg" ContentType="image/jpeg"/>
  <Override PartName="/ppt/media/image8.jpeg" ContentType="image/jpeg"/>
  <Override PartName="/ppt/media/image27.jpeg" ContentType="image/jpeg"/>
  <Override PartName="/ppt/media/image10.png" ContentType="image/png"/>
  <Override PartName="/ppt/media/image33.jpeg" ContentType="image/jpeg"/>
  <Override PartName="/ppt/media/image18.png" ContentType="image/png"/>
  <Override PartName="/ppt/media/image6.jpeg" ContentType="image/jpeg"/>
  <Override PartName="/ppt/media/image12.png" ContentType="image/png"/>
  <Override PartName="/ppt/media/image20.jpeg" ContentType="image/jpeg"/>
  <Override PartName="/ppt/media/image30.jpeg" ContentType="image/jpeg"/>
  <Override PartName="/ppt/media/image28.wmf" ContentType="image/x-wmf"/>
  <Override PartName="/ppt/media/image3.jpeg" ContentType="image/jpeg"/>
  <Override PartName="/ppt/media/image15.png" ContentType="image/png"/>
  <Override PartName="/ppt/media/image31.jpeg" ContentType="image/jpeg"/>
  <Override PartName="/ppt/media/image4.jpeg" ContentType="image/jpeg"/>
  <Override PartName="/ppt/media/image19.jpeg" ContentType="image/jpeg"/>
  <Override PartName="/ppt/media/image25.png" ContentType="image/png"/>
  <Override PartName="/ppt/media/image32.jpeg" ContentType="image/jpeg"/>
  <Override PartName="/ppt/media/image5.jpeg" ContentType="image/jpeg"/>
  <Override PartName="/ppt/media/image26.jpeg" ContentType="image/jpeg"/>
  <Override PartName="/ppt/media/image9.png" ContentType="image/png"/>
  <Override PartName="/ppt/media/image13.png" ContentType="image/png"/>
  <Override PartName="/ppt/media/image2.jpeg" ContentType="image/jpeg"/>
  <Override PartName="/ppt/media/image1.png" ContentType="image/png"/>
  <Override PartName="/ppt/media/image14.png" ContentType="image/png"/>
  <Override PartName="/ppt/media/image16.jpeg" ContentType="image/jpe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17DB8-5538-4C5B-A971-65AD89BF44C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0DCB9-2789-4039-A538-A7C2D134977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part of the western coulee region, in part also referred to as the driftless reg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red to as the driftless region since it was unscathed by the last round of glaciers about 10k years ago.  What left behind is sand</a:t>
            </a:r>
            <a:r>
              <a:rPr b="0" lang="en-US" sz="1200" spc="-1" strike="noStrike">
                <a:solidFill>
                  <a:srgbClr val="000000"/>
                </a:solidFill>
                <a:latin typeface="Wingdings"/>
                <a:ea typeface="Wingdings"/>
              </a:rPr>
              <a:t></a:t>
            </a:r>
            <a:r>
              <a:rPr b="0" lang="en-US" sz="1200" spc="-1" strike="noStrike">
                <a:solidFill>
                  <a:srgbClr val="000000"/>
                </a:solidFill>
                <a:latin typeface="Calibri"/>
              </a:rPr>
              <a:t> sandstone which was left behind as glaciers drained into the Mississippi river, forming the many coulees and valleys of the region.  On the surface we see grasslands, oak forest as common vegetation</a:t>
            </a: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DDCF6-8853-4CD5-A9E8-5049657A4E9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excerpts of  Oliver Gilbert’s memoirs (Son of Samuel)…. http://ezproxy.lib.uwstout.edu/ics-wpd/russell_collection/712.pdf   the Indians used the middle mill as a trading post  with the local resid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EB5B7-7A03-48CE-832B-C8C5A7F7373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itioning to the inhabitants of the land to western European settlers . this is a landmark document since it provides our first written history of the landscape.  Most importantly we learned  the land was uninhabited, suitable for farming, and a snapshot of the vegetation present…sugar (maple)  oak (probably red) and Elm… undergrowth prickly ash, alder and v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likely correlated to a lowland deciduous forest – note the sparsity of trees from the transect</a:t>
            </a: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85E37-87C2-4E98-A145-3D5352456EC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 Gilbert creek today  (map patched together from google map screen sho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learn a lot from the satellite view, lots of evidence of agriculture and forest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e red box..the head waters where restoration has been done, just to the east (right) of the red box we see a stright portion of the stream,, likely channelized at some point in time</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10332-7DF9-407C-B82F-43F09A4A289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it turns out there is a history… as we settled upstream.. we cut the timber from the rolling Knapp hills .  Because the soils were soft sandstone and limestone, the hills eroded pouring sediment into Gilbert creek.  Enter livestock, grazing the land entering the stream on hot days .  Across time , perhaps 100 years Gilbert creek becomes highly eroded  steep stream banks, poor water quality lead to the collapse of one of gilberts original residents, the brook trout</a:t>
            </a: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9B221-4128-4781-ADD8-38489BF69FB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and after shots of Gilbert restoration  on the left a wide  shallow stream  with little  divers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right bank installments to narrow the stream, increase current speed, flush out the sediment</a:t>
            </a: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DB7A4-1117-4D40-B672-5C94AC1E305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e know about the stream comes from monitor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have spring and fall monitoring as a component of my fall and spring course in Science, Sustainability and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variables are easy to cap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are more complex and equipment intensive..  An set of variables that can be monitored across time represent valuable learning experiences for stud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ter is important because it is home to the numerous commmon, and uncommon creature that depend upon it </a:t>
            </a: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8A3BF-5EA6-42E8-83C9-D697745AF85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rea has been twice blessed with stories of the landscape with human-nature</a:t>
            </a: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1E827-0429-4FF6-BFD3-00E55E2FD6B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good message for history buffs in your area---turns out the original survey note mention the gilbert sawmill pond in 1849, but for the most part there seems to be no record of who Gilbert was.  There is a record of purchase in 1846 a record of sale in 1854, but nothing on where he came from and where went after he sells his sawmill</a:t>
            </a: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17A73-8170-42B8-8FEE-87686041D25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sheds are essentially basins where all the water flows to one point.  Probably most important are that there are multiple watershed…gilbert, and wilson, are both part of the red cedar water shed</a:t>
            </a: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C82BB-1E26-46F3-BBC6-AF6EB651336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ess map, trace stream from source (headwaters) to mouth =l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ess map, locate high points surrounding stream, draw connective border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3</a:t>
            </a:r>
            <a:r>
              <a:rPr b="0" lang="en-US" sz="1200" spc="-1" strike="noStrike" baseline="30000">
                <a:solidFill>
                  <a:srgbClr val="000000"/>
                </a:solidFill>
                <a:latin typeface="Calibri"/>
              </a:rPr>
              <a:t>rd</a:t>
            </a:r>
            <a:r>
              <a:rPr b="0" lang="en-US" sz="1200" spc="-1" strike="noStrike">
                <a:solidFill>
                  <a:srgbClr val="000000"/>
                </a:solidFill>
                <a:latin typeface="Calibri"/>
              </a:rPr>
              <a:t> order stre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st maps are 7.5 minute USGS ma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DNR, local/county planning offices may have access to similar ma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397CF-56C3-444A-A737-C3A5BBFD8E5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es any watershed matter… gilbert creek is just a little stream that starts in the knapp hills of Western Wisconsin  drains into the lower red cedar river basin, which then drains into the Chippewa River, which drains into the  … but in the driftless area alone there are over 7000 streams just like it.  In recent history the driftless area has become  a national foc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B8C9A-4F59-4EB7-A7F0-ADB361B9D6F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es any watershed matter… Gilbert creek is just a little stream … but in the driftless area alone there are over 7000 streams just like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watersheds in the mid US end up connecting to the Mississippi river, and ultimately  the gulf of Mexico.   The Gulf suffers from N and P pollution from all of the watersheds above it</a:t>
            </a: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1FE72-441A-4D2A-9B03-1F14534B409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tershed lays upon the land –note purple star in western plains—the land helps to tell about its history ;;;; sandstone dolomite and shale…… mostly sandstone in reality,, teaches us what  nutrient enter this watershed, and where the water comes from.  Gilbert creek essentially leaches out of the sandstone moun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states have this book</a:t>
            </a: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AA439-3DAD-400A-A563-93672DECA7A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58C0E8-EB76-4263-B1BF-83454DD9D1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8454E-8CBF-4B54-9186-A43ECC8E1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402A4D-666D-4570-8334-0D0D62C655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C50A01-0318-4D8B-AEF2-9C0605AFF8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173A7-D3AF-4341-991D-384174586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AD4F3-F4F4-4177-939D-7962D7FCD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40E3F-8460-4D07-BC59-AA1AEA85E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F4E8E-D927-4572-9994-F909C1C5C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95E32-792F-4E4C-B521-579BA481E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9E8AA-70AC-437D-914B-0D82679B6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01FF7-2A6A-418D-9D75-B87FE489C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ECC71-F341-4DFC-8E2A-4DB883FBB6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A0AE3-6D67-4F0B-BEC2-B9DBD0BE5E5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bomarc@uwstout.edu" TargetMode="Externa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1.png"/><Relationship Id="rId3" Type="http://schemas.openxmlformats.org/officeDocument/2006/relationships/image" Target="../media/image2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1.pn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nchantedlearning.com/usa/rivers/" TargetMode="External"/><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png"/><Relationship Id="rId3" Type="http://schemas.openxmlformats.org/officeDocument/2006/relationships/image" Target="../media/image17.jpe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4876560" y="3357720"/>
            <a:ext cx="4267080" cy="1752480"/>
          </a:xfrm>
          <a:prstGeom prst="rect">
            <a:avLst/>
          </a:prstGeom>
          <a:noFill/>
          <a:ln w="0">
            <a:noFill/>
          </a:ln>
        </p:spPr>
        <p:txBody>
          <a:bodyPr anchor="t">
            <a:noAutofit/>
          </a:bodyPr>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Charles R. Bomar PhD</a:t>
            </a:r>
            <a:br>
              <a:rPr sz="800"/>
            </a:br>
            <a:r>
              <a:rPr b="0" lang="en-US" sz="1600" spc="-1" strike="noStrike">
                <a:solidFill>
                  <a:srgbClr val="898989"/>
                </a:solidFill>
                <a:latin typeface="Calibri"/>
              </a:rPr>
              <a:t>Chair, Department of Biology</a:t>
            </a:r>
            <a:br>
              <a:rPr sz="1600"/>
            </a:br>
            <a:r>
              <a:rPr b="0" lang="en-US" sz="1600" spc="-1" strike="noStrike">
                <a:solidFill>
                  <a:srgbClr val="898989"/>
                </a:solidFill>
                <a:latin typeface="Calibri"/>
              </a:rPr>
              <a:t>Executive Director, Orthopterists' Society</a:t>
            </a:r>
            <a:br>
              <a:rPr sz="1600"/>
            </a:br>
            <a:r>
              <a:rPr b="0" lang="en-US" sz="1600" spc="-1" strike="noStrike">
                <a:solidFill>
                  <a:srgbClr val="898989"/>
                </a:solidFill>
                <a:latin typeface="Calibri"/>
              </a:rPr>
              <a:t>Professor of Biology</a:t>
            </a:r>
            <a:br>
              <a:rPr sz="1600"/>
            </a:br>
            <a:r>
              <a:rPr b="0" lang="en-US" sz="1600" spc="-1" strike="noStrike">
                <a:solidFill>
                  <a:srgbClr val="898989"/>
                </a:solidFill>
                <a:latin typeface="Calibri"/>
              </a:rPr>
              <a:t>331D Jarvis Hall</a:t>
            </a:r>
            <a:br>
              <a:rPr sz="1600"/>
            </a:br>
            <a:r>
              <a:rPr b="0" lang="en-US" sz="1600" spc="-1" strike="noStrike">
                <a:solidFill>
                  <a:srgbClr val="898989"/>
                </a:solidFill>
                <a:latin typeface="Calibri"/>
              </a:rPr>
              <a:t>University of Wisconsin-Stout</a:t>
            </a:r>
            <a:br>
              <a:rPr sz="1600"/>
            </a:br>
            <a:r>
              <a:rPr b="0" lang="en-US" sz="1600" spc="-1" strike="noStrike">
                <a:solidFill>
                  <a:srgbClr val="898989"/>
                </a:solidFill>
                <a:latin typeface="Calibri"/>
              </a:rPr>
              <a:t>Menomonie, WI 54751</a:t>
            </a:r>
            <a:br>
              <a:rPr sz="1600"/>
            </a:br>
            <a:r>
              <a:rPr b="0" lang="en-US" sz="1600" spc="-1" strike="noStrike" u="sng">
                <a:solidFill>
                  <a:srgbClr val="0000ff"/>
                </a:solidFill>
                <a:uFillTx/>
                <a:latin typeface="Calibri"/>
                <a:hlinkClick r:id="rId1"/>
              </a:rPr>
              <a:t>bomarc@uwstout.edu</a:t>
            </a:r>
            <a:br>
              <a:rPr sz="800"/>
            </a:br>
            <a:br>
              <a:rPr sz="800"/>
            </a:br>
            <a:endParaRPr b="0" lang="en-US" sz="1600" spc="-1" strike="noStrike">
              <a:solidFill>
                <a:srgbClr val="000000"/>
              </a:solidFill>
              <a:latin typeface="Calibri"/>
            </a:endParaRPr>
          </a:p>
        </p:txBody>
      </p:sp>
      <p:sp>
        <p:nvSpPr>
          <p:cNvPr id="49" name="Rectangle 3"/>
          <p:cNvSpPr/>
          <p:nvPr/>
        </p:nvSpPr>
        <p:spPr>
          <a:xfrm>
            <a:off x="0" y="6070680"/>
            <a:ext cx="9144000" cy="79056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TextBox 4"/>
          <p:cNvSpPr/>
          <p:nvPr/>
        </p:nvSpPr>
        <p:spPr>
          <a:xfrm>
            <a:off x="1816200" y="6224760"/>
            <a:ext cx="43988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DEPARTMENT OF BIOLOGY</a:t>
            </a:r>
            <a:br>
              <a:rPr sz="1000"/>
            </a:br>
            <a:r>
              <a:rPr b="0" lang="en-US" sz="1000" spc="-1" strike="noStrike">
                <a:solidFill>
                  <a:srgbClr val="ffffff"/>
                </a:solidFill>
                <a:latin typeface="Arial"/>
                <a:ea typeface="Arial"/>
              </a:rPr>
              <a:t>Inspiring Innovation    Learn more at www.uwstout.edu/</a:t>
            </a:r>
            <a:endParaRPr b="0" lang="en-US" sz="1000" spc="-1" strike="noStrike">
              <a:solidFill>
                <a:srgbClr val="000000"/>
              </a:solidFill>
              <a:latin typeface="Calibri"/>
            </a:endParaRPr>
          </a:p>
        </p:txBody>
      </p:sp>
      <p:sp>
        <p:nvSpPr>
          <p:cNvPr id="51" name="PlaceHolder 2"/>
          <p:cNvSpPr>
            <a:spLocks noGrp="1"/>
          </p:cNvSpPr>
          <p:nvPr>
            <p:ph type="title"/>
          </p:nvPr>
        </p:nvSpPr>
        <p:spPr>
          <a:xfrm>
            <a:off x="380880" y="10666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watershed biography: Welcome to Gilbert Creek</a:t>
            </a:r>
            <a:endParaRPr b="0" lang="en-US" sz="4400" spc="-1" strike="noStrike">
              <a:solidFill>
                <a:srgbClr val="000000"/>
              </a:solidFill>
              <a:latin typeface="Calibri"/>
            </a:endParaRPr>
          </a:p>
        </p:txBody>
      </p:sp>
      <p:pic>
        <p:nvPicPr>
          <p:cNvPr id="52" name="Picture 11" descr="shield--black.png"/>
          <p:cNvPicPr/>
          <p:nvPr/>
        </p:nvPicPr>
        <p:blipFill>
          <a:blip r:embed="rId2"/>
          <a:stretch/>
        </p:blipFill>
        <p:spPr>
          <a:xfrm>
            <a:off x="228600" y="5562720"/>
            <a:ext cx="1460520" cy="1295280"/>
          </a:xfrm>
          <a:prstGeom prst="rect">
            <a:avLst/>
          </a:prstGeom>
          <a:ln w="0">
            <a:noFill/>
          </a:ln>
        </p:spPr>
      </p:pic>
      <p:pic>
        <p:nvPicPr>
          <p:cNvPr id="53" name="Picture 6" descr="http://www.tu.org/atf/cf/%7B0D18ECB7-7347-445B-A38E-65B282BBBD8A%7D/Gilbert_Creek_project_workers1.jpg"/>
          <p:cNvPicPr/>
          <p:nvPr/>
        </p:nvPicPr>
        <p:blipFill>
          <a:blip r:embed="rId3"/>
          <a:stretch/>
        </p:blipFill>
        <p:spPr>
          <a:xfrm>
            <a:off x="152280" y="2619360"/>
            <a:ext cx="5050080" cy="3019320"/>
          </a:xfrm>
          <a:prstGeom prst="rect">
            <a:avLst/>
          </a:prstGeom>
          <a:ln w="0">
            <a:noFill/>
          </a:ln>
        </p:spPr>
      </p:pic>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and: Above ground</a:t>
            </a:r>
            <a:endParaRPr b="0" lang="en-US" sz="4400" spc="-1" strike="noStrike">
              <a:solidFill>
                <a:srgbClr val="000000"/>
              </a:solidFill>
              <a:latin typeface="Calibri"/>
            </a:endParaRPr>
          </a:p>
        </p:txBody>
      </p:sp>
      <p:sp>
        <p:nvSpPr>
          <p:cNvPr id="149" name="Rectangle 3"/>
          <p:cNvSpPr/>
          <p:nvPr/>
        </p:nvSpPr>
        <p:spPr>
          <a:xfrm>
            <a:off x="0" y="6100920"/>
            <a:ext cx="9144000" cy="79056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0" name="Picture 11" descr="shield--black.png"/>
          <p:cNvPicPr/>
          <p:nvPr/>
        </p:nvPicPr>
        <p:blipFill>
          <a:blip r:embed="rId1"/>
          <a:stretch/>
        </p:blipFill>
        <p:spPr>
          <a:xfrm>
            <a:off x="228600" y="5562720"/>
            <a:ext cx="1460520" cy="1295280"/>
          </a:xfrm>
          <a:prstGeom prst="rect">
            <a:avLst/>
          </a:prstGeom>
          <a:ln w="0">
            <a:noFill/>
          </a:ln>
        </p:spPr>
      </p:pic>
      <p:pic>
        <p:nvPicPr>
          <p:cNvPr id="151" name="Picture 2" descr="http://saveourknapphillsalliance.files.wordpress.com/2012/04/cropped-knapp-hills1.jpg"/>
          <p:cNvPicPr/>
          <p:nvPr/>
        </p:nvPicPr>
        <p:blipFill>
          <a:blip r:embed="rId2"/>
          <a:stretch/>
        </p:blipFill>
        <p:spPr>
          <a:xfrm>
            <a:off x="533520" y="1295280"/>
            <a:ext cx="7638840" cy="1379520"/>
          </a:xfrm>
          <a:prstGeom prst="rect">
            <a:avLst/>
          </a:prstGeom>
          <a:ln w="0">
            <a:noFill/>
          </a:ln>
        </p:spPr>
      </p:pic>
      <p:sp>
        <p:nvSpPr>
          <p:cNvPr id="152" name="TextBox 4"/>
          <p:cNvSpPr/>
          <p:nvPr/>
        </p:nvSpPr>
        <p:spPr>
          <a:xfrm>
            <a:off x="1676520" y="6095880"/>
            <a:ext cx="43988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DEPARTMENT OF BIOLOGY</a:t>
            </a:r>
            <a:br>
              <a:rPr sz="1000"/>
            </a:br>
            <a:r>
              <a:rPr b="0" lang="en-US" sz="1000" spc="-1" strike="noStrike">
                <a:solidFill>
                  <a:srgbClr val="ffffff"/>
                </a:solidFill>
                <a:latin typeface="Arial"/>
                <a:ea typeface="Arial"/>
              </a:rPr>
              <a:t>Inspiring Innovation    Learn more at www.uwstout.edu/</a:t>
            </a:r>
            <a:endParaRPr b="0" lang="en-US" sz="1000" spc="-1" strike="noStrike">
              <a:solidFill>
                <a:srgbClr val="000000"/>
              </a:solidFill>
              <a:latin typeface="Calibri"/>
            </a:endParaRPr>
          </a:p>
        </p:txBody>
      </p:sp>
      <p:pic>
        <p:nvPicPr>
          <p:cNvPr id="153" name="Picture 2" descr="WI Ecological Landscapes"/>
          <p:cNvPicPr/>
          <p:nvPr/>
        </p:nvPicPr>
        <p:blipFill>
          <a:blip r:embed="rId3"/>
          <a:stretch/>
        </p:blipFill>
        <p:spPr>
          <a:xfrm>
            <a:off x="5929200" y="2746440"/>
            <a:ext cx="3189240" cy="3108240"/>
          </a:xfrm>
          <a:prstGeom prst="rect">
            <a:avLst/>
          </a:prstGeom>
          <a:ln w="0">
            <a:noFill/>
          </a:ln>
        </p:spPr>
      </p:pic>
      <p:sp>
        <p:nvSpPr>
          <p:cNvPr id="154" name="TextBox 2"/>
          <p:cNvSpPr/>
          <p:nvPr/>
        </p:nvSpPr>
        <p:spPr>
          <a:xfrm>
            <a:off x="152280" y="3048120"/>
            <a:ext cx="2286000" cy="244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ike many places across the country, Wisconsin, Dunn County, Gilbert Creek are all really dynamic places </a:t>
            </a:r>
            <a:endParaRPr b="0" lang="en-US" sz="2200" spc="-1" strike="noStrike">
              <a:solidFill>
                <a:srgbClr val="000000"/>
              </a:solidFill>
              <a:latin typeface="Calibri"/>
            </a:endParaRPr>
          </a:p>
        </p:txBody>
      </p:sp>
      <p:pic>
        <p:nvPicPr>
          <p:cNvPr id="155" name="Picture 2" descr="http://wisconsingeologicalsurvey.org/assets/pagesize%20maps/sm_earlyv.jpg"/>
          <p:cNvPicPr/>
          <p:nvPr/>
        </p:nvPicPr>
        <p:blipFill>
          <a:blip r:embed="rId4"/>
          <a:stretch/>
        </p:blipFill>
        <p:spPr>
          <a:xfrm>
            <a:off x="2911320" y="2928960"/>
            <a:ext cx="2891160" cy="3108240"/>
          </a:xfrm>
          <a:prstGeom prst="rect">
            <a:avLst/>
          </a:prstGeom>
          <a:ln w="0">
            <a:noFill/>
          </a:ln>
        </p:spPr>
      </p:pic>
      <p:grpSp>
        <p:nvGrpSpPr>
          <p:cNvPr id="156" name="5-Point Star 8"/>
          <p:cNvGrpSpPr/>
          <p:nvPr/>
        </p:nvGrpSpPr>
        <p:grpSpPr>
          <a:xfrm>
            <a:off x="3292560" y="4170240"/>
            <a:ext cx="298440" cy="292320"/>
            <a:chOff x="3292560" y="4170240"/>
            <a:chExt cx="298440" cy="292320"/>
          </a:xfrm>
        </p:grpSpPr>
        <p:pic>
          <p:nvPicPr>
            <p:cNvPr id="157" name="5-Point Star 8" descr=""/>
            <p:cNvPicPr/>
            <p:nvPr/>
          </p:nvPicPr>
          <p:blipFill>
            <a:blip r:embed="rId5"/>
            <a:stretch/>
          </p:blipFill>
          <p:spPr>
            <a:xfrm>
              <a:off x="3292560" y="4170240"/>
              <a:ext cx="298440" cy="292320"/>
            </a:xfrm>
            <a:prstGeom prst="rect">
              <a:avLst/>
            </a:prstGeom>
            <a:ln w="0">
              <a:noFill/>
            </a:ln>
          </p:spPr>
        </p:pic>
        <p:sp>
          <p:nvSpPr>
            <p:cNvPr id="158" name=""/>
            <p:cNvSpPr/>
            <p:nvPr/>
          </p:nvSpPr>
          <p:spPr>
            <a:xfrm>
              <a:off x="3409920" y="4278240"/>
              <a:ext cx="69840" cy="69840"/>
            </a:xfrm>
            <a:prstGeom prst="rect">
              <a:avLst/>
            </a:prstGeom>
            <a:noFill/>
            <a:ln w="0">
              <a:noFill/>
            </a:ln>
          </p:spPr>
          <p:style>
            <a:lnRef idx="0"/>
            <a:fillRef idx="0"/>
            <a:effectRef idx="0"/>
            <a:fontRef idx="minor"/>
          </p:style>
          <p:txBody>
            <a:bodyPr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59" name="5-Point Star 11"/>
          <p:cNvGrpSpPr/>
          <p:nvPr/>
        </p:nvGrpSpPr>
        <p:grpSpPr>
          <a:xfrm>
            <a:off x="6272280" y="4078440"/>
            <a:ext cx="299880" cy="291960"/>
            <a:chOff x="6272280" y="4078440"/>
            <a:chExt cx="299880" cy="291960"/>
          </a:xfrm>
        </p:grpSpPr>
        <p:pic>
          <p:nvPicPr>
            <p:cNvPr id="160" name="5-Point Star 11" descr=""/>
            <p:cNvPicPr/>
            <p:nvPr/>
          </p:nvPicPr>
          <p:blipFill>
            <a:blip r:embed="rId6"/>
            <a:stretch/>
          </p:blipFill>
          <p:spPr>
            <a:xfrm>
              <a:off x="6272280" y="4078440"/>
              <a:ext cx="299880" cy="291960"/>
            </a:xfrm>
            <a:prstGeom prst="rect">
              <a:avLst/>
            </a:prstGeom>
            <a:ln w="0">
              <a:noFill/>
            </a:ln>
          </p:spPr>
        </p:pic>
        <p:sp>
          <p:nvSpPr>
            <p:cNvPr id="161" name=""/>
            <p:cNvSpPr/>
            <p:nvPr/>
          </p:nvSpPr>
          <p:spPr>
            <a:xfrm>
              <a:off x="6389640" y="4187880"/>
              <a:ext cx="69840" cy="69840"/>
            </a:xfrm>
            <a:prstGeom prst="rect">
              <a:avLst/>
            </a:prstGeom>
            <a:noFill/>
            <a:ln w="0">
              <a:noFill/>
            </a:ln>
          </p:spPr>
          <p:style>
            <a:lnRef idx="0"/>
            <a:fillRef idx="0"/>
            <a:effectRef idx="0"/>
            <a:fontRef idx="minor"/>
          </p:style>
          <p:txBody>
            <a:bodyPr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human inhabitants </a:t>
            </a:r>
            <a:endParaRPr b="0" lang="en-US" sz="44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t of a disputed territory</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kota (Sioux= Dirty old Snak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jibwa  (Chippewa)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rritory was used as a </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no mans lan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merous treaties signed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tween tribes and US govt</a:t>
            </a:r>
            <a:endParaRPr b="0" lang="en-US" sz="3200" spc="-1" strike="noStrike">
              <a:solidFill>
                <a:srgbClr val="000000"/>
              </a:solidFill>
              <a:latin typeface="Calibri"/>
            </a:endParaRPr>
          </a:p>
        </p:txBody>
      </p:sp>
      <p:sp>
        <p:nvSpPr>
          <p:cNvPr id="164" name="Rectangle 3"/>
          <p:cNvSpPr/>
          <p:nvPr/>
        </p:nvSpPr>
        <p:spPr>
          <a:xfrm>
            <a:off x="0" y="6070680"/>
            <a:ext cx="9144000" cy="79056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5" name="Picture 11" descr="shield--black.png"/>
          <p:cNvPicPr/>
          <p:nvPr/>
        </p:nvPicPr>
        <p:blipFill>
          <a:blip r:embed="rId1"/>
          <a:stretch/>
        </p:blipFill>
        <p:spPr>
          <a:xfrm>
            <a:off x="228600" y="5562720"/>
            <a:ext cx="1460520" cy="1295280"/>
          </a:xfrm>
          <a:prstGeom prst="rect">
            <a:avLst/>
          </a:prstGeom>
          <a:ln w="0">
            <a:noFill/>
          </a:ln>
        </p:spPr>
      </p:pic>
      <p:sp>
        <p:nvSpPr>
          <p:cNvPr id="166" name="TextBox 4"/>
          <p:cNvSpPr/>
          <p:nvPr/>
        </p:nvSpPr>
        <p:spPr>
          <a:xfrm>
            <a:off x="1816200" y="6224760"/>
            <a:ext cx="43988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DEPARTMENT OF BIOLOGY</a:t>
            </a:r>
            <a:br>
              <a:rPr sz="1000"/>
            </a:br>
            <a:r>
              <a:rPr b="0" lang="en-US" sz="1000" spc="-1" strike="noStrike">
                <a:solidFill>
                  <a:srgbClr val="ffffff"/>
                </a:solidFill>
                <a:latin typeface="Arial"/>
                <a:ea typeface="Arial"/>
              </a:rPr>
              <a:t>Inspiring Innovation    Learn more at www.uwstout.edu/</a:t>
            </a:r>
            <a:endParaRPr b="0" lang="en-US" sz="1000" spc="-1" strike="noStrike">
              <a:solidFill>
                <a:srgbClr val="000000"/>
              </a:solidFill>
              <a:latin typeface="Calibri"/>
            </a:endParaRPr>
          </a:p>
        </p:txBody>
      </p:sp>
      <p:pic>
        <p:nvPicPr>
          <p:cNvPr id="167" name="Picture 2" descr="http://comminfo.rutgers.edu/~dalbello/FLVA/voices/839/voices/amind/landcessions.jpg"/>
          <p:cNvPicPr/>
          <p:nvPr/>
        </p:nvPicPr>
        <p:blipFill>
          <a:blip r:embed="rId2"/>
          <a:stretch/>
        </p:blipFill>
        <p:spPr>
          <a:xfrm>
            <a:off x="5791320" y="1295280"/>
            <a:ext cx="3190680" cy="4724640"/>
          </a:xfrm>
          <a:prstGeom prst="rect">
            <a:avLst/>
          </a:prstGeom>
          <a:ln w="0">
            <a:noFill/>
          </a:ln>
        </p:spPr>
      </p:pic>
      <p:grpSp>
        <p:nvGrpSpPr>
          <p:cNvPr id="168" name="5-Point Star 7"/>
          <p:cNvGrpSpPr/>
          <p:nvPr/>
        </p:nvGrpSpPr>
        <p:grpSpPr>
          <a:xfrm>
            <a:off x="6284880" y="2859120"/>
            <a:ext cx="298440" cy="291960"/>
            <a:chOff x="6284880" y="2859120"/>
            <a:chExt cx="298440" cy="291960"/>
          </a:xfrm>
        </p:grpSpPr>
        <p:pic>
          <p:nvPicPr>
            <p:cNvPr id="169" name="5-Point Star 7" descr=""/>
            <p:cNvPicPr/>
            <p:nvPr/>
          </p:nvPicPr>
          <p:blipFill>
            <a:blip r:embed="rId3"/>
            <a:stretch/>
          </p:blipFill>
          <p:spPr>
            <a:xfrm>
              <a:off x="6284880" y="2859120"/>
              <a:ext cx="298440" cy="291960"/>
            </a:xfrm>
            <a:prstGeom prst="rect">
              <a:avLst/>
            </a:prstGeom>
            <a:ln w="0">
              <a:noFill/>
            </a:ln>
          </p:spPr>
        </p:pic>
        <p:sp>
          <p:nvSpPr>
            <p:cNvPr id="170" name=""/>
            <p:cNvSpPr/>
            <p:nvPr/>
          </p:nvSpPr>
          <p:spPr>
            <a:xfrm>
              <a:off x="6404040" y="2965320"/>
              <a:ext cx="69840" cy="69840"/>
            </a:xfrm>
            <a:prstGeom prst="rect">
              <a:avLst/>
            </a:prstGeom>
            <a:noFill/>
            <a:ln w="0">
              <a:noFill/>
            </a:ln>
          </p:spPr>
          <p:style>
            <a:lnRef idx="0"/>
            <a:fillRef idx="0"/>
            <a:effectRef idx="0"/>
            <a:fontRef idx="minor"/>
          </p:style>
          <p:txBody>
            <a:bodyPr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3"/>
          <p:cNvSpPr/>
          <p:nvPr/>
        </p:nvSpPr>
        <p:spPr>
          <a:xfrm>
            <a:off x="0" y="1447920"/>
            <a:ext cx="1600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ea typeface="Arial"/>
              </a:rPr>
              <a:t>Interior Field Notes</a:t>
            </a:r>
            <a:r>
              <a:rPr b="0" lang="en-US" sz="1800" spc="-1" strike="noStrike">
                <a:solidFill>
                  <a:srgbClr val="000000"/>
                </a:solidFill>
                <a:latin typeface="Tahoma"/>
                <a:ea typeface="Arial"/>
              </a:rPr>
              <a:t> </a:t>
            </a:r>
            <a:br>
              <a:rPr sz="1800"/>
            </a:br>
            <a:r>
              <a:rPr b="0" i="1" lang="en-US" sz="1800" spc="-1" strike="noStrike">
                <a:solidFill>
                  <a:srgbClr val="000000"/>
                </a:solidFill>
                <a:latin typeface="Tahoma"/>
                <a:ea typeface="Arial"/>
              </a:rPr>
              <a:t>(Sept. 1849)</a:t>
            </a:r>
            <a:br>
              <a:rPr sz="1800"/>
            </a:br>
            <a:r>
              <a:rPr b="0" lang="en-US" sz="1800" spc="-1" strike="noStrike">
                <a:solidFill>
                  <a:srgbClr val="000000"/>
                </a:solidFill>
                <a:latin typeface="Tahoma"/>
                <a:ea typeface="Arial"/>
              </a:rPr>
              <a:t>Jarrett, J. S. </a:t>
            </a:r>
            <a:endParaRPr b="0" lang="en-US" sz="1800" spc="-1" strike="noStrike">
              <a:solidFill>
                <a:srgbClr val="000000"/>
              </a:solidFill>
              <a:latin typeface="Calibri"/>
            </a:endParaRPr>
          </a:p>
        </p:txBody>
      </p:sp>
      <p:sp>
        <p:nvSpPr>
          <p:cNvPr id="172" name="Line 4"/>
          <p:cNvSpPr/>
          <p:nvPr/>
        </p:nvSpPr>
        <p:spPr>
          <a:xfrm>
            <a:off x="2666880" y="2209680"/>
            <a:ext cx="23623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73" name="Picture 107" descr="[page image]"/>
          <p:cNvPicPr/>
          <p:nvPr/>
        </p:nvPicPr>
        <p:blipFill>
          <a:blip r:embed="rId1"/>
          <a:stretch/>
        </p:blipFill>
        <p:spPr>
          <a:xfrm>
            <a:off x="1600200" y="380880"/>
            <a:ext cx="7315200" cy="6324840"/>
          </a:xfrm>
          <a:prstGeom prst="rect">
            <a:avLst/>
          </a:prstGeom>
          <a:ln w="0">
            <a:noFill/>
          </a:ln>
        </p:spPr>
      </p:pic>
      <p:sp>
        <p:nvSpPr>
          <p:cNvPr id="174" name="Line 108"/>
          <p:cNvSpPr/>
          <p:nvPr/>
        </p:nvSpPr>
        <p:spPr>
          <a:xfrm>
            <a:off x="2666880" y="3048120"/>
            <a:ext cx="2362320" cy="0"/>
          </a:xfrm>
          <a:prstGeom prst="line">
            <a:avLst/>
          </a:prstGeom>
          <a:ln w="381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 name="Line 109"/>
          <p:cNvSpPr/>
          <p:nvPr/>
        </p:nvSpPr>
        <p:spPr>
          <a:xfrm>
            <a:off x="2666880" y="1969920"/>
            <a:ext cx="762120" cy="0"/>
          </a:xfrm>
          <a:prstGeom prst="line">
            <a:avLst/>
          </a:prstGeom>
          <a:ln w="381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Line 110"/>
          <p:cNvSpPr/>
          <p:nvPr/>
        </p:nvSpPr>
        <p:spPr>
          <a:xfrm>
            <a:off x="2666880" y="1752480"/>
            <a:ext cx="2362320" cy="0"/>
          </a:xfrm>
          <a:prstGeom prst="line">
            <a:avLst/>
          </a:prstGeom>
          <a:ln w="381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Line 108"/>
          <p:cNvSpPr/>
          <p:nvPr/>
        </p:nvSpPr>
        <p:spPr>
          <a:xfrm>
            <a:off x="2971800" y="5018040"/>
            <a:ext cx="2362320" cy="0"/>
          </a:xfrm>
          <a:prstGeom prst="line">
            <a:avLst/>
          </a:prstGeom>
          <a:ln w="381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
          <p:cNvPicPr/>
          <p:nvPr/>
        </p:nvPicPr>
        <p:blipFill>
          <a:blip r:embed="rId1"/>
          <a:stretch/>
        </p:blipFill>
        <p:spPr>
          <a:xfrm>
            <a:off x="0" y="2381400"/>
            <a:ext cx="9190080" cy="2474640"/>
          </a:xfrm>
          <a:prstGeom prst="rect">
            <a:avLst/>
          </a:prstGeom>
          <a:ln w="38160">
            <a:solidFill>
              <a:srgbClr val="ffffff"/>
            </a:solidFill>
            <a:miter/>
          </a:ln>
        </p:spPr>
      </p:pic>
      <p:sp>
        <p:nvSpPr>
          <p:cNvPr id="179" name="Freeform 11"/>
          <p:cNvSpPr/>
          <p:nvPr/>
        </p:nvSpPr>
        <p:spPr>
          <a:xfrm>
            <a:off x="1295280" y="3809880"/>
            <a:ext cx="689040" cy="81000"/>
          </a:xfrm>
          <a:custGeom>
            <a:avLst/>
            <a:gdLst/>
            <a:ahLst/>
            <a:rect l="l" t="t" r="r" b="b"/>
            <a:pathLst>
              <a:path w="612765" h="81549">
                <a:moveTo>
                  <a:pt x="0" y="81549"/>
                </a:moveTo>
                <a:lnTo>
                  <a:pt x="107157" y="79168"/>
                </a:lnTo>
                <a:cubicBezTo>
                  <a:pt x="113044" y="78923"/>
                  <a:pt x="116741" y="74712"/>
                  <a:pt x="121444" y="72024"/>
                </a:cubicBezTo>
                <a:cubicBezTo>
                  <a:pt x="124526" y="70263"/>
                  <a:pt x="127887" y="69023"/>
                  <a:pt x="130969" y="67262"/>
                </a:cubicBezTo>
                <a:cubicBezTo>
                  <a:pt x="133454" y="65842"/>
                  <a:pt x="135260" y="62730"/>
                  <a:pt x="138113" y="62499"/>
                </a:cubicBezTo>
                <a:cubicBezTo>
                  <a:pt x="165024" y="60317"/>
                  <a:pt x="192088" y="60912"/>
                  <a:pt x="219075" y="60118"/>
                </a:cubicBezTo>
                <a:cubicBezTo>
                  <a:pt x="225191" y="58080"/>
                  <a:pt x="229173" y="56550"/>
                  <a:pt x="235744" y="55355"/>
                </a:cubicBezTo>
                <a:cubicBezTo>
                  <a:pt x="241266" y="54351"/>
                  <a:pt x="246857" y="53768"/>
                  <a:pt x="252413" y="52974"/>
                </a:cubicBezTo>
                <a:cubicBezTo>
                  <a:pt x="253207" y="50593"/>
                  <a:pt x="252751" y="47289"/>
                  <a:pt x="254794" y="45830"/>
                </a:cubicBezTo>
                <a:cubicBezTo>
                  <a:pt x="258879" y="42912"/>
                  <a:pt x="264592" y="43313"/>
                  <a:pt x="269082" y="41068"/>
                </a:cubicBezTo>
                <a:cubicBezTo>
                  <a:pt x="272257" y="39480"/>
                  <a:pt x="275311" y="37623"/>
                  <a:pt x="278607" y="36305"/>
                </a:cubicBezTo>
                <a:cubicBezTo>
                  <a:pt x="283268" y="34441"/>
                  <a:pt x="292894" y="31543"/>
                  <a:pt x="292894" y="31543"/>
                </a:cubicBezTo>
                <a:cubicBezTo>
                  <a:pt x="340211" y="0"/>
                  <a:pt x="301459" y="21904"/>
                  <a:pt x="426244" y="24399"/>
                </a:cubicBezTo>
                <a:cubicBezTo>
                  <a:pt x="428625" y="25987"/>
                  <a:pt x="430773" y="28000"/>
                  <a:pt x="433388" y="29162"/>
                </a:cubicBezTo>
                <a:cubicBezTo>
                  <a:pt x="437975" y="31201"/>
                  <a:pt x="447675" y="33924"/>
                  <a:pt x="447675" y="33924"/>
                </a:cubicBezTo>
                <a:cubicBezTo>
                  <a:pt x="450056" y="36305"/>
                  <a:pt x="452161" y="39000"/>
                  <a:pt x="454819" y="41068"/>
                </a:cubicBezTo>
                <a:cubicBezTo>
                  <a:pt x="482131" y="62310"/>
                  <a:pt x="481447" y="51050"/>
                  <a:pt x="533400" y="52974"/>
                </a:cubicBezTo>
                <a:cubicBezTo>
                  <a:pt x="535781" y="55355"/>
                  <a:pt x="537290" y="59250"/>
                  <a:pt x="540544" y="60118"/>
                </a:cubicBezTo>
                <a:cubicBezTo>
                  <a:pt x="549779" y="62581"/>
                  <a:pt x="559626" y="61382"/>
                  <a:pt x="569119" y="62499"/>
                </a:cubicBezTo>
                <a:cubicBezTo>
                  <a:pt x="573139" y="62972"/>
                  <a:pt x="577056" y="64086"/>
                  <a:pt x="581025" y="64880"/>
                </a:cubicBezTo>
                <a:cubicBezTo>
                  <a:pt x="584638" y="67289"/>
                  <a:pt x="590382" y="72024"/>
                  <a:pt x="595313" y="72024"/>
                </a:cubicBezTo>
                <a:cubicBezTo>
                  <a:pt x="600926" y="72024"/>
                  <a:pt x="606446" y="70566"/>
                  <a:pt x="611982" y="69643"/>
                </a:cubicBezTo>
                <a:cubicBezTo>
                  <a:pt x="612765" y="69512"/>
                  <a:pt x="610394" y="69643"/>
                  <a:pt x="609600" y="69643"/>
                </a:cubicBezTo>
              </a:path>
            </a:pathLst>
          </a:custGeom>
          <a:noFill/>
          <a:ln w="38160">
            <a:solidFill>
              <a:srgbClr val="ffff00"/>
            </a:solidFill>
            <a:round/>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Calibri"/>
            </a:endParaRPr>
          </a:p>
        </p:txBody>
      </p:sp>
      <p:sp>
        <p:nvSpPr>
          <p:cNvPr id="180" name="Freeform 14"/>
          <p:cNvSpPr/>
          <p:nvPr/>
        </p:nvSpPr>
        <p:spPr>
          <a:xfrm>
            <a:off x="1828800" y="3276720"/>
            <a:ext cx="627120" cy="541080"/>
          </a:xfrm>
          <a:custGeom>
            <a:avLst/>
            <a:gdLst/>
            <a:ahLst/>
            <a:rect l="l" t="t" r="r" b="b"/>
            <a:pathLst>
              <a:path w="626269" h="541383">
                <a:moveTo>
                  <a:pt x="0" y="0"/>
                </a:moveTo>
                <a:cubicBezTo>
                  <a:pt x="1588" y="4763"/>
                  <a:pt x="1978" y="10111"/>
                  <a:pt x="4763" y="14288"/>
                </a:cubicBezTo>
                <a:lnTo>
                  <a:pt x="14288" y="28575"/>
                </a:lnTo>
                <a:cubicBezTo>
                  <a:pt x="15875" y="30956"/>
                  <a:pt x="17026" y="33695"/>
                  <a:pt x="19050" y="35719"/>
                </a:cubicBezTo>
                <a:lnTo>
                  <a:pt x="26194" y="42863"/>
                </a:lnTo>
                <a:cubicBezTo>
                  <a:pt x="34696" y="68368"/>
                  <a:pt x="25976" y="40029"/>
                  <a:pt x="30957" y="104775"/>
                </a:cubicBezTo>
                <a:cubicBezTo>
                  <a:pt x="31150" y="107278"/>
                  <a:pt x="31378" y="110351"/>
                  <a:pt x="33338" y="111919"/>
                </a:cubicBezTo>
                <a:cubicBezTo>
                  <a:pt x="35894" y="113963"/>
                  <a:pt x="39643" y="113715"/>
                  <a:pt x="42863" y="114300"/>
                </a:cubicBezTo>
                <a:cubicBezTo>
                  <a:pt x="48385" y="115304"/>
                  <a:pt x="53976" y="115887"/>
                  <a:pt x="59532" y="116681"/>
                </a:cubicBezTo>
                <a:cubicBezTo>
                  <a:pt x="66264" y="136878"/>
                  <a:pt x="66314" y="134147"/>
                  <a:pt x="59532" y="171450"/>
                </a:cubicBezTo>
                <a:cubicBezTo>
                  <a:pt x="59020" y="174266"/>
                  <a:pt x="54769" y="174625"/>
                  <a:pt x="52388" y="176213"/>
                </a:cubicBezTo>
                <a:cubicBezTo>
                  <a:pt x="39748" y="195169"/>
                  <a:pt x="42254" y="188338"/>
                  <a:pt x="50007" y="230981"/>
                </a:cubicBezTo>
                <a:cubicBezTo>
                  <a:pt x="50519" y="233797"/>
                  <a:pt x="54769" y="234156"/>
                  <a:pt x="57150" y="235744"/>
                </a:cubicBezTo>
                <a:cubicBezTo>
                  <a:pt x="57944" y="238125"/>
                  <a:pt x="58409" y="240643"/>
                  <a:pt x="59532" y="242888"/>
                </a:cubicBezTo>
                <a:cubicBezTo>
                  <a:pt x="60812" y="245447"/>
                  <a:pt x="63939" y="247191"/>
                  <a:pt x="64294" y="250031"/>
                </a:cubicBezTo>
                <a:cubicBezTo>
                  <a:pt x="64910" y="254962"/>
                  <a:pt x="61643" y="265487"/>
                  <a:pt x="57150" y="269081"/>
                </a:cubicBezTo>
                <a:cubicBezTo>
                  <a:pt x="55190" y="270649"/>
                  <a:pt x="52388" y="270669"/>
                  <a:pt x="50007" y="271463"/>
                </a:cubicBezTo>
                <a:cubicBezTo>
                  <a:pt x="47447" y="275302"/>
                  <a:pt x="38391" y="285236"/>
                  <a:pt x="47625" y="290513"/>
                </a:cubicBezTo>
                <a:cubicBezTo>
                  <a:pt x="51817" y="292909"/>
                  <a:pt x="57150" y="288925"/>
                  <a:pt x="61913" y="288131"/>
                </a:cubicBezTo>
                <a:cubicBezTo>
                  <a:pt x="62707" y="285750"/>
                  <a:pt x="62726" y="282948"/>
                  <a:pt x="64294" y="280988"/>
                </a:cubicBezTo>
                <a:cubicBezTo>
                  <a:pt x="74489" y="268245"/>
                  <a:pt x="107288" y="278334"/>
                  <a:pt x="111919" y="278606"/>
                </a:cubicBezTo>
                <a:cubicBezTo>
                  <a:pt x="111125" y="281781"/>
                  <a:pt x="110437" y="284984"/>
                  <a:pt x="109538" y="288131"/>
                </a:cubicBezTo>
                <a:cubicBezTo>
                  <a:pt x="108848" y="290545"/>
                  <a:pt x="107570" y="292799"/>
                  <a:pt x="107157" y="295275"/>
                </a:cubicBezTo>
                <a:cubicBezTo>
                  <a:pt x="105975" y="302365"/>
                  <a:pt x="105569" y="309562"/>
                  <a:pt x="104775" y="316706"/>
                </a:cubicBezTo>
                <a:cubicBezTo>
                  <a:pt x="105569" y="327025"/>
                  <a:pt x="104314" y="337712"/>
                  <a:pt x="107157" y="347663"/>
                </a:cubicBezTo>
                <a:cubicBezTo>
                  <a:pt x="107846" y="350076"/>
                  <a:pt x="112055" y="348922"/>
                  <a:pt x="114300" y="350044"/>
                </a:cubicBezTo>
                <a:cubicBezTo>
                  <a:pt x="116860" y="351324"/>
                  <a:pt x="118829" y="353644"/>
                  <a:pt x="121444" y="354806"/>
                </a:cubicBezTo>
                <a:cubicBezTo>
                  <a:pt x="126032" y="356845"/>
                  <a:pt x="130969" y="357981"/>
                  <a:pt x="135732" y="359569"/>
                </a:cubicBezTo>
                <a:lnTo>
                  <a:pt x="150019" y="364331"/>
                </a:lnTo>
                <a:lnTo>
                  <a:pt x="159544" y="366713"/>
                </a:lnTo>
                <a:cubicBezTo>
                  <a:pt x="160338" y="369094"/>
                  <a:pt x="159837" y="372464"/>
                  <a:pt x="161925" y="373856"/>
                </a:cubicBezTo>
                <a:cubicBezTo>
                  <a:pt x="165293" y="376101"/>
                  <a:pt x="170042" y="374817"/>
                  <a:pt x="173832" y="376238"/>
                </a:cubicBezTo>
                <a:cubicBezTo>
                  <a:pt x="176511" y="377243"/>
                  <a:pt x="178594" y="379413"/>
                  <a:pt x="180975" y="381000"/>
                </a:cubicBezTo>
                <a:cubicBezTo>
                  <a:pt x="181769" y="383381"/>
                  <a:pt x="180922" y="387535"/>
                  <a:pt x="183357" y="388144"/>
                </a:cubicBezTo>
                <a:cubicBezTo>
                  <a:pt x="186133" y="388838"/>
                  <a:pt x="189080" y="380896"/>
                  <a:pt x="190500" y="383381"/>
                </a:cubicBezTo>
                <a:cubicBezTo>
                  <a:pt x="206763" y="411842"/>
                  <a:pt x="181313" y="400957"/>
                  <a:pt x="200025" y="407194"/>
                </a:cubicBezTo>
                <a:cubicBezTo>
                  <a:pt x="202406" y="406400"/>
                  <a:pt x="204924" y="405936"/>
                  <a:pt x="207169" y="404813"/>
                </a:cubicBezTo>
                <a:cubicBezTo>
                  <a:pt x="209729" y="403533"/>
                  <a:pt x="211507" y="399489"/>
                  <a:pt x="214313" y="400050"/>
                </a:cubicBezTo>
                <a:cubicBezTo>
                  <a:pt x="219090" y="401005"/>
                  <a:pt x="219378" y="411739"/>
                  <a:pt x="221457" y="414338"/>
                </a:cubicBezTo>
                <a:cubicBezTo>
                  <a:pt x="224814" y="418535"/>
                  <a:pt x="231038" y="419913"/>
                  <a:pt x="235744" y="421481"/>
                </a:cubicBezTo>
                <a:cubicBezTo>
                  <a:pt x="238919" y="426244"/>
                  <a:pt x="240506" y="432594"/>
                  <a:pt x="245269" y="435769"/>
                </a:cubicBezTo>
                <a:cubicBezTo>
                  <a:pt x="265747" y="449419"/>
                  <a:pt x="239835" y="433051"/>
                  <a:pt x="259557" y="442913"/>
                </a:cubicBezTo>
                <a:cubicBezTo>
                  <a:pt x="275997" y="451134"/>
                  <a:pt x="256405" y="445102"/>
                  <a:pt x="276225" y="450056"/>
                </a:cubicBezTo>
                <a:cubicBezTo>
                  <a:pt x="279400" y="454819"/>
                  <a:pt x="284361" y="458791"/>
                  <a:pt x="285750" y="464344"/>
                </a:cubicBezTo>
                <a:cubicBezTo>
                  <a:pt x="287572" y="471628"/>
                  <a:pt x="287414" y="475533"/>
                  <a:pt x="292894" y="481013"/>
                </a:cubicBezTo>
                <a:cubicBezTo>
                  <a:pt x="302580" y="490699"/>
                  <a:pt x="300191" y="481117"/>
                  <a:pt x="314325" y="490538"/>
                </a:cubicBezTo>
                <a:lnTo>
                  <a:pt x="321469" y="495300"/>
                </a:lnTo>
                <a:cubicBezTo>
                  <a:pt x="323057" y="497681"/>
                  <a:pt x="324208" y="500420"/>
                  <a:pt x="326232" y="502444"/>
                </a:cubicBezTo>
                <a:cubicBezTo>
                  <a:pt x="328255" y="504467"/>
                  <a:pt x="331587" y="504971"/>
                  <a:pt x="333375" y="507206"/>
                </a:cubicBezTo>
                <a:cubicBezTo>
                  <a:pt x="334943" y="509166"/>
                  <a:pt x="334963" y="511969"/>
                  <a:pt x="335757" y="514350"/>
                </a:cubicBezTo>
                <a:cubicBezTo>
                  <a:pt x="336551" y="519113"/>
                  <a:pt x="335742" y="524446"/>
                  <a:pt x="338138" y="528638"/>
                </a:cubicBezTo>
                <a:cubicBezTo>
                  <a:pt x="339383" y="530817"/>
                  <a:pt x="342975" y="530030"/>
                  <a:pt x="345282" y="531019"/>
                </a:cubicBezTo>
                <a:cubicBezTo>
                  <a:pt x="369467" y="541383"/>
                  <a:pt x="337862" y="534651"/>
                  <a:pt x="390525" y="538163"/>
                </a:cubicBezTo>
                <a:cubicBezTo>
                  <a:pt x="394494" y="537369"/>
                  <a:pt x="399064" y="538026"/>
                  <a:pt x="402432" y="535781"/>
                </a:cubicBezTo>
                <a:cubicBezTo>
                  <a:pt x="404520" y="534389"/>
                  <a:pt x="403245" y="530598"/>
                  <a:pt x="404813" y="528638"/>
                </a:cubicBezTo>
                <a:cubicBezTo>
                  <a:pt x="408171" y="524441"/>
                  <a:pt x="414393" y="523063"/>
                  <a:pt x="419100" y="521494"/>
                </a:cubicBezTo>
                <a:cubicBezTo>
                  <a:pt x="420688" y="519113"/>
                  <a:pt x="421436" y="515867"/>
                  <a:pt x="423863" y="514350"/>
                </a:cubicBezTo>
                <a:cubicBezTo>
                  <a:pt x="428120" y="511689"/>
                  <a:pt x="433280" y="510806"/>
                  <a:pt x="438150" y="509588"/>
                </a:cubicBezTo>
                <a:cubicBezTo>
                  <a:pt x="452359" y="506035"/>
                  <a:pt x="444447" y="507744"/>
                  <a:pt x="461963" y="504825"/>
                </a:cubicBezTo>
                <a:cubicBezTo>
                  <a:pt x="466041" y="502107"/>
                  <a:pt x="474014" y="496366"/>
                  <a:pt x="478632" y="495300"/>
                </a:cubicBezTo>
                <a:cubicBezTo>
                  <a:pt x="485636" y="493684"/>
                  <a:pt x="492919" y="493713"/>
                  <a:pt x="500063" y="492919"/>
                </a:cubicBezTo>
                <a:cubicBezTo>
                  <a:pt x="503238" y="491331"/>
                  <a:pt x="506129" y="488954"/>
                  <a:pt x="509588" y="488156"/>
                </a:cubicBezTo>
                <a:cubicBezTo>
                  <a:pt x="540530" y="481015"/>
                  <a:pt x="522384" y="491531"/>
                  <a:pt x="538163" y="481013"/>
                </a:cubicBezTo>
                <a:lnTo>
                  <a:pt x="561975" y="483394"/>
                </a:lnTo>
                <a:cubicBezTo>
                  <a:pt x="575823" y="484933"/>
                  <a:pt x="584137" y="486220"/>
                  <a:pt x="597694" y="488156"/>
                </a:cubicBezTo>
                <a:cubicBezTo>
                  <a:pt x="598488" y="490537"/>
                  <a:pt x="599530" y="492850"/>
                  <a:pt x="600075" y="495300"/>
                </a:cubicBezTo>
                <a:cubicBezTo>
                  <a:pt x="601122" y="500013"/>
                  <a:pt x="600061" y="505396"/>
                  <a:pt x="602457" y="509588"/>
                </a:cubicBezTo>
                <a:cubicBezTo>
                  <a:pt x="603702" y="511767"/>
                  <a:pt x="607150" y="511425"/>
                  <a:pt x="609600" y="511969"/>
                </a:cubicBezTo>
                <a:cubicBezTo>
                  <a:pt x="626095" y="515634"/>
                  <a:pt x="620218" y="510680"/>
                  <a:pt x="626269" y="516731"/>
                </a:cubicBezTo>
              </a:path>
            </a:pathLst>
          </a:custGeom>
          <a:noFill/>
          <a:ln w="38160">
            <a:solidFill>
              <a:srgbClr val="ffff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1" name="Freeform 16"/>
          <p:cNvSpPr/>
          <p:nvPr/>
        </p:nvSpPr>
        <p:spPr>
          <a:xfrm>
            <a:off x="1676520" y="3733920"/>
            <a:ext cx="453960" cy="595080"/>
          </a:xfrm>
          <a:custGeom>
            <a:avLst/>
            <a:gdLst/>
            <a:ahLst/>
            <a:rect l="l" t="t" r="r" b="b"/>
            <a:pathLst>
              <a:path w="454319" h="594813">
                <a:moveTo>
                  <a:pt x="4263" y="588420"/>
                </a:moveTo>
                <a:cubicBezTo>
                  <a:pt x="27057" y="565626"/>
                  <a:pt x="0" y="594813"/>
                  <a:pt x="13788" y="574132"/>
                </a:cubicBezTo>
                <a:cubicBezTo>
                  <a:pt x="15656" y="571330"/>
                  <a:pt x="18551" y="569370"/>
                  <a:pt x="20932" y="566989"/>
                </a:cubicBezTo>
                <a:cubicBezTo>
                  <a:pt x="21726" y="564608"/>
                  <a:pt x="22324" y="562152"/>
                  <a:pt x="23313" y="559845"/>
                </a:cubicBezTo>
                <a:cubicBezTo>
                  <a:pt x="26939" y="551384"/>
                  <a:pt x="28054" y="550352"/>
                  <a:pt x="32838" y="543176"/>
                </a:cubicBezTo>
                <a:cubicBezTo>
                  <a:pt x="41105" y="518373"/>
                  <a:pt x="32609" y="546030"/>
                  <a:pt x="37600" y="483645"/>
                </a:cubicBezTo>
                <a:cubicBezTo>
                  <a:pt x="37800" y="481143"/>
                  <a:pt x="39292" y="478915"/>
                  <a:pt x="39982" y="476501"/>
                </a:cubicBezTo>
                <a:cubicBezTo>
                  <a:pt x="40999" y="472942"/>
                  <a:pt x="42841" y="463637"/>
                  <a:pt x="44744" y="459832"/>
                </a:cubicBezTo>
                <a:cubicBezTo>
                  <a:pt x="46024" y="457272"/>
                  <a:pt x="47272" y="454477"/>
                  <a:pt x="49507" y="452689"/>
                </a:cubicBezTo>
                <a:cubicBezTo>
                  <a:pt x="51467" y="451121"/>
                  <a:pt x="54169" y="450689"/>
                  <a:pt x="56650" y="450307"/>
                </a:cubicBezTo>
                <a:cubicBezTo>
                  <a:pt x="64534" y="449094"/>
                  <a:pt x="72525" y="448720"/>
                  <a:pt x="80463" y="447926"/>
                </a:cubicBezTo>
                <a:cubicBezTo>
                  <a:pt x="82050" y="445545"/>
                  <a:pt x="83945" y="443342"/>
                  <a:pt x="85225" y="440782"/>
                </a:cubicBezTo>
                <a:cubicBezTo>
                  <a:pt x="95084" y="421065"/>
                  <a:pt x="78721" y="446969"/>
                  <a:pt x="92369" y="426495"/>
                </a:cubicBezTo>
                <a:cubicBezTo>
                  <a:pt x="97720" y="399737"/>
                  <a:pt x="88941" y="424986"/>
                  <a:pt x="104275" y="412207"/>
                </a:cubicBezTo>
                <a:cubicBezTo>
                  <a:pt x="107002" y="409934"/>
                  <a:pt x="106975" y="405571"/>
                  <a:pt x="109038" y="402682"/>
                </a:cubicBezTo>
                <a:cubicBezTo>
                  <a:pt x="110995" y="399942"/>
                  <a:pt x="114026" y="398126"/>
                  <a:pt x="116182" y="395539"/>
                </a:cubicBezTo>
                <a:cubicBezTo>
                  <a:pt x="118014" y="393340"/>
                  <a:pt x="119112" y="390594"/>
                  <a:pt x="120944" y="388395"/>
                </a:cubicBezTo>
                <a:cubicBezTo>
                  <a:pt x="123100" y="385808"/>
                  <a:pt x="125932" y="383838"/>
                  <a:pt x="128088" y="381251"/>
                </a:cubicBezTo>
                <a:cubicBezTo>
                  <a:pt x="129920" y="379052"/>
                  <a:pt x="131688" y="376722"/>
                  <a:pt x="132850" y="374107"/>
                </a:cubicBezTo>
                <a:cubicBezTo>
                  <a:pt x="134889" y="369520"/>
                  <a:pt x="137613" y="359820"/>
                  <a:pt x="137613" y="359820"/>
                </a:cubicBezTo>
                <a:cubicBezTo>
                  <a:pt x="136819" y="347120"/>
                  <a:pt x="137992" y="334142"/>
                  <a:pt x="135232" y="321720"/>
                </a:cubicBezTo>
                <a:cubicBezTo>
                  <a:pt x="134611" y="318926"/>
                  <a:pt x="130112" y="318981"/>
                  <a:pt x="128088" y="316957"/>
                </a:cubicBezTo>
                <a:cubicBezTo>
                  <a:pt x="124719" y="313589"/>
                  <a:pt x="120433" y="304029"/>
                  <a:pt x="118563" y="300289"/>
                </a:cubicBezTo>
                <a:cubicBezTo>
                  <a:pt x="133779" y="290145"/>
                  <a:pt x="118861" y="297907"/>
                  <a:pt x="149519" y="297907"/>
                </a:cubicBezTo>
                <a:cubicBezTo>
                  <a:pt x="159077" y="297907"/>
                  <a:pt x="168569" y="296320"/>
                  <a:pt x="178094" y="295526"/>
                </a:cubicBezTo>
                <a:cubicBezTo>
                  <a:pt x="180475" y="293145"/>
                  <a:pt x="183603" y="291326"/>
                  <a:pt x="185238" y="288382"/>
                </a:cubicBezTo>
                <a:cubicBezTo>
                  <a:pt x="187676" y="283994"/>
                  <a:pt x="190000" y="274095"/>
                  <a:pt x="190000" y="274095"/>
                </a:cubicBezTo>
                <a:cubicBezTo>
                  <a:pt x="190794" y="266157"/>
                  <a:pt x="187690" y="256734"/>
                  <a:pt x="192382" y="250282"/>
                </a:cubicBezTo>
                <a:cubicBezTo>
                  <a:pt x="195683" y="245743"/>
                  <a:pt x="204620" y="251347"/>
                  <a:pt x="209050" y="247901"/>
                </a:cubicBezTo>
                <a:cubicBezTo>
                  <a:pt x="222903" y="237127"/>
                  <a:pt x="204970" y="232848"/>
                  <a:pt x="220957" y="228851"/>
                </a:cubicBezTo>
                <a:cubicBezTo>
                  <a:pt x="227930" y="227108"/>
                  <a:pt x="235244" y="227264"/>
                  <a:pt x="242388" y="226470"/>
                </a:cubicBezTo>
                <a:cubicBezTo>
                  <a:pt x="244769" y="225676"/>
                  <a:pt x="247757" y="225864"/>
                  <a:pt x="249532" y="224089"/>
                </a:cubicBezTo>
                <a:cubicBezTo>
                  <a:pt x="251307" y="222314"/>
                  <a:pt x="250521" y="219034"/>
                  <a:pt x="251913" y="216945"/>
                </a:cubicBezTo>
                <a:cubicBezTo>
                  <a:pt x="253781" y="214143"/>
                  <a:pt x="256676" y="212182"/>
                  <a:pt x="259057" y="209801"/>
                </a:cubicBezTo>
                <a:cubicBezTo>
                  <a:pt x="259851" y="201864"/>
                  <a:pt x="254013" y="188906"/>
                  <a:pt x="261438" y="185989"/>
                </a:cubicBezTo>
                <a:cubicBezTo>
                  <a:pt x="281399" y="178147"/>
                  <a:pt x="304323" y="184866"/>
                  <a:pt x="325732" y="183607"/>
                </a:cubicBezTo>
                <a:cubicBezTo>
                  <a:pt x="331335" y="183277"/>
                  <a:pt x="336844" y="182020"/>
                  <a:pt x="342400" y="181226"/>
                </a:cubicBezTo>
                <a:cubicBezTo>
                  <a:pt x="343194" y="175670"/>
                  <a:pt x="344442" y="170159"/>
                  <a:pt x="344782" y="164557"/>
                </a:cubicBezTo>
                <a:cubicBezTo>
                  <a:pt x="346032" y="143942"/>
                  <a:pt x="342154" y="122681"/>
                  <a:pt x="347163" y="102645"/>
                </a:cubicBezTo>
                <a:cubicBezTo>
                  <a:pt x="347984" y="99362"/>
                  <a:pt x="373856" y="95815"/>
                  <a:pt x="375738" y="95501"/>
                </a:cubicBezTo>
                <a:cubicBezTo>
                  <a:pt x="376532" y="93120"/>
                  <a:pt x="377706" y="90833"/>
                  <a:pt x="378119" y="88357"/>
                </a:cubicBezTo>
                <a:cubicBezTo>
                  <a:pt x="379301" y="81267"/>
                  <a:pt x="376272" y="72739"/>
                  <a:pt x="380500" y="66926"/>
                </a:cubicBezTo>
                <a:cubicBezTo>
                  <a:pt x="383899" y="62253"/>
                  <a:pt x="391613" y="63751"/>
                  <a:pt x="397169" y="62164"/>
                </a:cubicBezTo>
                <a:cubicBezTo>
                  <a:pt x="398961" y="37079"/>
                  <a:pt x="397089" y="36251"/>
                  <a:pt x="401932" y="19301"/>
                </a:cubicBezTo>
                <a:cubicBezTo>
                  <a:pt x="402622" y="16887"/>
                  <a:pt x="402745" y="14117"/>
                  <a:pt x="404313" y="12157"/>
                </a:cubicBezTo>
                <a:cubicBezTo>
                  <a:pt x="406101" y="9922"/>
                  <a:pt x="408659" y="7995"/>
                  <a:pt x="411457" y="7395"/>
                </a:cubicBezTo>
                <a:cubicBezTo>
                  <a:pt x="420029" y="5558"/>
                  <a:pt x="428919" y="5808"/>
                  <a:pt x="437650" y="5014"/>
                </a:cubicBezTo>
                <a:cubicBezTo>
                  <a:pt x="452691" y="0"/>
                  <a:pt x="446918" y="251"/>
                  <a:pt x="454319" y="251"/>
                </a:cubicBezTo>
              </a:path>
            </a:pathLst>
          </a:custGeom>
          <a:noFill/>
          <a:ln w="38160">
            <a:solidFill>
              <a:srgbClr val="ffff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2" name="Rectangle 17"/>
          <p:cNvSpPr/>
          <p:nvPr/>
        </p:nvSpPr>
        <p:spPr>
          <a:xfrm>
            <a:off x="1752480" y="3200400"/>
            <a:ext cx="762120" cy="91440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Freeform 18"/>
          <p:cNvSpPr/>
          <p:nvPr/>
        </p:nvSpPr>
        <p:spPr>
          <a:xfrm>
            <a:off x="2438280" y="3581280"/>
            <a:ext cx="1658880" cy="220680"/>
          </a:xfrm>
          <a:custGeom>
            <a:avLst/>
            <a:gdLst/>
            <a:ahLst/>
            <a:rect l="l" t="t" r="r" b="b"/>
            <a:pathLst>
              <a:path w="1658890" h="219972">
                <a:moveTo>
                  <a:pt x="0" y="159544"/>
                </a:moveTo>
                <a:cubicBezTo>
                  <a:pt x="1569" y="164250"/>
                  <a:pt x="2947" y="170474"/>
                  <a:pt x="7144" y="173831"/>
                </a:cubicBezTo>
                <a:cubicBezTo>
                  <a:pt x="9104" y="175399"/>
                  <a:pt x="11907" y="175418"/>
                  <a:pt x="14288" y="176212"/>
                </a:cubicBezTo>
                <a:cubicBezTo>
                  <a:pt x="16669" y="177800"/>
                  <a:pt x="19643" y="178740"/>
                  <a:pt x="21431" y="180975"/>
                </a:cubicBezTo>
                <a:cubicBezTo>
                  <a:pt x="22999" y="182935"/>
                  <a:pt x="22594" y="185925"/>
                  <a:pt x="23813" y="188119"/>
                </a:cubicBezTo>
                <a:cubicBezTo>
                  <a:pt x="26593" y="193122"/>
                  <a:pt x="30163" y="197644"/>
                  <a:pt x="33338" y="202406"/>
                </a:cubicBezTo>
                <a:cubicBezTo>
                  <a:pt x="34925" y="204787"/>
                  <a:pt x="35719" y="207963"/>
                  <a:pt x="38100" y="209550"/>
                </a:cubicBezTo>
                <a:lnTo>
                  <a:pt x="52388" y="219075"/>
                </a:lnTo>
                <a:cubicBezTo>
                  <a:pt x="76200" y="218281"/>
                  <a:pt x="100226" y="219972"/>
                  <a:pt x="123825" y="216694"/>
                </a:cubicBezTo>
                <a:cubicBezTo>
                  <a:pt x="161459" y="211467"/>
                  <a:pt x="115871" y="202768"/>
                  <a:pt x="152400" y="202406"/>
                </a:cubicBezTo>
                <a:lnTo>
                  <a:pt x="392906" y="200025"/>
                </a:lnTo>
                <a:cubicBezTo>
                  <a:pt x="405606" y="199231"/>
                  <a:pt x="418325" y="198701"/>
                  <a:pt x="431006" y="197644"/>
                </a:cubicBezTo>
                <a:cubicBezTo>
                  <a:pt x="437383" y="197112"/>
                  <a:pt x="444208" y="197861"/>
                  <a:pt x="450056" y="195262"/>
                </a:cubicBezTo>
                <a:cubicBezTo>
                  <a:pt x="466380" y="188007"/>
                  <a:pt x="436909" y="186644"/>
                  <a:pt x="459581" y="185737"/>
                </a:cubicBezTo>
                <a:cubicBezTo>
                  <a:pt x="496866" y="184245"/>
                  <a:pt x="534194" y="184150"/>
                  <a:pt x="571500" y="183356"/>
                </a:cubicBezTo>
                <a:cubicBezTo>
                  <a:pt x="582613" y="182562"/>
                  <a:pt x="593765" y="182205"/>
                  <a:pt x="604838" y="180975"/>
                </a:cubicBezTo>
                <a:cubicBezTo>
                  <a:pt x="609329" y="180476"/>
                  <a:pt x="616987" y="177719"/>
                  <a:pt x="621506" y="176212"/>
                </a:cubicBezTo>
                <a:cubicBezTo>
                  <a:pt x="631825" y="177006"/>
                  <a:pt x="642193" y="177310"/>
                  <a:pt x="652463" y="178594"/>
                </a:cubicBezTo>
                <a:cubicBezTo>
                  <a:pt x="654953" y="178905"/>
                  <a:pt x="657096" y="180975"/>
                  <a:pt x="659606" y="180975"/>
                </a:cubicBezTo>
                <a:cubicBezTo>
                  <a:pt x="669955" y="180975"/>
                  <a:pt x="680244" y="179388"/>
                  <a:pt x="690563" y="178594"/>
                </a:cubicBezTo>
                <a:cubicBezTo>
                  <a:pt x="692150" y="176213"/>
                  <a:pt x="694045" y="174010"/>
                  <a:pt x="695325" y="171450"/>
                </a:cubicBezTo>
                <a:cubicBezTo>
                  <a:pt x="696447" y="169205"/>
                  <a:pt x="695271" y="164915"/>
                  <a:pt x="697706" y="164306"/>
                </a:cubicBezTo>
                <a:cubicBezTo>
                  <a:pt x="703151" y="162945"/>
                  <a:pt x="708806" y="165991"/>
                  <a:pt x="714375" y="166687"/>
                </a:cubicBezTo>
                <a:cubicBezTo>
                  <a:pt x="721507" y="167579"/>
                  <a:pt x="728662" y="168275"/>
                  <a:pt x="735806" y="169069"/>
                </a:cubicBezTo>
                <a:cubicBezTo>
                  <a:pt x="752793" y="174730"/>
                  <a:pt x="732256" y="166703"/>
                  <a:pt x="750094" y="178594"/>
                </a:cubicBezTo>
                <a:cubicBezTo>
                  <a:pt x="752183" y="179986"/>
                  <a:pt x="754857" y="180181"/>
                  <a:pt x="757238" y="180975"/>
                </a:cubicBezTo>
                <a:cubicBezTo>
                  <a:pt x="773113" y="180181"/>
                  <a:pt x="789102" y="180650"/>
                  <a:pt x="804863" y="178594"/>
                </a:cubicBezTo>
                <a:cubicBezTo>
                  <a:pt x="828639" y="175493"/>
                  <a:pt x="793322" y="169160"/>
                  <a:pt x="821531" y="176212"/>
                </a:cubicBezTo>
                <a:cubicBezTo>
                  <a:pt x="824706" y="175418"/>
                  <a:pt x="827800" y="173505"/>
                  <a:pt x="831056" y="173831"/>
                </a:cubicBezTo>
                <a:cubicBezTo>
                  <a:pt x="836051" y="174331"/>
                  <a:pt x="845344" y="178594"/>
                  <a:pt x="845344" y="178594"/>
                </a:cubicBezTo>
                <a:cubicBezTo>
                  <a:pt x="890588" y="177800"/>
                  <a:pt x="935850" y="174679"/>
                  <a:pt x="981075" y="176212"/>
                </a:cubicBezTo>
                <a:cubicBezTo>
                  <a:pt x="983935" y="176309"/>
                  <a:pt x="983061" y="182662"/>
                  <a:pt x="985838" y="183356"/>
                </a:cubicBezTo>
                <a:cubicBezTo>
                  <a:pt x="990627" y="184553"/>
                  <a:pt x="1001770" y="180427"/>
                  <a:pt x="1007269" y="178594"/>
                </a:cubicBezTo>
                <a:cubicBezTo>
                  <a:pt x="1009650" y="179388"/>
                  <a:pt x="1012106" y="179986"/>
                  <a:pt x="1014413" y="180975"/>
                </a:cubicBezTo>
                <a:cubicBezTo>
                  <a:pt x="1017676" y="182373"/>
                  <a:pt x="1020437" y="185153"/>
                  <a:pt x="1023938" y="185737"/>
                </a:cubicBezTo>
                <a:cubicBezTo>
                  <a:pt x="1034927" y="187569"/>
                  <a:pt x="1046163" y="187325"/>
                  <a:pt x="1057275" y="188119"/>
                </a:cubicBezTo>
                <a:cubicBezTo>
                  <a:pt x="1059656" y="189706"/>
                  <a:pt x="1061859" y="191601"/>
                  <a:pt x="1064419" y="192881"/>
                </a:cubicBezTo>
                <a:cubicBezTo>
                  <a:pt x="1075781" y="198561"/>
                  <a:pt x="1102820" y="197347"/>
                  <a:pt x="1107281" y="197644"/>
                </a:cubicBezTo>
                <a:cubicBezTo>
                  <a:pt x="1138237" y="196850"/>
                  <a:pt x="1169259" y="197417"/>
                  <a:pt x="1200150" y="195262"/>
                </a:cubicBezTo>
                <a:cubicBezTo>
                  <a:pt x="1229355" y="193224"/>
                  <a:pt x="1190785" y="185778"/>
                  <a:pt x="1219200" y="192881"/>
                </a:cubicBezTo>
                <a:cubicBezTo>
                  <a:pt x="1220788" y="195262"/>
                  <a:pt x="1221140" y="199554"/>
                  <a:pt x="1223963" y="200025"/>
                </a:cubicBezTo>
                <a:cubicBezTo>
                  <a:pt x="1231831" y="201337"/>
                  <a:pt x="1240151" y="199990"/>
                  <a:pt x="1247775" y="197644"/>
                </a:cubicBezTo>
                <a:cubicBezTo>
                  <a:pt x="1250994" y="196654"/>
                  <a:pt x="1252117" y="192368"/>
                  <a:pt x="1254919" y="190500"/>
                </a:cubicBezTo>
                <a:cubicBezTo>
                  <a:pt x="1257008" y="189108"/>
                  <a:pt x="1259682" y="188913"/>
                  <a:pt x="1262063" y="188119"/>
                </a:cubicBezTo>
                <a:cubicBezTo>
                  <a:pt x="1273697" y="176484"/>
                  <a:pt x="1265612" y="186075"/>
                  <a:pt x="1273969" y="171450"/>
                </a:cubicBezTo>
                <a:cubicBezTo>
                  <a:pt x="1275389" y="168965"/>
                  <a:pt x="1277451" y="166866"/>
                  <a:pt x="1278731" y="164306"/>
                </a:cubicBezTo>
                <a:cubicBezTo>
                  <a:pt x="1279854" y="162061"/>
                  <a:pt x="1278657" y="157679"/>
                  <a:pt x="1281113" y="157162"/>
                </a:cubicBezTo>
                <a:cubicBezTo>
                  <a:pt x="1295115" y="154214"/>
                  <a:pt x="1309688" y="155575"/>
                  <a:pt x="1323975" y="154781"/>
                </a:cubicBezTo>
                <a:cubicBezTo>
                  <a:pt x="1324769" y="152400"/>
                  <a:pt x="1325233" y="149882"/>
                  <a:pt x="1326356" y="147637"/>
                </a:cubicBezTo>
                <a:cubicBezTo>
                  <a:pt x="1327636" y="145077"/>
                  <a:pt x="1329992" y="143124"/>
                  <a:pt x="1331119" y="140494"/>
                </a:cubicBezTo>
                <a:cubicBezTo>
                  <a:pt x="1332408" y="137486"/>
                  <a:pt x="1331685" y="133692"/>
                  <a:pt x="1333500" y="130969"/>
                </a:cubicBezTo>
                <a:cubicBezTo>
                  <a:pt x="1337274" y="125308"/>
                  <a:pt x="1347365" y="124862"/>
                  <a:pt x="1352550" y="123825"/>
                </a:cubicBezTo>
                <a:cubicBezTo>
                  <a:pt x="1379465" y="110366"/>
                  <a:pt x="1340794" y="128536"/>
                  <a:pt x="1376363" y="116681"/>
                </a:cubicBezTo>
                <a:cubicBezTo>
                  <a:pt x="1379078" y="115776"/>
                  <a:pt x="1380947" y="113199"/>
                  <a:pt x="1383506" y="111919"/>
                </a:cubicBezTo>
                <a:cubicBezTo>
                  <a:pt x="1392091" y="107626"/>
                  <a:pt x="1407623" y="107840"/>
                  <a:pt x="1414463" y="107156"/>
                </a:cubicBezTo>
                <a:cubicBezTo>
                  <a:pt x="1431855" y="101359"/>
                  <a:pt x="1423880" y="103612"/>
                  <a:pt x="1438275" y="100012"/>
                </a:cubicBezTo>
                <a:cubicBezTo>
                  <a:pt x="1439069" y="95250"/>
                  <a:pt x="1439609" y="90438"/>
                  <a:pt x="1440656" y="85725"/>
                </a:cubicBezTo>
                <a:cubicBezTo>
                  <a:pt x="1441201" y="83275"/>
                  <a:pt x="1440995" y="80040"/>
                  <a:pt x="1443038" y="78581"/>
                </a:cubicBezTo>
                <a:cubicBezTo>
                  <a:pt x="1447123" y="75663"/>
                  <a:pt x="1452563" y="75406"/>
                  <a:pt x="1457325" y="73819"/>
                </a:cubicBezTo>
                <a:lnTo>
                  <a:pt x="1464469" y="71437"/>
                </a:lnTo>
                <a:cubicBezTo>
                  <a:pt x="1465263" y="67468"/>
                  <a:pt x="1465429" y="63321"/>
                  <a:pt x="1466850" y="59531"/>
                </a:cubicBezTo>
                <a:cubicBezTo>
                  <a:pt x="1467855" y="56851"/>
                  <a:pt x="1470193" y="54872"/>
                  <a:pt x="1471613" y="52387"/>
                </a:cubicBezTo>
                <a:cubicBezTo>
                  <a:pt x="1473374" y="49305"/>
                  <a:pt x="1474788" y="46037"/>
                  <a:pt x="1476375" y="42862"/>
                </a:cubicBezTo>
                <a:cubicBezTo>
                  <a:pt x="1477169" y="38893"/>
                  <a:pt x="1476165" y="34065"/>
                  <a:pt x="1478756" y="30956"/>
                </a:cubicBezTo>
                <a:cubicBezTo>
                  <a:pt x="1480851" y="28442"/>
                  <a:pt x="1485053" y="29113"/>
                  <a:pt x="1488281" y="28575"/>
                </a:cubicBezTo>
                <a:cubicBezTo>
                  <a:pt x="1494593" y="27523"/>
                  <a:pt x="1500981" y="26988"/>
                  <a:pt x="1507331" y="26194"/>
                </a:cubicBezTo>
                <a:cubicBezTo>
                  <a:pt x="1525295" y="20204"/>
                  <a:pt x="1503146" y="28285"/>
                  <a:pt x="1521619" y="19050"/>
                </a:cubicBezTo>
                <a:cubicBezTo>
                  <a:pt x="1525032" y="17344"/>
                  <a:pt x="1535241" y="15049"/>
                  <a:pt x="1538288" y="14287"/>
                </a:cubicBezTo>
                <a:cubicBezTo>
                  <a:pt x="1539082" y="11906"/>
                  <a:pt x="1539101" y="9104"/>
                  <a:pt x="1540669" y="7144"/>
                </a:cubicBezTo>
                <a:cubicBezTo>
                  <a:pt x="1544027" y="2947"/>
                  <a:pt x="1550249" y="1569"/>
                  <a:pt x="1554956" y="0"/>
                </a:cubicBezTo>
                <a:cubicBezTo>
                  <a:pt x="1566862" y="794"/>
                  <a:pt x="1578815" y="1063"/>
                  <a:pt x="1590675" y="2381"/>
                </a:cubicBezTo>
                <a:cubicBezTo>
                  <a:pt x="1593170" y="2658"/>
                  <a:pt x="1596360" y="2719"/>
                  <a:pt x="1597819" y="4762"/>
                </a:cubicBezTo>
                <a:cubicBezTo>
                  <a:pt x="1611709" y="24209"/>
                  <a:pt x="1593651" y="16074"/>
                  <a:pt x="1609725" y="21431"/>
                </a:cubicBezTo>
                <a:cubicBezTo>
                  <a:pt x="1622113" y="29690"/>
                  <a:pt x="1617905" y="29068"/>
                  <a:pt x="1640681" y="23812"/>
                </a:cubicBezTo>
                <a:cubicBezTo>
                  <a:pt x="1643470" y="23168"/>
                  <a:pt x="1645194" y="20177"/>
                  <a:pt x="1647825" y="19050"/>
                </a:cubicBezTo>
                <a:cubicBezTo>
                  <a:pt x="1658890" y="14308"/>
                  <a:pt x="1657350" y="20900"/>
                  <a:pt x="1657350" y="11906"/>
                </a:cubicBezTo>
              </a:path>
            </a:pathLst>
          </a:custGeom>
          <a:noFill/>
          <a:ln w="38160">
            <a:solidFill>
              <a:srgbClr val="ffff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4" name="Freeform 19"/>
          <p:cNvSpPr/>
          <p:nvPr/>
        </p:nvSpPr>
        <p:spPr>
          <a:xfrm>
            <a:off x="4114800" y="3429000"/>
            <a:ext cx="1782720" cy="299880"/>
          </a:xfrm>
          <a:custGeom>
            <a:avLst/>
            <a:gdLst/>
            <a:ahLst/>
            <a:rect l="l" t="t" r="r" b="b"/>
            <a:pathLst>
              <a:path w="1783556" h="299773">
                <a:moveTo>
                  <a:pt x="0" y="150669"/>
                </a:moveTo>
                <a:cubicBezTo>
                  <a:pt x="1588" y="153050"/>
                  <a:pt x="2609" y="155928"/>
                  <a:pt x="4763" y="157813"/>
                </a:cubicBezTo>
                <a:cubicBezTo>
                  <a:pt x="25328" y="175808"/>
                  <a:pt x="32626" y="168017"/>
                  <a:pt x="66675" y="169719"/>
                </a:cubicBezTo>
                <a:cubicBezTo>
                  <a:pt x="73025" y="170513"/>
                  <a:pt x="79429" y="170955"/>
                  <a:pt x="85725" y="172100"/>
                </a:cubicBezTo>
                <a:cubicBezTo>
                  <a:pt x="88195" y="172549"/>
                  <a:pt x="90909" y="172913"/>
                  <a:pt x="92869" y="174481"/>
                </a:cubicBezTo>
                <a:cubicBezTo>
                  <a:pt x="103586" y="183054"/>
                  <a:pt x="89690" y="186705"/>
                  <a:pt x="111919" y="191150"/>
                </a:cubicBezTo>
                <a:cubicBezTo>
                  <a:pt x="115888" y="191944"/>
                  <a:pt x="119899" y="192549"/>
                  <a:pt x="123825" y="193531"/>
                </a:cubicBezTo>
                <a:cubicBezTo>
                  <a:pt x="126260" y="194140"/>
                  <a:pt x="128519" y="195368"/>
                  <a:pt x="130969" y="195913"/>
                </a:cubicBezTo>
                <a:cubicBezTo>
                  <a:pt x="135682" y="196960"/>
                  <a:pt x="140522" y="197347"/>
                  <a:pt x="145256" y="198294"/>
                </a:cubicBezTo>
                <a:cubicBezTo>
                  <a:pt x="148465" y="198936"/>
                  <a:pt x="151561" y="200090"/>
                  <a:pt x="154781" y="200675"/>
                </a:cubicBezTo>
                <a:cubicBezTo>
                  <a:pt x="160303" y="201679"/>
                  <a:pt x="165914" y="202133"/>
                  <a:pt x="171450" y="203056"/>
                </a:cubicBezTo>
                <a:cubicBezTo>
                  <a:pt x="175442" y="203721"/>
                  <a:pt x="179387" y="204644"/>
                  <a:pt x="183356" y="205438"/>
                </a:cubicBezTo>
                <a:cubicBezTo>
                  <a:pt x="201296" y="217396"/>
                  <a:pt x="178492" y="203352"/>
                  <a:pt x="200025" y="212581"/>
                </a:cubicBezTo>
                <a:cubicBezTo>
                  <a:pt x="202656" y="213708"/>
                  <a:pt x="204788" y="215756"/>
                  <a:pt x="207169" y="217344"/>
                </a:cubicBezTo>
                <a:cubicBezTo>
                  <a:pt x="208756" y="219725"/>
                  <a:pt x="209907" y="222464"/>
                  <a:pt x="211931" y="224488"/>
                </a:cubicBezTo>
                <a:cubicBezTo>
                  <a:pt x="213955" y="226512"/>
                  <a:pt x="216590" y="227830"/>
                  <a:pt x="219075" y="229250"/>
                </a:cubicBezTo>
                <a:cubicBezTo>
                  <a:pt x="247691" y="245602"/>
                  <a:pt x="257146" y="234878"/>
                  <a:pt x="307181" y="236394"/>
                </a:cubicBezTo>
                <a:cubicBezTo>
                  <a:pt x="328472" y="239942"/>
                  <a:pt x="317150" y="236616"/>
                  <a:pt x="340519" y="248300"/>
                </a:cubicBezTo>
                <a:lnTo>
                  <a:pt x="340519" y="248300"/>
                </a:lnTo>
                <a:cubicBezTo>
                  <a:pt x="344488" y="249094"/>
                  <a:pt x="348481" y="249771"/>
                  <a:pt x="352425" y="250681"/>
                </a:cubicBezTo>
                <a:cubicBezTo>
                  <a:pt x="358803" y="252153"/>
                  <a:pt x="364952" y="254900"/>
                  <a:pt x="371475" y="255444"/>
                </a:cubicBezTo>
                <a:lnTo>
                  <a:pt x="400050" y="257825"/>
                </a:lnTo>
                <a:cubicBezTo>
                  <a:pt x="402431" y="258619"/>
                  <a:pt x="404844" y="259325"/>
                  <a:pt x="407194" y="260206"/>
                </a:cubicBezTo>
                <a:cubicBezTo>
                  <a:pt x="411196" y="261707"/>
                  <a:pt x="414884" y="264266"/>
                  <a:pt x="419100" y="264969"/>
                </a:cubicBezTo>
                <a:cubicBezTo>
                  <a:pt x="429308" y="266670"/>
                  <a:pt x="439737" y="266556"/>
                  <a:pt x="450056" y="267350"/>
                </a:cubicBezTo>
                <a:cubicBezTo>
                  <a:pt x="454025" y="268144"/>
                  <a:pt x="458123" y="268451"/>
                  <a:pt x="461963" y="269731"/>
                </a:cubicBezTo>
                <a:cubicBezTo>
                  <a:pt x="465331" y="270854"/>
                  <a:pt x="468244" y="273052"/>
                  <a:pt x="471488" y="274494"/>
                </a:cubicBezTo>
                <a:cubicBezTo>
                  <a:pt x="475394" y="276230"/>
                  <a:pt x="479339" y="277904"/>
                  <a:pt x="483394" y="279256"/>
                </a:cubicBezTo>
                <a:cubicBezTo>
                  <a:pt x="486499" y="280291"/>
                  <a:pt x="489772" y="280739"/>
                  <a:pt x="492919" y="281638"/>
                </a:cubicBezTo>
                <a:cubicBezTo>
                  <a:pt x="495333" y="282328"/>
                  <a:pt x="497628" y="283410"/>
                  <a:pt x="500063" y="284019"/>
                </a:cubicBezTo>
                <a:cubicBezTo>
                  <a:pt x="503989" y="285001"/>
                  <a:pt x="508018" y="285522"/>
                  <a:pt x="511969" y="286400"/>
                </a:cubicBezTo>
                <a:cubicBezTo>
                  <a:pt x="515164" y="287110"/>
                  <a:pt x="518319" y="287987"/>
                  <a:pt x="521494" y="288781"/>
                </a:cubicBezTo>
                <a:cubicBezTo>
                  <a:pt x="524669" y="290369"/>
                  <a:pt x="527695" y="292298"/>
                  <a:pt x="531019" y="293544"/>
                </a:cubicBezTo>
                <a:cubicBezTo>
                  <a:pt x="547629" y="299773"/>
                  <a:pt x="566998" y="294455"/>
                  <a:pt x="583406" y="293544"/>
                </a:cubicBezTo>
                <a:cubicBezTo>
                  <a:pt x="586581" y="291163"/>
                  <a:pt x="590390" y="289449"/>
                  <a:pt x="592931" y="286400"/>
                </a:cubicBezTo>
                <a:cubicBezTo>
                  <a:pt x="594153" y="284934"/>
                  <a:pt x="597567" y="270241"/>
                  <a:pt x="597694" y="269731"/>
                </a:cubicBezTo>
                <a:cubicBezTo>
                  <a:pt x="598488" y="260206"/>
                  <a:pt x="597517" y="250365"/>
                  <a:pt x="600075" y="241156"/>
                </a:cubicBezTo>
                <a:cubicBezTo>
                  <a:pt x="601607" y="235641"/>
                  <a:pt x="606425" y="231631"/>
                  <a:pt x="609600" y="226869"/>
                </a:cubicBezTo>
                <a:cubicBezTo>
                  <a:pt x="615950" y="217344"/>
                  <a:pt x="611982" y="221312"/>
                  <a:pt x="621506" y="214963"/>
                </a:cubicBezTo>
                <a:cubicBezTo>
                  <a:pt x="623094" y="212582"/>
                  <a:pt x="625264" y="210499"/>
                  <a:pt x="626269" y="207819"/>
                </a:cubicBezTo>
                <a:cubicBezTo>
                  <a:pt x="627690" y="204029"/>
                  <a:pt x="628462" y="199956"/>
                  <a:pt x="628650" y="195913"/>
                </a:cubicBezTo>
                <a:cubicBezTo>
                  <a:pt x="630052" y="165772"/>
                  <a:pt x="629596" y="135564"/>
                  <a:pt x="631031" y="105425"/>
                </a:cubicBezTo>
                <a:cubicBezTo>
                  <a:pt x="631187" y="102156"/>
                  <a:pt x="631598" y="98623"/>
                  <a:pt x="633413" y="95900"/>
                </a:cubicBezTo>
                <a:cubicBezTo>
                  <a:pt x="636824" y="90783"/>
                  <a:pt x="645162" y="90161"/>
                  <a:pt x="650081" y="88756"/>
                </a:cubicBezTo>
                <a:cubicBezTo>
                  <a:pt x="652495" y="88066"/>
                  <a:pt x="654844" y="87169"/>
                  <a:pt x="657225" y="86375"/>
                </a:cubicBezTo>
                <a:cubicBezTo>
                  <a:pt x="658643" y="86578"/>
                  <a:pt x="676502" y="88114"/>
                  <a:pt x="681038" y="91138"/>
                </a:cubicBezTo>
                <a:cubicBezTo>
                  <a:pt x="683840" y="93006"/>
                  <a:pt x="685594" y="96125"/>
                  <a:pt x="688181" y="98281"/>
                </a:cubicBezTo>
                <a:cubicBezTo>
                  <a:pt x="694337" y="103411"/>
                  <a:pt x="695308" y="103038"/>
                  <a:pt x="702469" y="105425"/>
                </a:cubicBezTo>
                <a:cubicBezTo>
                  <a:pt x="704850" y="107013"/>
                  <a:pt x="706982" y="109061"/>
                  <a:pt x="709613" y="110188"/>
                </a:cubicBezTo>
                <a:cubicBezTo>
                  <a:pt x="722265" y="115611"/>
                  <a:pt x="737736" y="111139"/>
                  <a:pt x="750094" y="110188"/>
                </a:cubicBezTo>
                <a:cubicBezTo>
                  <a:pt x="752475" y="109394"/>
                  <a:pt x="754733" y="107639"/>
                  <a:pt x="757238" y="107806"/>
                </a:cubicBezTo>
                <a:cubicBezTo>
                  <a:pt x="766873" y="108448"/>
                  <a:pt x="785813" y="112569"/>
                  <a:pt x="785813" y="112569"/>
                </a:cubicBezTo>
                <a:cubicBezTo>
                  <a:pt x="802798" y="118231"/>
                  <a:pt x="782261" y="110202"/>
                  <a:pt x="800100" y="122094"/>
                </a:cubicBezTo>
                <a:cubicBezTo>
                  <a:pt x="802189" y="123486"/>
                  <a:pt x="804763" y="124093"/>
                  <a:pt x="807244" y="124475"/>
                </a:cubicBezTo>
                <a:cubicBezTo>
                  <a:pt x="815128" y="125688"/>
                  <a:pt x="823119" y="126062"/>
                  <a:pt x="831056" y="126856"/>
                </a:cubicBezTo>
                <a:cubicBezTo>
                  <a:pt x="840581" y="126062"/>
                  <a:pt x="850203" y="126046"/>
                  <a:pt x="859631" y="124475"/>
                </a:cubicBezTo>
                <a:cubicBezTo>
                  <a:pt x="864583" y="123650"/>
                  <a:pt x="873919" y="119713"/>
                  <a:pt x="873919" y="119713"/>
                </a:cubicBezTo>
                <a:cubicBezTo>
                  <a:pt x="876300" y="121300"/>
                  <a:pt x="879039" y="122451"/>
                  <a:pt x="881063" y="124475"/>
                </a:cubicBezTo>
                <a:cubicBezTo>
                  <a:pt x="883087" y="126499"/>
                  <a:pt x="883993" y="129420"/>
                  <a:pt x="885825" y="131619"/>
                </a:cubicBezTo>
                <a:cubicBezTo>
                  <a:pt x="887981" y="134206"/>
                  <a:pt x="890588" y="136382"/>
                  <a:pt x="892969" y="138763"/>
                </a:cubicBezTo>
                <a:cubicBezTo>
                  <a:pt x="894906" y="144574"/>
                  <a:pt x="895496" y="148433"/>
                  <a:pt x="900113" y="153050"/>
                </a:cubicBezTo>
                <a:cubicBezTo>
                  <a:pt x="902137" y="155074"/>
                  <a:pt x="905232" y="155789"/>
                  <a:pt x="907256" y="157813"/>
                </a:cubicBezTo>
                <a:cubicBezTo>
                  <a:pt x="913961" y="164518"/>
                  <a:pt x="919197" y="178461"/>
                  <a:pt x="928688" y="181625"/>
                </a:cubicBezTo>
                <a:lnTo>
                  <a:pt x="942975" y="186388"/>
                </a:lnTo>
                <a:cubicBezTo>
                  <a:pt x="945356" y="187182"/>
                  <a:pt x="948030" y="187377"/>
                  <a:pt x="950119" y="188769"/>
                </a:cubicBezTo>
                <a:cubicBezTo>
                  <a:pt x="960631" y="195776"/>
                  <a:pt x="954457" y="192970"/>
                  <a:pt x="969169" y="195913"/>
                </a:cubicBezTo>
                <a:cubicBezTo>
                  <a:pt x="972344" y="195119"/>
                  <a:pt x="975433" y="193259"/>
                  <a:pt x="978694" y="193531"/>
                </a:cubicBezTo>
                <a:cubicBezTo>
                  <a:pt x="985217" y="194075"/>
                  <a:pt x="997744" y="198294"/>
                  <a:pt x="997744" y="198294"/>
                </a:cubicBezTo>
                <a:cubicBezTo>
                  <a:pt x="1002506" y="203056"/>
                  <a:pt x="1008295" y="206977"/>
                  <a:pt x="1012031" y="212581"/>
                </a:cubicBezTo>
                <a:cubicBezTo>
                  <a:pt x="1023143" y="229250"/>
                  <a:pt x="1016793" y="223694"/>
                  <a:pt x="1028700" y="231631"/>
                </a:cubicBezTo>
                <a:cubicBezTo>
                  <a:pt x="1030288" y="234012"/>
                  <a:pt x="1030630" y="238370"/>
                  <a:pt x="1033463" y="238775"/>
                </a:cubicBezTo>
                <a:cubicBezTo>
                  <a:pt x="1064027" y="243142"/>
                  <a:pt x="1053201" y="236308"/>
                  <a:pt x="1071563" y="234013"/>
                </a:cubicBezTo>
                <a:cubicBezTo>
                  <a:pt x="1081047" y="232827"/>
                  <a:pt x="1090613" y="232425"/>
                  <a:pt x="1100138" y="231631"/>
                </a:cubicBezTo>
                <a:cubicBezTo>
                  <a:pt x="1101408" y="227821"/>
                  <a:pt x="1102043" y="219566"/>
                  <a:pt x="1109663" y="222106"/>
                </a:cubicBezTo>
                <a:cubicBezTo>
                  <a:pt x="1115093" y="223916"/>
                  <a:pt x="1123950" y="231631"/>
                  <a:pt x="1123950" y="231631"/>
                </a:cubicBezTo>
                <a:cubicBezTo>
                  <a:pt x="1125538" y="234012"/>
                  <a:pt x="1126478" y="236987"/>
                  <a:pt x="1128713" y="238775"/>
                </a:cubicBezTo>
                <a:cubicBezTo>
                  <a:pt x="1136075" y="244665"/>
                  <a:pt x="1161647" y="238812"/>
                  <a:pt x="1162050" y="238775"/>
                </a:cubicBezTo>
                <a:cubicBezTo>
                  <a:pt x="1162844" y="236394"/>
                  <a:pt x="1164018" y="234107"/>
                  <a:pt x="1164431" y="231631"/>
                </a:cubicBezTo>
                <a:cubicBezTo>
                  <a:pt x="1165613" y="224541"/>
                  <a:pt x="1165070" y="217173"/>
                  <a:pt x="1166813" y="210200"/>
                </a:cubicBezTo>
                <a:cubicBezTo>
                  <a:pt x="1167507" y="207424"/>
                  <a:pt x="1170413" y="205671"/>
                  <a:pt x="1171575" y="203056"/>
                </a:cubicBezTo>
                <a:cubicBezTo>
                  <a:pt x="1173614" y="198469"/>
                  <a:pt x="1174750" y="193531"/>
                  <a:pt x="1176338" y="188769"/>
                </a:cubicBezTo>
                <a:cubicBezTo>
                  <a:pt x="1178435" y="182478"/>
                  <a:pt x="1182101" y="169386"/>
                  <a:pt x="1188244" y="167338"/>
                </a:cubicBezTo>
                <a:cubicBezTo>
                  <a:pt x="1190625" y="166544"/>
                  <a:pt x="1192938" y="165501"/>
                  <a:pt x="1195388" y="164956"/>
                </a:cubicBezTo>
                <a:cubicBezTo>
                  <a:pt x="1214528" y="160702"/>
                  <a:pt x="1204219" y="164534"/>
                  <a:pt x="1221581" y="160194"/>
                </a:cubicBezTo>
                <a:cubicBezTo>
                  <a:pt x="1224016" y="159585"/>
                  <a:pt x="1226344" y="158607"/>
                  <a:pt x="1228725" y="157813"/>
                </a:cubicBezTo>
                <a:cubicBezTo>
                  <a:pt x="1229519" y="155432"/>
                  <a:pt x="1229983" y="152914"/>
                  <a:pt x="1231106" y="150669"/>
                </a:cubicBezTo>
                <a:cubicBezTo>
                  <a:pt x="1232386" y="148109"/>
                  <a:pt x="1234742" y="146156"/>
                  <a:pt x="1235869" y="143525"/>
                </a:cubicBezTo>
                <a:cubicBezTo>
                  <a:pt x="1237158" y="140517"/>
                  <a:pt x="1236961" y="137008"/>
                  <a:pt x="1238250" y="134000"/>
                </a:cubicBezTo>
                <a:cubicBezTo>
                  <a:pt x="1241425" y="126592"/>
                  <a:pt x="1243807" y="126327"/>
                  <a:pt x="1250156" y="122094"/>
                </a:cubicBezTo>
                <a:cubicBezTo>
                  <a:pt x="1271587" y="122888"/>
                  <a:pt x="1293246" y="121262"/>
                  <a:pt x="1314450" y="124475"/>
                </a:cubicBezTo>
                <a:cubicBezTo>
                  <a:pt x="1320109" y="125332"/>
                  <a:pt x="1323308" y="132190"/>
                  <a:pt x="1328738" y="134000"/>
                </a:cubicBezTo>
                <a:lnTo>
                  <a:pt x="1335881" y="136381"/>
                </a:lnTo>
                <a:cubicBezTo>
                  <a:pt x="1338262" y="138762"/>
                  <a:pt x="1341157" y="140723"/>
                  <a:pt x="1343025" y="143525"/>
                </a:cubicBezTo>
                <a:cubicBezTo>
                  <a:pt x="1344417" y="145614"/>
                  <a:pt x="1343631" y="148894"/>
                  <a:pt x="1345406" y="150669"/>
                </a:cubicBezTo>
                <a:cubicBezTo>
                  <a:pt x="1347181" y="152444"/>
                  <a:pt x="1350169" y="152256"/>
                  <a:pt x="1352550" y="153050"/>
                </a:cubicBezTo>
                <a:cubicBezTo>
                  <a:pt x="1368425" y="152256"/>
                  <a:pt x="1384892" y="155036"/>
                  <a:pt x="1400175" y="150669"/>
                </a:cubicBezTo>
                <a:cubicBezTo>
                  <a:pt x="1404067" y="149557"/>
                  <a:pt x="1400548" y="142277"/>
                  <a:pt x="1402556" y="138763"/>
                </a:cubicBezTo>
                <a:cubicBezTo>
                  <a:pt x="1403976" y="136278"/>
                  <a:pt x="1406914" y="134656"/>
                  <a:pt x="1409700" y="134000"/>
                </a:cubicBezTo>
                <a:cubicBezTo>
                  <a:pt x="1420627" y="131429"/>
                  <a:pt x="1431925" y="130825"/>
                  <a:pt x="1443038" y="129238"/>
                </a:cubicBezTo>
                <a:cubicBezTo>
                  <a:pt x="1443832" y="121300"/>
                  <a:pt x="1442118" y="112687"/>
                  <a:pt x="1445419" y="105425"/>
                </a:cubicBezTo>
                <a:cubicBezTo>
                  <a:pt x="1446773" y="102446"/>
                  <a:pt x="1451679" y="103269"/>
                  <a:pt x="1454944" y="103044"/>
                </a:cubicBezTo>
                <a:cubicBezTo>
                  <a:pt x="1474756" y="101678"/>
                  <a:pt x="1494643" y="101707"/>
                  <a:pt x="1514475" y="100663"/>
                </a:cubicBezTo>
                <a:cubicBezTo>
                  <a:pt x="1524810" y="100119"/>
                  <a:pt x="1535112" y="99075"/>
                  <a:pt x="1545431" y="98281"/>
                </a:cubicBezTo>
                <a:cubicBezTo>
                  <a:pt x="1546555" y="94909"/>
                  <a:pt x="1550194" y="84608"/>
                  <a:pt x="1550194" y="81613"/>
                </a:cubicBezTo>
                <a:cubicBezTo>
                  <a:pt x="1550194" y="74425"/>
                  <a:pt x="1550086" y="67000"/>
                  <a:pt x="1547813" y="60181"/>
                </a:cubicBezTo>
                <a:cubicBezTo>
                  <a:pt x="1546748" y="56986"/>
                  <a:pt x="1543050" y="55419"/>
                  <a:pt x="1540669" y="53038"/>
                </a:cubicBezTo>
                <a:cubicBezTo>
                  <a:pt x="1540669" y="53038"/>
                  <a:pt x="1534320" y="38750"/>
                  <a:pt x="1540669" y="38750"/>
                </a:cubicBezTo>
                <a:cubicBezTo>
                  <a:pt x="1543531" y="38750"/>
                  <a:pt x="1543844" y="43513"/>
                  <a:pt x="1545431" y="45894"/>
                </a:cubicBezTo>
                <a:cubicBezTo>
                  <a:pt x="1548606" y="45100"/>
                  <a:pt x="1551747" y="44155"/>
                  <a:pt x="1554956" y="43513"/>
                </a:cubicBezTo>
                <a:cubicBezTo>
                  <a:pt x="1559691" y="42566"/>
                  <a:pt x="1565474" y="44147"/>
                  <a:pt x="1569244" y="41131"/>
                </a:cubicBezTo>
                <a:cubicBezTo>
                  <a:pt x="1571204" y="39563"/>
                  <a:pt x="1567657" y="36369"/>
                  <a:pt x="1566863" y="33988"/>
                </a:cubicBezTo>
                <a:cubicBezTo>
                  <a:pt x="1567657" y="30813"/>
                  <a:pt x="1567200" y="27019"/>
                  <a:pt x="1569244" y="24463"/>
                </a:cubicBezTo>
                <a:cubicBezTo>
                  <a:pt x="1570812" y="22503"/>
                  <a:pt x="1573878" y="22081"/>
                  <a:pt x="1576388" y="22081"/>
                </a:cubicBezTo>
                <a:cubicBezTo>
                  <a:pt x="1583576" y="22081"/>
                  <a:pt x="1590675" y="23669"/>
                  <a:pt x="1597819" y="24463"/>
                </a:cubicBezTo>
                <a:cubicBezTo>
                  <a:pt x="1600994" y="25257"/>
                  <a:pt x="1604209" y="25904"/>
                  <a:pt x="1607344" y="26844"/>
                </a:cubicBezTo>
                <a:cubicBezTo>
                  <a:pt x="1612152" y="28286"/>
                  <a:pt x="1621631" y="31606"/>
                  <a:pt x="1621631" y="31606"/>
                </a:cubicBezTo>
                <a:cubicBezTo>
                  <a:pt x="1634948" y="30274"/>
                  <a:pt x="1641965" y="26294"/>
                  <a:pt x="1652588" y="31606"/>
                </a:cubicBezTo>
                <a:cubicBezTo>
                  <a:pt x="1655148" y="32886"/>
                  <a:pt x="1657350" y="34781"/>
                  <a:pt x="1659731" y="36369"/>
                </a:cubicBezTo>
                <a:cubicBezTo>
                  <a:pt x="1661319" y="38750"/>
                  <a:pt x="1661779" y="42608"/>
                  <a:pt x="1664494" y="43513"/>
                </a:cubicBezTo>
                <a:cubicBezTo>
                  <a:pt x="1675109" y="47051"/>
                  <a:pt x="1673678" y="38071"/>
                  <a:pt x="1678781" y="33988"/>
                </a:cubicBezTo>
                <a:cubicBezTo>
                  <a:pt x="1680741" y="32420"/>
                  <a:pt x="1683544" y="32400"/>
                  <a:pt x="1685925" y="31606"/>
                </a:cubicBezTo>
                <a:cubicBezTo>
                  <a:pt x="1688306" y="32400"/>
                  <a:pt x="1695579" y="33988"/>
                  <a:pt x="1693069" y="33988"/>
                </a:cubicBezTo>
                <a:cubicBezTo>
                  <a:pt x="1689796" y="33988"/>
                  <a:pt x="1685008" y="34533"/>
                  <a:pt x="1683544" y="31606"/>
                </a:cubicBezTo>
                <a:cubicBezTo>
                  <a:pt x="1682264" y="29047"/>
                  <a:pt x="1686405" y="26602"/>
                  <a:pt x="1688306" y="24463"/>
                </a:cubicBezTo>
                <a:cubicBezTo>
                  <a:pt x="1710051" y="0"/>
                  <a:pt x="1696550" y="19243"/>
                  <a:pt x="1707356" y="3031"/>
                </a:cubicBezTo>
                <a:cubicBezTo>
                  <a:pt x="1748310" y="11222"/>
                  <a:pt x="1723082" y="7426"/>
                  <a:pt x="1783556" y="10175"/>
                </a:cubicBezTo>
                <a:cubicBezTo>
                  <a:pt x="1775660" y="12807"/>
                  <a:pt x="1778923" y="12556"/>
                  <a:pt x="1774031" y="12556"/>
                </a:cubicBezTo>
              </a:path>
            </a:pathLst>
          </a:custGeom>
          <a:noFill/>
          <a:ln w="38160">
            <a:solidFill>
              <a:srgbClr val="ffff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5" name="Freeform 20"/>
          <p:cNvSpPr/>
          <p:nvPr/>
        </p:nvSpPr>
        <p:spPr>
          <a:xfrm>
            <a:off x="5867280" y="3352680"/>
            <a:ext cx="1457280" cy="631800"/>
          </a:xfrm>
          <a:custGeom>
            <a:avLst/>
            <a:gdLst/>
            <a:ahLst/>
            <a:rect l="l" t="t" r="r" b="b"/>
            <a:pathLst>
              <a:path w="1457325" h="632540">
                <a:moveTo>
                  <a:pt x="0" y="84262"/>
                </a:moveTo>
                <a:cubicBezTo>
                  <a:pt x="2381" y="85056"/>
                  <a:pt x="4634" y="86643"/>
                  <a:pt x="7144" y="86643"/>
                </a:cubicBezTo>
                <a:cubicBezTo>
                  <a:pt x="47354" y="86643"/>
                  <a:pt x="39313" y="88619"/>
                  <a:pt x="59531" y="81881"/>
                </a:cubicBezTo>
                <a:cubicBezTo>
                  <a:pt x="62706" y="77118"/>
                  <a:pt x="67668" y="73146"/>
                  <a:pt x="69056" y="67593"/>
                </a:cubicBezTo>
                <a:cubicBezTo>
                  <a:pt x="69821" y="64533"/>
                  <a:pt x="72108" y="54347"/>
                  <a:pt x="73819" y="50925"/>
                </a:cubicBezTo>
                <a:cubicBezTo>
                  <a:pt x="75099" y="48365"/>
                  <a:pt x="76154" y="45298"/>
                  <a:pt x="78581" y="43781"/>
                </a:cubicBezTo>
                <a:cubicBezTo>
                  <a:pt x="82838" y="41120"/>
                  <a:pt x="92869" y="39018"/>
                  <a:pt x="92869" y="39018"/>
                </a:cubicBezTo>
                <a:cubicBezTo>
                  <a:pt x="107156" y="39812"/>
                  <a:pt x="121532" y="39625"/>
                  <a:pt x="135731" y="41400"/>
                </a:cubicBezTo>
                <a:cubicBezTo>
                  <a:pt x="140712" y="42023"/>
                  <a:pt x="150019" y="46162"/>
                  <a:pt x="150019" y="46162"/>
                </a:cubicBezTo>
                <a:cubicBezTo>
                  <a:pt x="157956" y="45368"/>
                  <a:pt x="169671" y="50588"/>
                  <a:pt x="173831" y="43781"/>
                </a:cubicBezTo>
                <a:cubicBezTo>
                  <a:pt x="199950" y="1041"/>
                  <a:pt x="153111" y="0"/>
                  <a:pt x="192881" y="5681"/>
                </a:cubicBezTo>
                <a:cubicBezTo>
                  <a:pt x="193675" y="8062"/>
                  <a:pt x="193694" y="10865"/>
                  <a:pt x="195262" y="12825"/>
                </a:cubicBezTo>
                <a:cubicBezTo>
                  <a:pt x="197050" y="15060"/>
                  <a:pt x="199564" y="17246"/>
                  <a:pt x="202406" y="17587"/>
                </a:cubicBezTo>
                <a:cubicBezTo>
                  <a:pt x="219762" y="19669"/>
                  <a:pt x="237331" y="19174"/>
                  <a:pt x="254794" y="19968"/>
                </a:cubicBezTo>
                <a:cubicBezTo>
                  <a:pt x="275266" y="33619"/>
                  <a:pt x="251172" y="15442"/>
                  <a:pt x="264319" y="31875"/>
                </a:cubicBezTo>
                <a:cubicBezTo>
                  <a:pt x="266107" y="34110"/>
                  <a:pt x="269081" y="35050"/>
                  <a:pt x="271462" y="36637"/>
                </a:cubicBezTo>
                <a:cubicBezTo>
                  <a:pt x="287337" y="35843"/>
                  <a:pt x="303940" y="39075"/>
                  <a:pt x="319087" y="34256"/>
                </a:cubicBezTo>
                <a:cubicBezTo>
                  <a:pt x="323871" y="32734"/>
                  <a:pt x="323850" y="19968"/>
                  <a:pt x="323850" y="19968"/>
                </a:cubicBezTo>
                <a:lnTo>
                  <a:pt x="338137" y="22350"/>
                </a:lnTo>
                <a:cubicBezTo>
                  <a:pt x="342119" y="23074"/>
                  <a:pt x="347182" y="21869"/>
                  <a:pt x="350044" y="24731"/>
                </a:cubicBezTo>
                <a:cubicBezTo>
                  <a:pt x="366067" y="40753"/>
                  <a:pt x="346117" y="35400"/>
                  <a:pt x="359569" y="46162"/>
                </a:cubicBezTo>
                <a:cubicBezTo>
                  <a:pt x="361529" y="47730"/>
                  <a:pt x="364331" y="47749"/>
                  <a:pt x="366712" y="48543"/>
                </a:cubicBezTo>
                <a:cubicBezTo>
                  <a:pt x="374650" y="47749"/>
                  <a:pt x="382640" y="47375"/>
                  <a:pt x="390525" y="46162"/>
                </a:cubicBezTo>
                <a:cubicBezTo>
                  <a:pt x="393006" y="45780"/>
                  <a:pt x="395159" y="43781"/>
                  <a:pt x="397669" y="43781"/>
                </a:cubicBezTo>
                <a:cubicBezTo>
                  <a:pt x="400179" y="43781"/>
                  <a:pt x="402431" y="45368"/>
                  <a:pt x="404812" y="46162"/>
                </a:cubicBezTo>
                <a:cubicBezTo>
                  <a:pt x="411102" y="65030"/>
                  <a:pt x="404623" y="61276"/>
                  <a:pt x="423862" y="58068"/>
                </a:cubicBezTo>
                <a:cubicBezTo>
                  <a:pt x="426243" y="56481"/>
                  <a:pt x="428982" y="55330"/>
                  <a:pt x="431006" y="53306"/>
                </a:cubicBezTo>
                <a:cubicBezTo>
                  <a:pt x="446884" y="37429"/>
                  <a:pt x="423862" y="54100"/>
                  <a:pt x="442912" y="41400"/>
                </a:cubicBezTo>
                <a:cubicBezTo>
                  <a:pt x="450850" y="42194"/>
                  <a:pt x="459157" y="41258"/>
                  <a:pt x="466725" y="43781"/>
                </a:cubicBezTo>
                <a:cubicBezTo>
                  <a:pt x="469440" y="44686"/>
                  <a:pt x="470325" y="48310"/>
                  <a:pt x="471487" y="50925"/>
                </a:cubicBezTo>
                <a:cubicBezTo>
                  <a:pt x="473526" y="55512"/>
                  <a:pt x="474662" y="60450"/>
                  <a:pt x="476250" y="65212"/>
                </a:cubicBezTo>
                <a:lnTo>
                  <a:pt x="478631" y="72356"/>
                </a:lnTo>
                <a:cubicBezTo>
                  <a:pt x="479425" y="79500"/>
                  <a:pt x="478343" y="87113"/>
                  <a:pt x="481012" y="93787"/>
                </a:cubicBezTo>
                <a:cubicBezTo>
                  <a:pt x="481944" y="96118"/>
                  <a:pt x="485646" y="96168"/>
                  <a:pt x="488156" y="96168"/>
                </a:cubicBezTo>
                <a:cubicBezTo>
                  <a:pt x="493769" y="96168"/>
                  <a:pt x="499269" y="94581"/>
                  <a:pt x="504825" y="93787"/>
                </a:cubicBezTo>
                <a:cubicBezTo>
                  <a:pt x="505619" y="87437"/>
                  <a:pt x="501963" y="78407"/>
                  <a:pt x="507206" y="74737"/>
                </a:cubicBezTo>
                <a:cubicBezTo>
                  <a:pt x="517075" y="67829"/>
                  <a:pt x="528393" y="76956"/>
                  <a:pt x="535781" y="81881"/>
                </a:cubicBezTo>
                <a:cubicBezTo>
                  <a:pt x="536575" y="86643"/>
                  <a:pt x="535767" y="91976"/>
                  <a:pt x="538162" y="96168"/>
                </a:cubicBezTo>
                <a:cubicBezTo>
                  <a:pt x="539407" y="98347"/>
                  <a:pt x="543914" y="96461"/>
                  <a:pt x="545306" y="98550"/>
                </a:cubicBezTo>
                <a:cubicBezTo>
                  <a:pt x="560605" y="121499"/>
                  <a:pt x="535582" y="102387"/>
                  <a:pt x="554831" y="115218"/>
                </a:cubicBezTo>
                <a:cubicBezTo>
                  <a:pt x="560210" y="99081"/>
                  <a:pt x="554122" y="118766"/>
                  <a:pt x="559594" y="91406"/>
                </a:cubicBezTo>
                <a:cubicBezTo>
                  <a:pt x="560086" y="88945"/>
                  <a:pt x="561181" y="86643"/>
                  <a:pt x="561975" y="84262"/>
                </a:cubicBezTo>
                <a:cubicBezTo>
                  <a:pt x="573881" y="85056"/>
                  <a:pt x="586078" y="83910"/>
                  <a:pt x="597694" y="86643"/>
                </a:cubicBezTo>
                <a:cubicBezTo>
                  <a:pt x="600480" y="87298"/>
                  <a:pt x="600624" y="91588"/>
                  <a:pt x="602456" y="93787"/>
                </a:cubicBezTo>
                <a:cubicBezTo>
                  <a:pt x="608186" y="100663"/>
                  <a:pt x="609719" y="101011"/>
                  <a:pt x="616744" y="105693"/>
                </a:cubicBezTo>
                <a:cubicBezTo>
                  <a:pt x="627110" y="103620"/>
                  <a:pt x="636992" y="100339"/>
                  <a:pt x="647700" y="105693"/>
                </a:cubicBezTo>
                <a:cubicBezTo>
                  <a:pt x="650875" y="107280"/>
                  <a:pt x="651216" y="111894"/>
                  <a:pt x="652462" y="115218"/>
                </a:cubicBezTo>
                <a:cubicBezTo>
                  <a:pt x="656259" y="125344"/>
                  <a:pt x="651914" y="125172"/>
                  <a:pt x="661987" y="131887"/>
                </a:cubicBezTo>
                <a:cubicBezTo>
                  <a:pt x="664076" y="133279"/>
                  <a:pt x="666629" y="134068"/>
                  <a:pt x="669131" y="134268"/>
                </a:cubicBezTo>
                <a:cubicBezTo>
                  <a:pt x="686556" y="135662"/>
                  <a:pt x="704056" y="135856"/>
                  <a:pt x="721519" y="136650"/>
                </a:cubicBezTo>
                <a:cubicBezTo>
                  <a:pt x="722313" y="139825"/>
                  <a:pt x="723494" y="142928"/>
                  <a:pt x="723900" y="146175"/>
                </a:cubicBezTo>
                <a:cubicBezTo>
                  <a:pt x="725085" y="155659"/>
                  <a:pt x="723470" y="165615"/>
                  <a:pt x="726281" y="174750"/>
                </a:cubicBezTo>
                <a:cubicBezTo>
                  <a:pt x="727019" y="177149"/>
                  <a:pt x="730964" y="176639"/>
                  <a:pt x="733425" y="177131"/>
                </a:cubicBezTo>
                <a:cubicBezTo>
                  <a:pt x="738929" y="178232"/>
                  <a:pt x="744538" y="178718"/>
                  <a:pt x="750094" y="179512"/>
                </a:cubicBezTo>
                <a:cubicBezTo>
                  <a:pt x="751681" y="181893"/>
                  <a:pt x="753729" y="184025"/>
                  <a:pt x="754856" y="186656"/>
                </a:cubicBezTo>
                <a:cubicBezTo>
                  <a:pt x="765971" y="212594"/>
                  <a:pt x="730069" y="194887"/>
                  <a:pt x="807244" y="198562"/>
                </a:cubicBezTo>
                <a:cubicBezTo>
                  <a:pt x="809625" y="199356"/>
                  <a:pt x="811902" y="200588"/>
                  <a:pt x="814387" y="200943"/>
                </a:cubicBezTo>
                <a:cubicBezTo>
                  <a:pt x="823066" y="202183"/>
                  <a:pt x="832264" y="200553"/>
                  <a:pt x="840581" y="203325"/>
                </a:cubicBezTo>
                <a:cubicBezTo>
                  <a:pt x="842962" y="204119"/>
                  <a:pt x="841570" y="208380"/>
                  <a:pt x="842962" y="210468"/>
                </a:cubicBezTo>
                <a:cubicBezTo>
                  <a:pt x="848059" y="218113"/>
                  <a:pt x="849760" y="217497"/>
                  <a:pt x="857250" y="219993"/>
                </a:cubicBezTo>
                <a:cubicBezTo>
                  <a:pt x="859631" y="219199"/>
                  <a:pt x="861980" y="218302"/>
                  <a:pt x="864394" y="217612"/>
                </a:cubicBezTo>
                <a:cubicBezTo>
                  <a:pt x="867541" y="216713"/>
                  <a:pt x="871605" y="217545"/>
                  <a:pt x="873919" y="215231"/>
                </a:cubicBezTo>
                <a:cubicBezTo>
                  <a:pt x="876233" y="212917"/>
                  <a:pt x="875401" y="208853"/>
                  <a:pt x="876300" y="205706"/>
                </a:cubicBezTo>
                <a:cubicBezTo>
                  <a:pt x="876990" y="203292"/>
                  <a:pt x="877113" y="200522"/>
                  <a:pt x="878681" y="198562"/>
                </a:cubicBezTo>
                <a:cubicBezTo>
                  <a:pt x="882037" y="194367"/>
                  <a:pt x="888265" y="192987"/>
                  <a:pt x="892969" y="191418"/>
                </a:cubicBezTo>
                <a:cubicBezTo>
                  <a:pt x="900906" y="192212"/>
                  <a:pt x="908897" y="192587"/>
                  <a:pt x="916781" y="193800"/>
                </a:cubicBezTo>
                <a:cubicBezTo>
                  <a:pt x="919262" y="194182"/>
                  <a:pt x="922150" y="194406"/>
                  <a:pt x="923925" y="196181"/>
                </a:cubicBezTo>
                <a:cubicBezTo>
                  <a:pt x="925700" y="197956"/>
                  <a:pt x="925762" y="200875"/>
                  <a:pt x="926306" y="203325"/>
                </a:cubicBezTo>
                <a:cubicBezTo>
                  <a:pt x="927791" y="210009"/>
                  <a:pt x="926284" y="221819"/>
                  <a:pt x="935831" y="224756"/>
                </a:cubicBezTo>
                <a:cubicBezTo>
                  <a:pt x="943456" y="227102"/>
                  <a:pt x="951706" y="226343"/>
                  <a:pt x="959644" y="227137"/>
                </a:cubicBezTo>
                <a:cubicBezTo>
                  <a:pt x="960438" y="229518"/>
                  <a:pt x="962025" y="231771"/>
                  <a:pt x="962025" y="234281"/>
                </a:cubicBezTo>
                <a:cubicBezTo>
                  <a:pt x="962025" y="269685"/>
                  <a:pt x="963450" y="263347"/>
                  <a:pt x="957262" y="281906"/>
                </a:cubicBezTo>
                <a:cubicBezTo>
                  <a:pt x="958056" y="285875"/>
                  <a:pt x="957399" y="290444"/>
                  <a:pt x="959644" y="293812"/>
                </a:cubicBezTo>
                <a:cubicBezTo>
                  <a:pt x="961036" y="295900"/>
                  <a:pt x="964277" y="296193"/>
                  <a:pt x="966787" y="296193"/>
                </a:cubicBezTo>
                <a:cubicBezTo>
                  <a:pt x="971717" y="296193"/>
                  <a:pt x="977463" y="291458"/>
                  <a:pt x="981075" y="289050"/>
                </a:cubicBezTo>
                <a:cubicBezTo>
                  <a:pt x="981869" y="286669"/>
                  <a:pt x="982333" y="284151"/>
                  <a:pt x="983456" y="281906"/>
                </a:cubicBezTo>
                <a:cubicBezTo>
                  <a:pt x="994380" y="260057"/>
                  <a:pt x="1006953" y="275613"/>
                  <a:pt x="1040606" y="277143"/>
                </a:cubicBezTo>
                <a:cubicBezTo>
                  <a:pt x="1038401" y="283758"/>
                  <a:pt x="1034537" y="291639"/>
                  <a:pt x="1040606" y="298575"/>
                </a:cubicBezTo>
                <a:cubicBezTo>
                  <a:pt x="1043912" y="302353"/>
                  <a:pt x="1049971" y="302353"/>
                  <a:pt x="1054894" y="303337"/>
                </a:cubicBezTo>
                <a:cubicBezTo>
                  <a:pt x="1063092" y="304976"/>
                  <a:pt x="1068467" y="305855"/>
                  <a:pt x="1076325" y="308100"/>
                </a:cubicBezTo>
                <a:cubicBezTo>
                  <a:pt x="1078739" y="308790"/>
                  <a:pt x="1081088" y="309687"/>
                  <a:pt x="1083469" y="310481"/>
                </a:cubicBezTo>
                <a:cubicBezTo>
                  <a:pt x="1085056" y="312862"/>
                  <a:pt x="1088792" y="314819"/>
                  <a:pt x="1088231" y="317625"/>
                </a:cubicBezTo>
                <a:cubicBezTo>
                  <a:pt x="1087670" y="320431"/>
                  <a:pt x="1083286" y="320555"/>
                  <a:pt x="1081087" y="322387"/>
                </a:cubicBezTo>
                <a:cubicBezTo>
                  <a:pt x="1078500" y="324543"/>
                  <a:pt x="1076684" y="327574"/>
                  <a:pt x="1073944" y="329531"/>
                </a:cubicBezTo>
                <a:cubicBezTo>
                  <a:pt x="1068798" y="333207"/>
                  <a:pt x="1063102" y="334732"/>
                  <a:pt x="1057275" y="336675"/>
                </a:cubicBezTo>
                <a:cubicBezTo>
                  <a:pt x="1054894" y="339850"/>
                  <a:pt x="1052438" y="342970"/>
                  <a:pt x="1050131" y="346200"/>
                </a:cubicBezTo>
                <a:cubicBezTo>
                  <a:pt x="1048468" y="348529"/>
                  <a:pt x="1045628" y="350493"/>
                  <a:pt x="1045369" y="353343"/>
                </a:cubicBezTo>
                <a:cubicBezTo>
                  <a:pt x="1044243" y="365728"/>
                  <a:pt x="1045290" y="373134"/>
                  <a:pt x="1054894" y="379537"/>
                </a:cubicBezTo>
                <a:cubicBezTo>
                  <a:pt x="1056982" y="380929"/>
                  <a:pt x="1059656" y="381124"/>
                  <a:pt x="1062037" y="381918"/>
                </a:cubicBezTo>
                <a:cubicBezTo>
                  <a:pt x="1064418" y="381124"/>
                  <a:pt x="1066731" y="380081"/>
                  <a:pt x="1069181" y="379537"/>
                </a:cubicBezTo>
                <a:cubicBezTo>
                  <a:pt x="1073894" y="378490"/>
                  <a:pt x="1079277" y="379552"/>
                  <a:pt x="1083469" y="377156"/>
                </a:cubicBezTo>
                <a:cubicBezTo>
                  <a:pt x="1085648" y="375911"/>
                  <a:pt x="1084282" y="371972"/>
                  <a:pt x="1085850" y="370012"/>
                </a:cubicBezTo>
                <a:cubicBezTo>
                  <a:pt x="1090521" y="364174"/>
                  <a:pt x="1098448" y="364159"/>
                  <a:pt x="1104900" y="362868"/>
                </a:cubicBezTo>
                <a:cubicBezTo>
                  <a:pt x="1112837" y="363662"/>
                  <a:pt x="1120939" y="363456"/>
                  <a:pt x="1128712" y="365250"/>
                </a:cubicBezTo>
                <a:cubicBezTo>
                  <a:pt x="1131501" y="365894"/>
                  <a:pt x="1132994" y="370012"/>
                  <a:pt x="1135856" y="370012"/>
                </a:cubicBezTo>
                <a:cubicBezTo>
                  <a:pt x="1138718" y="370012"/>
                  <a:pt x="1140619" y="366837"/>
                  <a:pt x="1143000" y="365250"/>
                </a:cubicBezTo>
                <a:cubicBezTo>
                  <a:pt x="1149786" y="366004"/>
                  <a:pt x="1163598" y="366023"/>
                  <a:pt x="1171575" y="370012"/>
                </a:cubicBezTo>
                <a:cubicBezTo>
                  <a:pt x="1174135" y="371292"/>
                  <a:pt x="1176338" y="373187"/>
                  <a:pt x="1178719" y="374775"/>
                </a:cubicBezTo>
                <a:cubicBezTo>
                  <a:pt x="1184702" y="392725"/>
                  <a:pt x="1176632" y="370602"/>
                  <a:pt x="1185862" y="389062"/>
                </a:cubicBezTo>
                <a:cubicBezTo>
                  <a:pt x="1186985" y="391307"/>
                  <a:pt x="1187025" y="394012"/>
                  <a:pt x="1188244" y="396206"/>
                </a:cubicBezTo>
                <a:cubicBezTo>
                  <a:pt x="1191024" y="401209"/>
                  <a:pt x="1192339" y="408682"/>
                  <a:pt x="1197769" y="410493"/>
                </a:cubicBezTo>
                <a:cubicBezTo>
                  <a:pt x="1213229" y="415649"/>
                  <a:pt x="1202412" y="412648"/>
                  <a:pt x="1231106" y="415256"/>
                </a:cubicBezTo>
                <a:cubicBezTo>
                  <a:pt x="1231900" y="419225"/>
                  <a:pt x="1232066" y="423372"/>
                  <a:pt x="1233487" y="427162"/>
                </a:cubicBezTo>
                <a:cubicBezTo>
                  <a:pt x="1234492" y="429842"/>
                  <a:pt x="1236015" y="432518"/>
                  <a:pt x="1238250" y="434306"/>
                </a:cubicBezTo>
                <a:cubicBezTo>
                  <a:pt x="1240210" y="435874"/>
                  <a:pt x="1242913" y="436305"/>
                  <a:pt x="1245394" y="436687"/>
                </a:cubicBezTo>
                <a:cubicBezTo>
                  <a:pt x="1253278" y="437900"/>
                  <a:pt x="1261269" y="438274"/>
                  <a:pt x="1269206" y="439068"/>
                </a:cubicBezTo>
                <a:cubicBezTo>
                  <a:pt x="1271587" y="439862"/>
                  <a:pt x="1274156" y="440231"/>
                  <a:pt x="1276350" y="441450"/>
                </a:cubicBezTo>
                <a:cubicBezTo>
                  <a:pt x="1295390" y="452028"/>
                  <a:pt x="1284402" y="448983"/>
                  <a:pt x="1300162" y="455737"/>
                </a:cubicBezTo>
                <a:cubicBezTo>
                  <a:pt x="1307779" y="459001"/>
                  <a:pt x="1310272" y="458265"/>
                  <a:pt x="1319212" y="460500"/>
                </a:cubicBezTo>
                <a:cubicBezTo>
                  <a:pt x="1321647" y="461109"/>
                  <a:pt x="1323975" y="462087"/>
                  <a:pt x="1326356" y="462881"/>
                </a:cubicBezTo>
                <a:cubicBezTo>
                  <a:pt x="1349148" y="485673"/>
                  <a:pt x="1322096" y="456491"/>
                  <a:pt x="1335881" y="477168"/>
                </a:cubicBezTo>
                <a:cubicBezTo>
                  <a:pt x="1337749" y="479970"/>
                  <a:pt x="1340644" y="481931"/>
                  <a:pt x="1343025" y="484312"/>
                </a:cubicBezTo>
                <a:cubicBezTo>
                  <a:pt x="1351707" y="510361"/>
                  <a:pt x="1337861" y="470908"/>
                  <a:pt x="1350169" y="498600"/>
                </a:cubicBezTo>
                <a:cubicBezTo>
                  <a:pt x="1352208" y="503187"/>
                  <a:pt x="1351381" y="509337"/>
                  <a:pt x="1354931" y="512887"/>
                </a:cubicBezTo>
                <a:cubicBezTo>
                  <a:pt x="1357312" y="515268"/>
                  <a:pt x="1360007" y="517373"/>
                  <a:pt x="1362075" y="520031"/>
                </a:cubicBezTo>
                <a:cubicBezTo>
                  <a:pt x="1377034" y="539264"/>
                  <a:pt x="1364914" y="529860"/>
                  <a:pt x="1378744" y="539081"/>
                </a:cubicBezTo>
                <a:cubicBezTo>
                  <a:pt x="1380331" y="543843"/>
                  <a:pt x="1382952" y="548379"/>
                  <a:pt x="1383506" y="553368"/>
                </a:cubicBezTo>
                <a:cubicBezTo>
                  <a:pt x="1383621" y="554405"/>
                  <a:pt x="1385583" y="585709"/>
                  <a:pt x="1390650" y="589087"/>
                </a:cubicBezTo>
                <a:lnTo>
                  <a:pt x="1397794" y="593850"/>
                </a:lnTo>
                <a:cubicBezTo>
                  <a:pt x="1399381" y="596231"/>
                  <a:pt x="1401429" y="598363"/>
                  <a:pt x="1402556" y="600993"/>
                </a:cubicBezTo>
                <a:cubicBezTo>
                  <a:pt x="1403845" y="604001"/>
                  <a:pt x="1403060" y="607837"/>
                  <a:pt x="1404937" y="610518"/>
                </a:cubicBezTo>
                <a:cubicBezTo>
                  <a:pt x="1412074" y="620714"/>
                  <a:pt x="1417519" y="623669"/>
                  <a:pt x="1426369" y="629568"/>
                </a:cubicBezTo>
                <a:cubicBezTo>
                  <a:pt x="1432719" y="628774"/>
                  <a:pt x="1439046" y="626607"/>
                  <a:pt x="1445419" y="627187"/>
                </a:cubicBezTo>
                <a:cubicBezTo>
                  <a:pt x="1448269" y="627446"/>
                  <a:pt x="1449905" y="630887"/>
                  <a:pt x="1452562" y="631950"/>
                </a:cubicBezTo>
                <a:cubicBezTo>
                  <a:pt x="1454036" y="632540"/>
                  <a:pt x="1455737" y="631950"/>
                  <a:pt x="1457325" y="631950"/>
                </a:cubicBezTo>
              </a:path>
            </a:pathLst>
          </a:custGeom>
          <a:noFill/>
          <a:ln w="38160">
            <a:solidFill>
              <a:srgbClr val="ffff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6" name="Freeform 21"/>
          <p:cNvSpPr/>
          <p:nvPr/>
        </p:nvSpPr>
        <p:spPr>
          <a:xfrm>
            <a:off x="7315200" y="3962520"/>
            <a:ext cx="1162080" cy="633240"/>
          </a:xfrm>
          <a:custGeom>
            <a:avLst/>
            <a:gdLst/>
            <a:ahLst/>
            <a:rect l="l" t="t" r="r" b="b"/>
            <a:pathLst>
              <a:path w="1162050" h="633412">
                <a:moveTo>
                  <a:pt x="0" y="0"/>
                </a:moveTo>
                <a:cubicBezTo>
                  <a:pt x="4763" y="794"/>
                  <a:pt x="9604" y="1210"/>
                  <a:pt x="14288" y="2381"/>
                </a:cubicBezTo>
                <a:cubicBezTo>
                  <a:pt x="19158" y="3599"/>
                  <a:pt x="23813" y="5556"/>
                  <a:pt x="28575" y="7144"/>
                </a:cubicBezTo>
                <a:cubicBezTo>
                  <a:pt x="30956" y="7938"/>
                  <a:pt x="33243" y="9112"/>
                  <a:pt x="35719" y="9525"/>
                </a:cubicBezTo>
                <a:lnTo>
                  <a:pt x="50007" y="11906"/>
                </a:lnTo>
                <a:cubicBezTo>
                  <a:pt x="50801" y="14287"/>
                  <a:pt x="51779" y="16615"/>
                  <a:pt x="52388" y="19050"/>
                </a:cubicBezTo>
                <a:cubicBezTo>
                  <a:pt x="57289" y="38657"/>
                  <a:pt x="52269" y="23398"/>
                  <a:pt x="57150" y="40481"/>
                </a:cubicBezTo>
                <a:cubicBezTo>
                  <a:pt x="57840" y="42895"/>
                  <a:pt x="57757" y="45850"/>
                  <a:pt x="59532" y="47625"/>
                </a:cubicBezTo>
                <a:cubicBezTo>
                  <a:pt x="61307" y="49400"/>
                  <a:pt x="64294" y="49212"/>
                  <a:pt x="66675" y="50006"/>
                </a:cubicBezTo>
                <a:cubicBezTo>
                  <a:pt x="69056" y="51594"/>
                  <a:pt x="71204" y="53607"/>
                  <a:pt x="73819" y="54769"/>
                </a:cubicBezTo>
                <a:cubicBezTo>
                  <a:pt x="90635" y="62243"/>
                  <a:pt x="98130" y="60302"/>
                  <a:pt x="119063" y="61912"/>
                </a:cubicBezTo>
                <a:cubicBezTo>
                  <a:pt x="119857" y="65881"/>
                  <a:pt x="120023" y="70029"/>
                  <a:pt x="121444" y="73819"/>
                </a:cubicBezTo>
                <a:cubicBezTo>
                  <a:pt x="122449" y="76499"/>
                  <a:pt x="123972" y="79174"/>
                  <a:pt x="126207" y="80962"/>
                </a:cubicBezTo>
                <a:cubicBezTo>
                  <a:pt x="128167" y="82530"/>
                  <a:pt x="130859" y="83033"/>
                  <a:pt x="133350" y="83344"/>
                </a:cubicBezTo>
                <a:cubicBezTo>
                  <a:pt x="143620" y="84628"/>
                  <a:pt x="153988" y="84931"/>
                  <a:pt x="164307" y="85725"/>
                </a:cubicBezTo>
                <a:cubicBezTo>
                  <a:pt x="165221" y="91210"/>
                  <a:pt x="166139" y="101295"/>
                  <a:pt x="169069" y="107156"/>
                </a:cubicBezTo>
                <a:cubicBezTo>
                  <a:pt x="170349" y="109716"/>
                  <a:pt x="171597" y="112512"/>
                  <a:pt x="173832" y="114300"/>
                </a:cubicBezTo>
                <a:cubicBezTo>
                  <a:pt x="176906" y="116760"/>
                  <a:pt x="195139" y="119055"/>
                  <a:pt x="195263" y="119062"/>
                </a:cubicBezTo>
                <a:cubicBezTo>
                  <a:pt x="217464" y="120368"/>
                  <a:pt x="239713" y="120650"/>
                  <a:pt x="261938" y="121444"/>
                </a:cubicBezTo>
                <a:cubicBezTo>
                  <a:pt x="264319" y="122238"/>
                  <a:pt x="267307" y="122050"/>
                  <a:pt x="269082" y="123825"/>
                </a:cubicBezTo>
                <a:cubicBezTo>
                  <a:pt x="273129" y="127872"/>
                  <a:pt x="278607" y="138112"/>
                  <a:pt x="278607" y="138112"/>
                </a:cubicBezTo>
                <a:cubicBezTo>
                  <a:pt x="279401" y="140493"/>
                  <a:pt x="281097" y="142748"/>
                  <a:pt x="280988" y="145256"/>
                </a:cubicBezTo>
                <a:cubicBezTo>
                  <a:pt x="279233" y="185603"/>
                  <a:pt x="280757" y="179283"/>
                  <a:pt x="273844" y="200025"/>
                </a:cubicBezTo>
                <a:cubicBezTo>
                  <a:pt x="275415" y="228304"/>
                  <a:pt x="274236" y="235320"/>
                  <a:pt x="278607" y="257175"/>
                </a:cubicBezTo>
                <a:cubicBezTo>
                  <a:pt x="279696" y="262622"/>
                  <a:pt x="280909" y="269971"/>
                  <a:pt x="285750" y="273844"/>
                </a:cubicBezTo>
                <a:cubicBezTo>
                  <a:pt x="288835" y="276312"/>
                  <a:pt x="307037" y="278582"/>
                  <a:pt x="307182" y="278606"/>
                </a:cubicBezTo>
                <a:cubicBezTo>
                  <a:pt x="306388" y="300037"/>
                  <a:pt x="307634" y="321642"/>
                  <a:pt x="304800" y="342900"/>
                </a:cubicBezTo>
                <a:cubicBezTo>
                  <a:pt x="304355" y="346238"/>
                  <a:pt x="299292" y="347100"/>
                  <a:pt x="297657" y="350044"/>
                </a:cubicBezTo>
                <a:cubicBezTo>
                  <a:pt x="295219" y="354432"/>
                  <a:pt x="292894" y="364331"/>
                  <a:pt x="292894" y="364331"/>
                </a:cubicBezTo>
                <a:cubicBezTo>
                  <a:pt x="293688" y="372269"/>
                  <a:pt x="291401" y="381171"/>
                  <a:pt x="295275" y="388144"/>
                </a:cubicBezTo>
                <a:cubicBezTo>
                  <a:pt x="296864" y="391005"/>
                  <a:pt x="301653" y="386661"/>
                  <a:pt x="304800" y="385762"/>
                </a:cubicBezTo>
                <a:cubicBezTo>
                  <a:pt x="307214" y="385072"/>
                  <a:pt x="309637" y="384370"/>
                  <a:pt x="311944" y="383381"/>
                </a:cubicBezTo>
                <a:cubicBezTo>
                  <a:pt x="315207" y="381983"/>
                  <a:pt x="318101" y="379742"/>
                  <a:pt x="321469" y="378619"/>
                </a:cubicBezTo>
                <a:cubicBezTo>
                  <a:pt x="325309" y="377339"/>
                  <a:pt x="329406" y="377031"/>
                  <a:pt x="333375" y="376237"/>
                </a:cubicBezTo>
                <a:cubicBezTo>
                  <a:pt x="334169" y="373856"/>
                  <a:pt x="335067" y="371507"/>
                  <a:pt x="335757" y="369094"/>
                </a:cubicBezTo>
                <a:cubicBezTo>
                  <a:pt x="336656" y="365947"/>
                  <a:pt x="336094" y="362125"/>
                  <a:pt x="338138" y="359569"/>
                </a:cubicBezTo>
                <a:cubicBezTo>
                  <a:pt x="339706" y="357609"/>
                  <a:pt x="342901" y="357981"/>
                  <a:pt x="345282" y="357187"/>
                </a:cubicBezTo>
                <a:cubicBezTo>
                  <a:pt x="354807" y="357981"/>
                  <a:pt x="364383" y="358306"/>
                  <a:pt x="373857" y="359569"/>
                </a:cubicBezTo>
                <a:cubicBezTo>
                  <a:pt x="382016" y="360657"/>
                  <a:pt x="380848" y="363064"/>
                  <a:pt x="388144" y="366712"/>
                </a:cubicBezTo>
                <a:cubicBezTo>
                  <a:pt x="390389" y="367835"/>
                  <a:pt x="392907" y="368300"/>
                  <a:pt x="395288" y="369094"/>
                </a:cubicBezTo>
                <a:cubicBezTo>
                  <a:pt x="396082" y="385763"/>
                  <a:pt x="394810" y="402659"/>
                  <a:pt x="397669" y="419100"/>
                </a:cubicBezTo>
                <a:cubicBezTo>
                  <a:pt x="398159" y="421920"/>
                  <a:pt x="402198" y="422700"/>
                  <a:pt x="404813" y="423862"/>
                </a:cubicBezTo>
                <a:cubicBezTo>
                  <a:pt x="409400" y="425901"/>
                  <a:pt x="414338" y="427037"/>
                  <a:pt x="419100" y="428625"/>
                </a:cubicBezTo>
                <a:lnTo>
                  <a:pt x="426244" y="431006"/>
                </a:lnTo>
                <a:cubicBezTo>
                  <a:pt x="428625" y="432594"/>
                  <a:pt x="431503" y="433615"/>
                  <a:pt x="433388" y="435769"/>
                </a:cubicBezTo>
                <a:cubicBezTo>
                  <a:pt x="437157" y="440076"/>
                  <a:pt x="442913" y="450056"/>
                  <a:pt x="442913" y="450056"/>
                </a:cubicBezTo>
                <a:cubicBezTo>
                  <a:pt x="448580" y="467059"/>
                  <a:pt x="444890" y="460167"/>
                  <a:pt x="452438" y="471487"/>
                </a:cubicBezTo>
                <a:cubicBezTo>
                  <a:pt x="453983" y="477668"/>
                  <a:pt x="452822" y="484410"/>
                  <a:pt x="461963" y="483394"/>
                </a:cubicBezTo>
                <a:cubicBezTo>
                  <a:pt x="466952" y="482840"/>
                  <a:pt x="472073" y="481416"/>
                  <a:pt x="476250" y="478631"/>
                </a:cubicBezTo>
                <a:lnTo>
                  <a:pt x="490538" y="469106"/>
                </a:lnTo>
                <a:cubicBezTo>
                  <a:pt x="492125" y="466725"/>
                  <a:pt x="493276" y="463986"/>
                  <a:pt x="495300" y="461962"/>
                </a:cubicBezTo>
                <a:cubicBezTo>
                  <a:pt x="502920" y="454342"/>
                  <a:pt x="506731" y="460058"/>
                  <a:pt x="495300" y="452437"/>
                </a:cubicBezTo>
                <a:cubicBezTo>
                  <a:pt x="496094" y="465137"/>
                  <a:pt x="496416" y="477875"/>
                  <a:pt x="497682" y="490537"/>
                </a:cubicBezTo>
                <a:cubicBezTo>
                  <a:pt x="498008" y="493793"/>
                  <a:pt x="498599" y="497135"/>
                  <a:pt x="500063" y="500062"/>
                </a:cubicBezTo>
                <a:cubicBezTo>
                  <a:pt x="502623" y="505182"/>
                  <a:pt x="504158" y="512540"/>
                  <a:pt x="509588" y="514350"/>
                </a:cubicBezTo>
                <a:lnTo>
                  <a:pt x="523875" y="519112"/>
                </a:lnTo>
                <a:cubicBezTo>
                  <a:pt x="524669" y="525462"/>
                  <a:pt x="525112" y="531866"/>
                  <a:pt x="526257" y="538162"/>
                </a:cubicBezTo>
                <a:cubicBezTo>
                  <a:pt x="526706" y="540632"/>
                  <a:pt x="528361" y="542811"/>
                  <a:pt x="528638" y="545306"/>
                </a:cubicBezTo>
                <a:cubicBezTo>
                  <a:pt x="529956" y="557166"/>
                  <a:pt x="524259" y="571192"/>
                  <a:pt x="531019" y="581025"/>
                </a:cubicBezTo>
                <a:cubicBezTo>
                  <a:pt x="535538" y="587599"/>
                  <a:pt x="546894" y="582612"/>
                  <a:pt x="554832" y="583406"/>
                </a:cubicBezTo>
                <a:cubicBezTo>
                  <a:pt x="557213" y="585787"/>
                  <a:pt x="559388" y="588394"/>
                  <a:pt x="561975" y="590550"/>
                </a:cubicBezTo>
                <a:cubicBezTo>
                  <a:pt x="564174" y="592382"/>
                  <a:pt x="567095" y="593288"/>
                  <a:pt x="569119" y="595312"/>
                </a:cubicBezTo>
                <a:cubicBezTo>
                  <a:pt x="571143" y="597336"/>
                  <a:pt x="571501" y="600868"/>
                  <a:pt x="573882" y="602456"/>
                </a:cubicBezTo>
                <a:cubicBezTo>
                  <a:pt x="576605" y="604271"/>
                  <a:pt x="580232" y="604043"/>
                  <a:pt x="583407" y="604837"/>
                </a:cubicBezTo>
                <a:cubicBezTo>
                  <a:pt x="585788" y="607218"/>
                  <a:pt x="587748" y="610113"/>
                  <a:pt x="590550" y="611981"/>
                </a:cubicBezTo>
                <a:cubicBezTo>
                  <a:pt x="592639" y="613373"/>
                  <a:pt x="595919" y="612587"/>
                  <a:pt x="597694" y="614362"/>
                </a:cubicBezTo>
                <a:cubicBezTo>
                  <a:pt x="599469" y="616137"/>
                  <a:pt x="598507" y="619546"/>
                  <a:pt x="600075" y="621506"/>
                </a:cubicBezTo>
                <a:cubicBezTo>
                  <a:pt x="601863" y="623741"/>
                  <a:pt x="605020" y="624437"/>
                  <a:pt x="607219" y="626269"/>
                </a:cubicBezTo>
                <a:cubicBezTo>
                  <a:pt x="609806" y="628425"/>
                  <a:pt x="611982" y="631031"/>
                  <a:pt x="614363" y="633412"/>
                </a:cubicBezTo>
                <a:cubicBezTo>
                  <a:pt x="615950" y="631031"/>
                  <a:pt x="616890" y="628057"/>
                  <a:pt x="619125" y="626269"/>
                </a:cubicBezTo>
                <a:cubicBezTo>
                  <a:pt x="621568" y="624315"/>
                  <a:pt x="637578" y="621625"/>
                  <a:pt x="638175" y="621506"/>
                </a:cubicBezTo>
                <a:cubicBezTo>
                  <a:pt x="638969" y="619125"/>
                  <a:pt x="638782" y="616137"/>
                  <a:pt x="640557" y="614362"/>
                </a:cubicBezTo>
                <a:cubicBezTo>
                  <a:pt x="645486" y="609433"/>
                  <a:pt x="655969" y="608423"/>
                  <a:pt x="661988" y="607219"/>
                </a:cubicBezTo>
                <a:cubicBezTo>
                  <a:pt x="665163" y="608806"/>
                  <a:pt x="668250" y="610583"/>
                  <a:pt x="671513" y="611981"/>
                </a:cubicBezTo>
                <a:cubicBezTo>
                  <a:pt x="673820" y="612970"/>
                  <a:pt x="676326" y="615294"/>
                  <a:pt x="678657" y="614362"/>
                </a:cubicBezTo>
                <a:cubicBezTo>
                  <a:pt x="681314" y="613299"/>
                  <a:pt x="681999" y="609704"/>
                  <a:pt x="683419" y="607219"/>
                </a:cubicBezTo>
                <a:cubicBezTo>
                  <a:pt x="684309" y="605662"/>
                  <a:pt x="690368" y="592160"/>
                  <a:pt x="692944" y="590550"/>
                </a:cubicBezTo>
                <a:cubicBezTo>
                  <a:pt x="697201" y="587889"/>
                  <a:pt x="703055" y="588572"/>
                  <a:pt x="707232" y="585787"/>
                </a:cubicBezTo>
                <a:lnTo>
                  <a:pt x="714375" y="581025"/>
                </a:lnTo>
                <a:cubicBezTo>
                  <a:pt x="719931" y="581819"/>
                  <a:pt x="725833" y="581322"/>
                  <a:pt x="731044" y="583406"/>
                </a:cubicBezTo>
                <a:cubicBezTo>
                  <a:pt x="734171" y="584657"/>
                  <a:pt x="735264" y="588879"/>
                  <a:pt x="738188" y="590550"/>
                </a:cubicBezTo>
                <a:cubicBezTo>
                  <a:pt x="741030" y="592174"/>
                  <a:pt x="744538" y="592137"/>
                  <a:pt x="747713" y="592931"/>
                </a:cubicBezTo>
                <a:cubicBezTo>
                  <a:pt x="752475" y="592137"/>
                  <a:pt x="757287" y="591597"/>
                  <a:pt x="762000" y="590550"/>
                </a:cubicBezTo>
                <a:cubicBezTo>
                  <a:pt x="764450" y="590006"/>
                  <a:pt x="766634" y="588169"/>
                  <a:pt x="769144" y="588169"/>
                </a:cubicBezTo>
                <a:cubicBezTo>
                  <a:pt x="775543" y="588169"/>
                  <a:pt x="781844" y="589756"/>
                  <a:pt x="788194" y="590550"/>
                </a:cubicBezTo>
                <a:cubicBezTo>
                  <a:pt x="792930" y="593707"/>
                  <a:pt x="796567" y="598846"/>
                  <a:pt x="802482" y="592931"/>
                </a:cubicBezTo>
                <a:cubicBezTo>
                  <a:pt x="806529" y="588884"/>
                  <a:pt x="806577" y="580455"/>
                  <a:pt x="812007" y="578644"/>
                </a:cubicBezTo>
                <a:cubicBezTo>
                  <a:pt x="814388" y="577850"/>
                  <a:pt x="816905" y="577385"/>
                  <a:pt x="819150" y="576262"/>
                </a:cubicBezTo>
                <a:cubicBezTo>
                  <a:pt x="821710" y="574982"/>
                  <a:pt x="823663" y="572627"/>
                  <a:pt x="826294" y="571500"/>
                </a:cubicBezTo>
                <a:cubicBezTo>
                  <a:pt x="830813" y="569564"/>
                  <a:pt x="846888" y="567274"/>
                  <a:pt x="850107" y="566737"/>
                </a:cubicBezTo>
                <a:cubicBezTo>
                  <a:pt x="855814" y="549617"/>
                  <a:pt x="848892" y="570990"/>
                  <a:pt x="854869" y="550069"/>
                </a:cubicBezTo>
                <a:cubicBezTo>
                  <a:pt x="855559" y="547655"/>
                  <a:pt x="855475" y="544700"/>
                  <a:pt x="857250" y="542925"/>
                </a:cubicBezTo>
                <a:cubicBezTo>
                  <a:pt x="859760" y="540415"/>
                  <a:pt x="863247" y="538554"/>
                  <a:pt x="866775" y="538162"/>
                </a:cubicBezTo>
                <a:cubicBezTo>
                  <a:pt x="884937" y="536144"/>
                  <a:pt x="903288" y="536575"/>
                  <a:pt x="921544" y="535781"/>
                </a:cubicBezTo>
                <a:cubicBezTo>
                  <a:pt x="923925" y="534987"/>
                  <a:pt x="926178" y="533400"/>
                  <a:pt x="928688" y="533400"/>
                </a:cubicBezTo>
                <a:cubicBezTo>
                  <a:pt x="944929" y="533400"/>
                  <a:pt x="949203" y="534957"/>
                  <a:pt x="962025" y="538162"/>
                </a:cubicBezTo>
                <a:cubicBezTo>
                  <a:pt x="962819" y="540543"/>
                  <a:pt x="962839" y="543346"/>
                  <a:pt x="964407" y="545306"/>
                </a:cubicBezTo>
                <a:cubicBezTo>
                  <a:pt x="966195" y="547541"/>
                  <a:pt x="968688" y="550069"/>
                  <a:pt x="971550" y="550069"/>
                </a:cubicBezTo>
                <a:cubicBezTo>
                  <a:pt x="988294" y="550069"/>
                  <a:pt x="1004888" y="546894"/>
                  <a:pt x="1021557" y="545306"/>
                </a:cubicBezTo>
                <a:cubicBezTo>
                  <a:pt x="1023938" y="542925"/>
                  <a:pt x="1025898" y="540030"/>
                  <a:pt x="1028700" y="538162"/>
                </a:cubicBezTo>
                <a:cubicBezTo>
                  <a:pt x="1030789" y="536770"/>
                  <a:pt x="1033349" y="536058"/>
                  <a:pt x="1035844" y="535781"/>
                </a:cubicBezTo>
                <a:cubicBezTo>
                  <a:pt x="1047704" y="534463"/>
                  <a:pt x="1059657" y="534194"/>
                  <a:pt x="1071563" y="533400"/>
                </a:cubicBezTo>
                <a:cubicBezTo>
                  <a:pt x="1073150" y="531019"/>
                  <a:pt x="1075045" y="528816"/>
                  <a:pt x="1076325" y="526256"/>
                </a:cubicBezTo>
                <a:cubicBezTo>
                  <a:pt x="1077448" y="524011"/>
                  <a:pt x="1076932" y="520887"/>
                  <a:pt x="1078707" y="519112"/>
                </a:cubicBezTo>
                <a:cubicBezTo>
                  <a:pt x="1080482" y="517337"/>
                  <a:pt x="1083469" y="517525"/>
                  <a:pt x="1085850" y="516731"/>
                </a:cubicBezTo>
                <a:cubicBezTo>
                  <a:pt x="1088231" y="517525"/>
                  <a:pt x="1090749" y="517989"/>
                  <a:pt x="1092994" y="519112"/>
                </a:cubicBezTo>
                <a:cubicBezTo>
                  <a:pt x="1111459" y="528344"/>
                  <a:pt x="1089326" y="520271"/>
                  <a:pt x="1107282" y="526256"/>
                </a:cubicBezTo>
                <a:cubicBezTo>
                  <a:pt x="1108076" y="530225"/>
                  <a:pt x="1108681" y="534236"/>
                  <a:pt x="1109663" y="538162"/>
                </a:cubicBezTo>
                <a:cubicBezTo>
                  <a:pt x="1110272" y="540597"/>
                  <a:pt x="1109850" y="544087"/>
                  <a:pt x="1112044" y="545306"/>
                </a:cubicBezTo>
                <a:cubicBezTo>
                  <a:pt x="1117766" y="548485"/>
                  <a:pt x="1124744" y="548481"/>
                  <a:pt x="1131094" y="550069"/>
                </a:cubicBezTo>
                <a:cubicBezTo>
                  <a:pt x="1134269" y="550863"/>
                  <a:pt x="1137514" y="551415"/>
                  <a:pt x="1140619" y="552450"/>
                </a:cubicBezTo>
                <a:lnTo>
                  <a:pt x="1154907" y="557212"/>
                </a:lnTo>
                <a:cubicBezTo>
                  <a:pt x="1157288" y="558800"/>
                  <a:pt x="1162050" y="564837"/>
                  <a:pt x="1162050" y="561975"/>
                </a:cubicBezTo>
                <a:lnTo>
                  <a:pt x="1150144" y="550069"/>
                </a:lnTo>
              </a:path>
            </a:pathLst>
          </a:custGeom>
          <a:noFill/>
          <a:ln w="38160">
            <a:solidFill>
              <a:srgbClr val="ffff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7" name="4-Point Star 22"/>
          <p:cNvSpPr/>
          <p:nvPr/>
        </p:nvSpPr>
        <p:spPr>
          <a:xfrm>
            <a:off x="1752480" y="3276720"/>
            <a:ext cx="92160" cy="91800"/>
          </a:xfrm>
          <a:custGeom>
            <a:avLst/>
            <a:gdLst>
              <a:gd name="textAreaLeft" fmla="*/ 37800 w 92160"/>
              <a:gd name="textAreaRight" fmla="*/ 54360 w 92160"/>
              <a:gd name="textAreaTop" fmla="*/ 37800 h 91800"/>
              <a:gd name="textAreaBottom" fmla="*/ 54000 h 918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b0f0"/>
          </a:solidFill>
          <a:ln w="25560">
            <a:solidFill>
              <a:srgbClr val="ef75c6"/>
            </a:solidFill>
            <a:miter/>
          </a:ln>
        </p:spPr>
        <p:style>
          <a:lnRef idx="0"/>
          <a:fillRef idx="0"/>
          <a:effectRef idx="0"/>
          <a:fontRef idx="minor"/>
        </p:style>
        <p:txBody>
          <a:bodyPr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8" name="4-Point Star 23"/>
          <p:cNvSpPr/>
          <p:nvPr/>
        </p:nvSpPr>
        <p:spPr>
          <a:xfrm>
            <a:off x="2438280" y="3733920"/>
            <a:ext cx="92160" cy="91800"/>
          </a:xfrm>
          <a:custGeom>
            <a:avLst/>
            <a:gdLst>
              <a:gd name="textAreaLeft" fmla="*/ 37800 w 92160"/>
              <a:gd name="textAreaRight" fmla="*/ 54360 w 92160"/>
              <a:gd name="textAreaTop" fmla="*/ 37800 h 91800"/>
              <a:gd name="textAreaBottom" fmla="*/ 54000 h 918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b0f0"/>
          </a:solidFill>
          <a:ln w="25560">
            <a:solidFill>
              <a:srgbClr val="ef75c6"/>
            </a:solidFill>
            <a:miter/>
          </a:ln>
        </p:spPr>
        <p:style>
          <a:lnRef idx="0"/>
          <a:fillRef idx="0"/>
          <a:effectRef idx="0"/>
          <a:fontRef idx="minor"/>
        </p:style>
        <p:txBody>
          <a:bodyPr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4-Point Star 24"/>
          <p:cNvSpPr/>
          <p:nvPr/>
        </p:nvSpPr>
        <p:spPr>
          <a:xfrm>
            <a:off x="1981080" y="3657600"/>
            <a:ext cx="92160" cy="92160"/>
          </a:xfrm>
          <a:custGeom>
            <a:avLst/>
            <a:gdLst>
              <a:gd name="textAreaLeft" fmla="*/ 37800 w 92160"/>
              <a:gd name="textAreaRight" fmla="*/ 54360 w 92160"/>
              <a:gd name="textAreaTop" fmla="*/ 37800 h 92160"/>
              <a:gd name="textAreaBottom" fmla="*/ 54360 h 921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b0f0"/>
          </a:solidFill>
          <a:ln w="25560">
            <a:solidFill>
              <a:srgbClr val="ef75c6"/>
            </a:solidFill>
            <a:miter/>
          </a:ln>
        </p:spPr>
        <p:style>
          <a:lnRef idx="0"/>
          <a:fillRef idx="0"/>
          <a:effectRef idx="0"/>
          <a:fontRef idx="minor"/>
        </p:style>
        <p:txBody>
          <a:bodyPr lIns="90000" rIns="9000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4-Point Star 25"/>
          <p:cNvSpPr/>
          <p:nvPr/>
        </p:nvSpPr>
        <p:spPr>
          <a:xfrm>
            <a:off x="1828800" y="3962520"/>
            <a:ext cx="92160" cy="91800"/>
          </a:xfrm>
          <a:custGeom>
            <a:avLst/>
            <a:gdLst>
              <a:gd name="textAreaLeft" fmla="*/ 37800 w 92160"/>
              <a:gd name="textAreaRight" fmla="*/ 54360 w 92160"/>
              <a:gd name="textAreaTop" fmla="*/ 37800 h 91800"/>
              <a:gd name="textAreaBottom" fmla="*/ 54000 h 918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b0f0"/>
          </a:solidFill>
          <a:ln w="25560">
            <a:solidFill>
              <a:srgbClr val="ef75c6"/>
            </a:solidFill>
            <a:miter/>
          </a:ln>
        </p:spPr>
        <p:style>
          <a:lnRef idx="0"/>
          <a:fillRef idx="0"/>
          <a:effectRef idx="0"/>
          <a:fontRef idx="minor"/>
        </p:style>
        <p:txBody>
          <a:bodyPr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1" name="4-Point Star 28"/>
          <p:cNvSpPr/>
          <p:nvPr/>
        </p:nvSpPr>
        <p:spPr>
          <a:xfrm>
            <a:off x="3352680" y="3733920"/>
            <a:ext cx="92160" cy="91800"/>
          </a:xfrm>
          <a:custGeom>
            <a:avLst/>
            <a:gdLst>
              <a:gd name="textAreaLeft" fmla="*/ 37800 w 92160"/>
              <a:gd name="textAreaRight" fmla="*/ 54360 w 92160"/>
              <a:gd name="textAreaTop" fmla="*/ 37800 h 91800"/>
              <a:gd name="textAreaBottom" fmla="*/ 54000 h 918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b0f0"/>
          </a:solidFill>
          <a:ln w="25560">
            <a:solidFill>
              <a:srgbClr val="ef75c6"/>
            </a:solidFill>
            <a:miter/>
          </a:ln>
        </p:spPr>
        <p:style>
          <a:lnRef idx="0"/>
          <a:fillRef idx="0"/>
          <a:effectRef idx="0"/>
          <a:fontRef idx="minor"/>
        </p:style>
        <p:txBody>
          <a:bodyPr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 name="4-Point Star 29"/>
          <p:cNvSpPr/>
          <p:nvPr/>
        </p:nvSpPr>
        <p:spPr>
          <a:xfrm flipH="1" flipV="1">
            <a:off x="5333400" y="3581280"/>
            <a:ext cx="75960" cy="76320"/>
          </a:xfrm>
          <a:custGeom>
            <a:avLst/>
            <a:gdLst>
              <a:gd name="textAreaLeft" fmla="*/ 31320 w 75960"/>
              <a:gd name="textAreaRight" fmla="*/ 44640 w 75960"/>
              <a:gd name="textAreaTop" fmla="*/ 31320 h 76320"/>
              <a:gd name="textAreaBottom" fmla="*/ 45000 h 76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b0f0"/>
          </a:solidFill>
          <a:ln w="25560">
            <a:solidFill>
              <a:srgbClr val="ef75c6"/>
            </a:solidFill>
            <a:miter/>
          </a:ln>
        </p:spPr>
        <p:style>
          <a:lnRef idx="0"/>
          <a:fillRef idx="0"/>
          <a:effectRef idx="0"/>
          <a:fontRef idx="minor"/>
        </p:style>
        <p:txBody>
          <a:bodyPr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3" name="4-Point Star 30"/>
          <p:cNvSpPr/>
          <p:nvPr/>
        </p:nvSpPr>
        <p:spPr>
          <a:xfrm>
            <a:off x="8153280" y="4419720"/>
            <a:ext cx="92160" cy="91800"/>
          </a:xfrm>
          <a:custGeom>
            <a:avLst/>
            <a:gdLst>
              <a:gd name="textAreaLeft" fmla="*/ 34560 w 92160"/>
              <a:gd name="textAreaRight" fmla="*/ 57600 w 92160"/>
              <a:gd name="textAreaTop" fmla="*/ 34560 h 91800"/>
              <a:gd name="textAreaBottom" fmla="*/ 57240 h 91800"/>
            </a:gdLst>
            <a:ahLst/>
            <a:rect l="textAreaLeft" t="textAreaTop" r="textAreaRight" b="textAreaBottom"/>
            <a:pathLst>
              <a:path w="21600" h="21600">
                <a:moveTo>
                  <a:pt x="0" y="10800"/>
                </a:moveTo>
                <a:lnTo>
                  <a:pt x="8108" y="8108"/>
                </a:lnTo>
                <a:lnTo>
                  <a:pt x="10800" y="0"/>
                </a:lnTo>
                <a:lnTo>
                  <a:pt x="13492" y="8108"/>
                </a:lnTo>
                <a:lnTo>
                  <a:pt x="21600" y="10800"/>
                </a:lnTo>
                <a:lnTo>
                  <a:pt x="13492" y="13492"/>
                </a:lnTo>
                <a:lnTo>
                  <a:pt x="10800" y="21600"/>
                </a:lnTo>
                <a:lnTo>
                  <a:pt x="8108" y="13492"/>
                </a:lnTo>
                <a:lnTo>
                  <a:pt x="0" y="10800"/>
                </a:lnTo>
                <a:close/>
              </a:path>
            </a:pathLst>
          </a:custGeom>
          <a:solidFill>
            <a:srgbClr val="00b0f0"/>
          </a:solidFill>
          <a:ln w="25560">
            <a:solidFill>
              <a:srgbClr val="ef75c6"/>
            </a:solidFill>
            <a:miter/>
          </a:ln>
        </p:spPr>
        <p:style>
          <a:lnRef idx="0"/>
          <a:fillRef idx="0"/>
          <a:effectRef idx="0"/>
          <a:fontRef idx="minor"/>
        </p:style>
        <p:txBody>
          <a:bodyPr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4" name="4-Point Star 31"/>
          <p:cNvSpPr/>
          <p:nvPr/>
        </p:nvSpPr>
        <p:spPr>
          <a:xfrm flipH="1" flipV="1">
            <a:off x="6172200" y="3352680"/>
            <a:ext cx="76320" cy="76320"/>
          </a:xfrm>
          <a:custGeom>
            <a:avLst/>
            <a:gdLst>
              <a:gd name="textAreaLeft" fmla="*/ 31320 w 76320"/>
              <a:gd name="textAreaRight" fmla="*/ 45000 w 76320"/>
              <a:gd name="textAreaTop" fmla="*/ 31320 h 76320"/>
              <a:gd name="textAreaBottom" fmla="*/ 45000 h 76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b0f0"/>
          </a:solidFill>
          <a:ln w="25560">
            <a:solidFill>
              <a:srgbClr val="ef75c6"/>
            </a:solidFill>
            <a:miter/>
          </a:ln>
        </p:spPr>
        <p:style>
          <a:lnRef idx="0"/>
          <a:fillRef idx="0"/>
          <a:effectRef idx="0"/>
          <a:fontRef idx="minor"/>
        </p:style>
        <p:txBody>
          <a:bodyPr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PlaceHolder 1"/>
          <p:cNvSpPr>
            <a:spLocks noGrp="1"/>
          </p:cNvSpPr>
          <p:nvPr>
            <p:ph type="title"/>
          </p:nvPr>
        </p:nvSpPr>
        <p:spPr>
          <a:xfrm>
            <a:off x="415800" y="225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ilbert Creek</a:t>
            </a:r>
            <a:endParaRPr b="0" lang="en-US" sz="4400" spc="-1" strike="noStrike">
              <a:solidFill>
                <a:srgbClr val="000000"/>
              </a:solidFill>
              <a:latin typeface="Calibri"/>
            </a:endParaRPr>
          </a:p>
        </p:txBody>
      </p:sp>
      <p:grpSp>
        <p:nvGrpSpPr>
          <p:cNvPr id="196" name="Group 33"/>
          <p:cNvGrpSpPr/>
          <p:nvPr/>
        </p:nvGrpSpPr>
        <p:grpSpPr>
          <a:xfrm>
            <a:off x="0" y="5562720"/>
            <a:ext cx="9144000" cy="1298520"/>
            <a:chOff x="0" y="5562720"/>
            <a:chExt cx="9144000" cy="1298520"/>
          </a:xfrm>
        </p:grpSpPr>
        <p:sp>
          <p:nvSpPr>
            <p:cNvPr id="197" name="Rectangle 34"/>
            <p:cNvSpPr/>
            <p:nvPr/>
          </p:nvSpPr>
          <p:spPr>
            <a:xfrm>
              <a:off x="0" y="6070680"/>
              <a:ext cx="9144000" cy="79056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8" name="Picture 11" descr="shield--black.png"/>
            <p:cNvPicPr/>
            <p:nvPr/>
          </p:nvPicPr>
          <p:blipFill>
            <a:blip r:embed="rId2"/>
            <a:stretch/>
          </p:blipFill>
          <p:spPr>
            <a:xfrm>
              <a:off x="228600" y="5562720"/>
              <a:ext cx="1460520" cy="1295640"/>
            </a:xfrm>
            <a:prstGeom prst="rect">
              <a:avLst/>
            </a:prstGeom>
            <a:ln w="0">
              <a:noFill/>
            </a:ln>
          </p:spPr>
        </p:pic>
        <p:sp>
          <p:nvSpPr>
            <p:cNvPr id="199" name="TextBox 4"/>
            <p:cNvSpPr/>
            <p:nvPr/>
          </p:nvSpPr>
          <p:spPr>
            <a:xfrm>
              <a:off x="1752480" y="6172200"/>
              <a:ext cx="43988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DEPARTMENT OF BIOLOGY</a:t>
              </a:r>
              <a:br>
                <a:rPr sz="1000"/>
              </a:br>
              <a:r>
                <a:rPr b="0" lang="en-US" sz="1000" spc="-1" strike="noStrike">
                  <a:solidFill>
                    <a:srgbClr val="ffffff"/>
                  </a:solidFill>
                  <a:latin typeface="Arial"/>
                  <a:ea typeface="Arial"/>
                </a:rPr>
                <a:t>Inspiring Innovation    Learn more at www.uwstout.edu/</a:t>
              </a:r>
              <a:endParaRPr b="0" lang="en-US" sz="1000" spc="-1" strike="noStrike">
                <a:solidFill>
                  <a:srgbClr val="000000"/>
                </a:solidFill>
                <a:latin typeface="Calibri"/>
              </a:endParaRPr>
            </a:p>
          </p:txBody>
        </p:sp>
      </p:grpSp>
      <p:pic>
        <p:nvPicPr>
          <p:cNvPr id="200" name="Picture 2" descr="C:\Users\bomarc\AppData\Local\Microsoft\Windows\Temporary Internet Files\Content.IE5\KI39TCJ2\MC900239015[1].wmf"/>
          <p:cNvPicPr/>
          <p:nvPr/>
        </p:nvPicPr>
        <p:blipFill>
          <a:blip r:embed="rId3"/>
          <a:stretch/>
        </p:blipFill>
        <p:spPr>
          <a:xfrm>
            <a:off x="8199360" y="4944960"/>
            <a:ext cx="827280" cy="1006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metimes local residents are incompatible</a:t>
            </a:r>
            <a:endParaRPr b="0" lang="en-US" sz="4000" spc="-1" strike="noStrike">
              <a:solidFill>
                <a:srgbClr val="000000"/>
              </a:solidFill>
              <a:latin typeface="Calibri"/>
            </a:endParaRPr>
          </a:p>
        </p:txBody>
      </p:sp>
      <p:sp>
        <p:nvSpPr>
          <p:cNvPr id="202" name="Rectangle 3"/>
          <p:cNvSpPr/>
          <p:nvPr/>
        </p:nvSpPr>
        <p:spPr>
          <a:xfrm>
            <a:off x="0" y="6070680"/>
            <a:ext cx="9144000" cy="79056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03" name="Picture 4" descr="IMG_0442"/>
          <p:cNvPicPr/>
          <p:nvPr/>
        </p:nvPicPr>
        <p:blipFill>
          <a:blip r:embed="rId1"/>
          <a:stretch/>
        </p:blipFill>
        <p:spPr>
          <a:xfrm>
            <a:off x="228600" y="1752480"/>
            <a:ext cx="3805200" cy="4157640"/>
          </a:xfrm>
          <a:prstGeom prst="rect">
            <a:avLst/>
          </a:prstGeom>
          <a:ln w="0">
            <a:noFill/>
          </a:ln>
        </p:spPr>
      </p:pic>
      <p:pic>
        <p:nvPicPr>
          <p:cNvPr id="204" name="Picture 11" descr="shield--black.png"/>
          <p:cNvPicPr/>
          <p:nvPr/>
        </p:nvPicPr>
        <p:blipFill>
          <a:blip r:embed="rId2"/>
          <a:stretch/>
        </p:blipFill>
        <p:spPr>
          <a:xfrm>
            <a:off x="228600" y="5562720"/>
            <a:ext cx="1460520" cy="1295280"/>
          </a:xfrm>
          <a:prstGeom prst="rect">
            <a:avLst/>
          </a:prstGeom>
          <a:ln w="0">
            <a:noFill/>
          </a:ln>
        </p:spPr>
      </p:pic>
      <p:sp>
        <p:nvSpPr>
          <p:cNvPr id="205" name="TextBox 4"/>
          <p:cNvSpPr/>
          <p:nvPr/>
        </p:nvSpPr>
        <p:spPr>
          <a:xfrm>
            <a:off x="1752480" y="6172200"/>
            <a:ext cx="4399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DEPARTMENT OF BIOLOGY</a:t>
            </a:r>
            <a:br>
              <a:rPr sz="1000"/>
            </a:br>
            <a:r>
              <a:rPr b="0" lang="en-US" sz="1000" spc="-1" strike="noStrike">
                <a:solidFill>
                  <a:srgbClr val="ffffff"/>
                </a:solidFill>
                <a:latin typeface="Arial"/>
                <a:ea typeface="Arial"/>
              </a:rPr>
              <a:t>Inspiring Innovation    Learn more at www.uwstout.edu/</a:t>
            </a:r>
            <a:endParaRPr b="0" lang="en-US" sz="1000" spc="-1" strike="noStrike">
              <a:solidFill>
                <a:srgbClr val="000000"/>
              </a:solidFill>
              <a:latin typeface="Calibri"/>
            </a:endParaRPr>
          </a:p>
        </p:txBody>
      </p:sp>
      <p:pic>
        <p:nvPicPr>
          <p:cNvPr id="206" name="Picture 12" descr="DSCN0065"/>
          <p:cNvPicPr/>
          <p:nvPr/>
        </p:nvPicPr>
        <p:blipFill>
          <a:blip r:embed="rId3"/>
          <a:srcRect l="0" t="0" r="14280" b="0"/>
          <a:stretch/>
        </p:blipFill>
        <p:spPr>
          <a:xfrm>
            <a:off x="4065480" y="1757520"/>
            <a:ext cx="4751640" cy="415764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4" descr="DSCN0052"/>
          <p:cNvPicPr/>
          <p:nvPr/>
        </p:nvPicPr>
        <p:blipFill>
          <a:blip r:embed="rId1"/>
          <a:stretch/>
        </p:blipFill>
        <p:spPr>
          <a:xfrm>
            <a:off x="11160" y="2928960"/>
            <a:ext cx="4878360" cy="3657600"/>
          </a:xfrm>
          <a:prstGeom prst="rect">
            <a:avLst/>
          </a:prstGeom>
          <a:ln w="0">
            <a:noFill/>
          </a:ln>
        </p:spPr>
      </p:pic>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streams</a:t>
            </a:r>
            <a:endParaRPr b="0" lang="en-US" sz="4400" spc="-1" strike="noStrike">
              <a:solidFill>
                <a:srgbClr val="000000"/>
              </a:solidFill>
              <a:latin typeface="Calibri"/>
            </a:endParaRPr>
          </a:p>
        </p:txBody>
      </p:sp>
      <p:sp>
        <p:nvSpPr>
          <p:cNvPr id="2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cause of incompatibility, we occasionally need to make corrections</a:t>
            </a:r>
            <a:endParaRPr b="0" lang="en-US" sz="3200" spc="-1" strike="noStrike">
              <a:solidFill>
                <a:srgbClr val="000000"/>
              </a:solidFill>
              <a:latin typeface="Calibri"/>
            </a:endParaRPr>
          </a:p>
        </p:txBody>
      </p:sp>
      <p:pic>
        <p:nvPicPr>
          <p:cNvPr id="210" name="Picture 4" descr="DSCN0047"/>
          <p:cNvPicPr/>
          <p:nvPr/>
        </p:nvPicPr>
        <p:blipFill>
          <a:blip r:embed="rId2"/>
          <a:stretch/>
        </p:blipFill>
        <p:spPr>
          <a:xfrm>
            <a:off x="4249800" y="2895480"/>
            <a:ext cx="4878360" cy="3657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ater</a:t>
            </a:r>
            <a:endParaRPr b="0" lang="en-US" sz="4400" spc="-1" strike="noStrike">
              <a:solidFill>
                <a:srgbClr val="000000"/>
              </a:solidFill>
              <a:latin typeface="Calibri"/>
            </a:endParaRPr>
          </a:p>
        </p:txBody>
      </p:sp>
      <p:sp>
        <p:nvSpPr>
          <p:cNvPr id="212" name=""/>
          <p:cNvSpPr txBox="1"/>
          <p:nvPr/>
        </p:nvSpPr>
        <p:spPr>
          <a:xfrm>
            <a:off x="457200" y="1295280"/>
            <a:ext cx="8229600" cy="452592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s in the water ?</a:t>
            </a:r>
            <a:endParaRPr b="0" lang="en-US" sz="2400" spc="-1" strike="noStrike">
              <a:solidFill>
                <a:srgbClr val="000000"/>
              </a:solidFill>
              <a:latin typeface="Calibri"/>
            </a:endParaRPr>
          </a:p>
          <a:p>
            <a:pPr lvl="1" marL="831240" indent="-44316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Monitor-easy</a:t>
            </a:r>
            <a:endParaRPr b="0" lang="en-US" sz="2100" spc="-1" strike="noStrike">
              <a:solidFill>
                <a:srgbClr val="000000"/>
              </a:solidFill>
              <a:latin typeface="Calibri"/>
            </a:endParaRPr>
          </a:p>
          <a:p>
            <a:pPr lvl="2" marL="1219680" indent="-44316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urbidity</a:t>
            </a:r>
            <a:endParaRPr b="0" lang="en-US" sz="1700" spc="-1" strike="noStrike">
              <a:solidFill>
                <a:srgbClr val="000000"/>
              </a:solidFill>
              <a:latin typeface="Calibri"/>
            </a:endParaRPr>
          </a:p>
          <a:p>
            <a:pPr lvl="2" marL="1219680" indent="-44316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diment </a:t>
            </a:r>
            <a:endParaRPr b="0" lang="en-US" sz="1700" spc="-1" strike="noStrike">
              <a:solidFill>
                <a:srgbClr val="000000"/>
              </a:solidFill>
              <a:latin typeface="Calibri"/>
            </a:endParaRPr>
          </a:p>
          <a:p>
            <a:pPr lvl="2" marL="1219680" indent="-44316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tream flow</a:t>
            </a:r>
            <a:endParaRPr b="0" lang="en-US" sz="1700" spc="-1" strike="noStrike">
              <a:solidFill>
                <a:srgbClr val="000000"/>
              </a:solidFill>
              <a:latin typeface="Calibri"/>
            </a:endParaRPr>
          </a:p>
          <a:p>
            <a:pPr lvl="2" marL="1219680" indent="-44316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sects</a:t>
            </a:r>
            <a:endParaRPr b="0" lang="en-US" sz="1700" spc="-1" strike="noStrike">
              <a:solidFill>
                <a:srgbClr val="000000"/>
              </a:solidFill>
              <a:latin typeface="Calibri"/>
            </a:endParaRPr>
          </a:p>
          <a:p>
            <a:pPr lvl="2" marL="1219680" indent="-44316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219680" indent="-44316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831240" indent="-44316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Monitor-less easy</a:t>
            </a:r>
            <a:endParaRPr b="0" lang="en-US" sz="2100" spc="-1" strike="noStrike">
              <a:solidFill>
                <a:srgbClr val="000000"/>
              </a:solidFill>
              <a:latin typeface="Calibri"/>
            </a:endParaRPr>
          </a:p>
          <a:p>
            <a:pPr lvl="2" marL="1219680" indent="-44316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dO</a:t>
            </a:r>
            <a:r>
              <a:rPr b="0" lang="en-US" sz="1700" spc="-1" strike="noStrike" baseline="-25000">
                <a:solidFill>
                  <a:srgbClr val="000000"/>
                </a:solidFill>
                <a:latin typeface="Calibri"/>
              </a:rPr>
              <a:t>2 </a:t>
            </a:r>
            <a:r>
              <a:rPr b="0" lang="en-US" sz="1700" spc="-1" strike="noStrike">
                <a:solidFill>
                  <a:srgbClr val="000000"/>
                </a:solidFill>
                <a:latin typeface="Calibri"/>
              </a:rPr>
              <a:t>or DO</a:t>
            </a:r>
            <a:endParaRPr b="0" lang="en-US" sz="1700" spc="-1" strike="noStrike">
              <a:solidFill>
                <a:srgbClr val="000000"/>
              </a:solidFill>
              <a:latin typeface="Calibri"/>
            </a:endParaRPr>
          </a:p>
          <a:p>
            <a:pPr lvl="2" marL="1219680" indent="-44316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N, P, Cl</a:t>
            </a:r>
            <a:endParaRPr b="0" lang="en-US" sz="1700" spc="-1" strike="noStrike">
              <a:solidFill>
                <a:srgbClr val="000000"/>
              </a:solidFill>
              <a:latin typeface="Calibri"/>
            </a:endParaRPr>
          </a:p>
          <a:p>
            <a:pPr lvl="2" marL="1219680" indent="-44316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Calibri"/>
              </a:rPr>
              <a:t>E. coli</a:t>
            </a:r>
            <a:r>
              <a:rPr b="0" lang="en-US" sz="1700" spc="-1" strike="noStrike">
                <a:solidFill>
                  <a:srgbClr val="000000"/>
                </a:solidFill>
                <a:latin typeface="Calibri"/>
              </a:rPr>
              <a:t>, coliforms</a:t>
            </a:r>
            <a:endParaRPr b="0" lang="en-US" sz="1700" spc="-1" strike="noStrike">
              <a:solidFill>
                <a:srgbClr val="000000"/>
              </a:solidFill>
              <a:latin typeface="Calibri"/>
            </a:endParaRPr>
          </a:p>
          <a:p>
            <a:pPr lvl="2" marL="1219680" indent="-44316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831240" indent="-44316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831240" indent="-443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tocols</a:t>
            </a:r>
            <a:endParaRPr b="0" lang="en-US" sz="2000" spc="-1" strike="noStrike">
              <a:solidFill>
                <a:srgbClr val="000000"/>
              </a:solidFill>
              <a:latin typeface="Calibri"/>
            </a:endParaRPr>
          </a:p>
          <a:p>
            <a:pPr lvl="2" marL="1219680" indent="-44316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ttp://watermonitoring.uwex.edu/   </a:t>
            </a:r>
            <a:endParaRPr b="0" lang="en-US" sz="1600" spc="-1" strike="noStrike">
              <a:solidFill>
                <a:srgbClr val="000000"/>
              </a:solidFill>
              <a:latin typeface="Calibri"/>
            </a:endParaRPr>
          </a:p>
          <a:p>
            <a:pPr lvl="2" marL="1219680" indent="-443160">
              <a:lnSpc>
                <a:spcPct val="80000"/>
              </a:lnSpc>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marL="332640" indent="-3326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endParaRPr b="0" lang="en-US" sz="1500" spc="-1" strike="noStrike">
              <a:solidFill>
                <a:srgbClr val="000000"/>
              </a:solidFill>
              <a:latin typeface="Calibri"/>
            </a:endParaRPr>
          </a:p>
        </p:txBody>
      </p:sp>
      <p:sp>
        <p:nvSpPr>
          <p:cNvPr id="213" name="Rectangle 3"/>
          <p:cNvSpPr/>
          <p:nvPr/>
        </p:nvSpPr>
        <p:spPr>
          <a:xfrm>
            <a:off x="0" y="6070680"/>
            <a:ext cx="9144000" cy="79056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14" name="Picture 11" descr="shield--black.png"/>
          <p:cNvPicPr/>
          <p:nvPr/>
        </p:nvPicPr>
        <p:blipFill>
          <a:blip r:embed="rId1"/>
          <a:stretch/>
        </p:blipFill>
        <p:spPr>
          <a:xfrm>
            <a:off x="228600" y="5562720"/>
            <a:ext cx="1460520" cy="1295280"/>
          </a:xfrm>
          <a:prstGeom prst="rect">
            <a:avLst/>
          </a:prstGeom>
          <a:ln w="0">
            <a:noFill/>
          </a:ln>
        </p:spPr>
      </p:pic>
      <p:sp>
        <p:nvSpPr>
          <p:cNvPr id="215" name="TextBox 4"/>
          <p:cNvSpPr/>
          <p:nvPr/>
        </p:nvSpPr>
        <p:spPr>
          <a:xfrm>
            <a:off x="1752480" y="6172200"/>
            <a:ext cx="4399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DEPARTMENT OF BIOLOGY</a:t>
            </a:r>
            <a:br>
              <a:rPr sz="1000"/>
            </a:br>
            <a:r>
              <a:rPr b="0" lang="en-US" sz="1000" spc="-1" strike="noStrike">
                <a:solidFill>
                  <a:srgbClr val="ffffff"/>
                </a:solidFill>
                <a:latin typeface="Arial"/>
                <a:ea typeface="Arial"/>
              </a:rPr>
              <a:t>Inspiring Innovation    Learn more at www.uwstout.edu/</a:t>
            </a:r>
            <a:endParaRPr b="0" lang="en-US" sz="1000" spc="-1" strike="noStrike">
              <a:solidFill>
                <a:srgbClr val="000000"/>
              </a:solidFill>
              <a:latin typeface="Calibri"/>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o are your watershed neighbors</a:t>
            </a:r>
            <a:endParaRPr b="0" lang="en-US" sz="4400" spc="-1" strike="noStrike">
              <a:solidFill>
                <a:srgbClr val="000000"/>
              </a:solidFill>
              <a:latin typeface="Calibri"/>
            </a:endParaRPr>
          </a:p>
        </p:txBody>
      </p:sp>
      <p:sp>
        <p:nvSpPr>
          <p:cNvPr id="2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re the local residents of your watersh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can you learn from th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can the tell you about your watershed?</a:t>
            </a:r>
            <a:endParaRPr b="0" lang="en-US" sz="3200" spc="-1" strike="noStrike">
              <a:solidFill>
                <a:srgbClr val="000000"/>
              </a:solidFill>
              <a:latin typeface="Calibri"/>
            </a:endParaRPr>
          </a:p>
        </p:txBody>
      </p:sp>
      <p:sp>
        <p:nvSpPr>
          <p:cNvPr id="218" name="Rectangle 3"/>
          <p:cNvSpPr/>
          <p:nvPr/>
        </p:nvSpPr>
        <p:spPr>
          <a:xfrm>
            <a:off x="0" y="6070680"/>
            <a:ext cx="9144000" cy="79056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19" name="Picture 11" descr="shield--black.png"/>
          <p:cNvPicPr/>
          <p:nvPr/>
        </p:nvPicPr>
        <p:blipFill>
          <a:blip r:embed="rId1"/>
          <a:stretch/>
        </p:blipFill>
        <p:spPr>
          <a:xfrm>
            <a:off x="228600" y="5562720"/>
            <a:ext cx="1460520" cy="1295280"/>
          </a:xfrm>
          <a:prstGeom prst="rect">
            <a:avLst/>
          </a:prstGeom>
          <a:ln w="0">
            <a:noFill/>
          </a:ln>
        </p:spPr>
      </p:pic>
      <p:sp>
        <p:nvSpPr>
          <p:cNvPr id="220" name="TextBox 4"/>
          <p:cNvSpPr/>
          <p:nvPr/>
        </p:nvSpPr>
        <p:spPr>
          <a:xfrm>
            <a:off x="1752480" y="6172200"/>
            <a:ext cx="4399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DEPARTMENT OF BIOLOGY</a:t>
            </a:r>
            <a:br>
              <a:rPr sz="1000"/>
            </a:br>
            <a:r>
              <a:rPr b="0" lang="en-US" sz="1000" spc="-1" strike="noStrike">
                <a:solidFill>
                  <a:srgbClr val="ffffff"/>
                </a:solidFill>
                <a:latin typeface="Arial"/>
                <a:ea typeface="Arial"/>
              </a:rPr>
              <a:t>Inspiring Innovation    Learn more at www.uwstout.edu/</a:t>
            </a:r>
            <a:endParaRPr b="0" lang="en-US" sz="1000" spc="-1" strike="noStrike">
              <a:solidFill>
                <a:srgbClr val="000000"/>
              </a:solidFill>
              <a:latin typeface="Calibri"/>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inging it home </a:t>
            </a:r>
            <a:endParaRPr b="0" lang="en-US" sz="4400" spc="-1" strike="noStrike">
              <a:solidFill>
                <a:srgbClr val="000000"/>
              </a:solidFill>
              <a:latin typeface="Calibri"/>
            </a:endParaRPr>
          </a:p>
        </p:txBody>
      </p:sp>
      <p:sp>
        <p:nvSpPr>
          <p:cNvPr id="2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do you want the community to know about your watersh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will your watershed biography to look like</a:t>
            </a:r>
            <a:endParaRPr b="0" lang="en-US" sz="3200" spc="-1" strike="noStrike">
              <a:solidFill>
                <a:srgbClr val="000000"/>
              </a:solidFill>
              <a:latin typeface="Calibri"/>
            </a:endParaRPr>
          </a:p>
        </p:txBody>
      </p:sp>
      <p:sp>
        <p:nvSpPr>
          <p:cNvPr id="223" name="Rectangle 3"/>
          <p:cNvSpPr/>
          <p:nvPr/>
        </p:nvSpPr>
        <p:spPr>
          <a:xfrm>
            <a:off x="0" y="6070680"/>
            <a:ext cx="9144000" cy="79056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24" name="Picture 11" descr="shield--black.png"/>
          <p:cNvPicPr/>
          <p:nvPr/>
        </p:nvPicPr>
        <p:blipFill>
          <a:blip r:embed="rId1"/>
          <a:stretch/>
        </p:blipFill>
        <p:spPr>
          <a:xfrm>
            <a:off x="228600" y="5562720"/>
            <a:ext cx="1460520" cy="1295280"/>
          </a:xfrm>
          <a:prstGeom prst="rect">
            <a:avLst/>
          </a:prstGeom>
          <a:ln w="0">
            <a:noFill/>
          </a:ln>
        </p:spPr>
      </p:pic>
      <p:sp>
        <p:nvSpPr>
          <p:cNvPr id="225" name="TextBox 4"/>
          <p:cNvSpPr/>
          <p:nvPr/>
        </p:nvSpPr>
        <p:spPr>
          <a:xfrm>
            <a:off x="1752480" y="6172200"/>
            <a:ext cx="4399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DEPARTMENT OF BIOLOGY</a:t>
            </a:r>
            <a:br>
              <a:rPr sz="1000"/>
            </a:br>
            <a:r>
              <a:rPr b="0" lang="en-US" sz="1000" spc="-1" strike="noStrike">
                <a:solidFill>
                  <a:srgbClr val="ffffff"/>
                </a:solidFill>
                <a:latin typeface="Arial"/>
                <a:ea typeface="Arial"/>
              </a:rPr>
              <a:t>Inspiring Innovation    Learn more at www.uwstout.edu/</a:t>
            </a:r>
            <a:endParaRPr b="0" lang="en-US" sz="10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3" descr="aerial.jpg"/>
          <p:cNvPicPr/>
          <p:nvPr/>
        </p:nvPicPr>
        <p:blipFill>
          <a:blip r:embed="rId1"/>
          <a:stretch/>
        </p:blipFill>
        <p:spPr>
          <a:xfrm>
            <a:off x="0" y="-4680"/>
            <a:ext cx="9144000" cy="6867360"/>
          </a:xfrm>
          <a:prstGeom prst="rect">
            <a:avLst/>
          </a:prstGeom>
          <a:ln w="0">
            <a:noFill/>
          </a:ln>
        </p:spPr>
      </p:pic>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a biography?</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ed a device to share multiple histori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need tell a story about</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d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nity</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umans </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d all of the</a:t>
            </a:r>
            <a:endParaRPr b="0" lang="en-US" sz="2000" spc="-1" strike="noStrike">
              <a:solidFill>
                <a:srgbClr val="000000"/>
              </a:solidFill>
              <a:latin typeface="Calibri"/>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other organisms</a:t>
            </a:r>
            <a:endParaRPr b="0" lang="en-US" sz="20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 name="Rectangle 3"/>
          <p:cNvSpPr/>
          <p:nvPr/>
        </p:nvSpPr>
        <p:spPr>
          <a:xfrm>
            <a:off x="0" y="6070680"/>
            <a:ext cx="9144000" cy="79056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7" name="Picture 11" descr="shield--black.png"/>
          <p:cNvPicPr/>
          <p:nvPr/>
        </p:nvPicPr>
        <p:blipFill>
          <a:blip r:embed="rId1"/>
          <a:stretch/>
        </p:blipFill>
        <p:spPr>
          <a:xfrm>
            <a:off x="228600" y="5562720"/>
            <a:ext cx="1460520" cy="1295280"/>
          </a:xfrm>
          <a:prstGeom prst="rect">
            <a:avLst/>
          </a:prstGeom>
          <a:ln w="0">
            <a:noFill/>
          </a:ln>
        </p:spPr>
      </p:pic>
      <p:sp>
        <p:nvSpPr>
          <p:cNvPr id="58" name="TextBox 4"/>
          <p:cNvSpPr/>
          <p:nvPr/>
        </p:nvSpPr>
        <p:spPr>
          <a:xfrm>
            <a:off x="1704960" y="6093000"/>
            <a:ext cx="43988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DEPARTMENT OF BIOLOGY</a:t>
            </a:r>
            <a:br>
              <a:rPr sz="1000"/>
            </a:br>
            <a:r>
              <a:rPr b="0" lang="en-US" sz="1000" spc="-1" strike="noStrike">
                <a:solidFill>
                  <a:srgbClr val="ffffff"/>
                </a:solidFill>
                <a:latin typeface="Arial"/>
                <a:ea typeface="Arial"/>
              </a:rPr>
              <a:t>Inspiring Innovation    Learn more at www.uwstout.edu/</a:t>
            </a:r>
            <a:endParaRPr b="0" lang="en-US" sz="1000" spc="-1" strike="noStrike">
              <a:solidFill>
                <a:srgbClr val="000000"/>
              </a:solidFill>
              <a:latin typeface="Calibri"/>
            </a:endParaRPr>
          </a:p>
        </p:txBody>
      </p:sp>
      <p:grpSp>
        <p:nvGrpSpPr>
          <p:cNvPr id="59" name="Group 7"/>
          <p:cNvGrpSpPr/>
          <p:nvPr/>
        </p:nvGrpSpPr>
        <p:grpSpPr>
          <a:xfrm>
            <a:off x="4267080" y="2819520"/>
            <a:ext cx="4765680" cy="3098520"/>
            <a:chOff x="4267080" y="2819520"/>
            <a:chExt cx="4765680" cy="3098520"/>
          </a:xfrm>
        </p:grpSpPr>
        <p:pic>
          <p:nvPicPr>
            <p:cNvPr id="60" name="Picture 2" descr="Caddie Woodlawn"/>
            <p:cNvPicPr/>
            <p:nvPr/>
          </p:nvPicPr>
          <p:blipFill>
            <a:blip r:embed="rId2"/>
            <a:srcRect l="8036" t="2296" r="7747" b="5206"/>
            <a:stretch/>
          </p:blipFill>
          <p:spPr>
            <a:xfrm>
              <a:off x="6759720" y="2819520"/>
              <a:ext cx="2273040" cy="3098520"/>
            </a:xfrm>
            <a:prstGeom prst="rect">
              <a:avLst/>
            </a:prstGeom>
            <a:ln w="0">
              <a:noFill/>
            </a:ln>
          </p:spPr>
        </p:pic>
        <p:pic>
          <p:nvPicPr>
            <p:cNvPr id="61" name="Picture 9" descr="http://books.google.com/books?id=b-M-qjbur7AC&amp;pg=PP1&amp;img=1&amp;zoom=3&amp;hl=en&amp;sig=ACfU3U1wL3HJUc2kHfYrfZlfZA6qwrFtRg&amp;w=575"/>
            <p:cNvPicPr/>
            <p:nvPr/>
          </p:nvPicPr>
          <p:blipFill>
            <a:blip r:embed="rId3"/>
            <a:stretch/>
          </p:blipFill>
          <p:spPr>
            <a:xfrm>
              <a:off x="4267080" y="2819520"/>
              <a:ext cx="2492640" cy="3098520"/>
            </a:xfrm>
            <a:prstGeom prst="rect">
              <a:avLst/>
            </a:prstGeom>
            <a:ln w="0">
              <a:noFill/>
            </a:ln>
          </p:spPr>
        </p:pic>
      </p:gr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o/What was Gilbert?</a:t>
            </a:r>
            <a:endParaRPr b="0" lang="en-US" sz="4400" spc="-1" strike="noStrike">
              <a:solidFill>
                <a:srgbClr val="000000"/>
              </a:solidFill>
              <a:latin typeface="Calibri"/>
            </a:endParaRPr>
          </a:p>
        </p:txBody>
      </p:sp>
      <p:sp>
        <p:nvSpPr>
          <p:cNvPr id="63" name=""/>
          <p:cNvSpPr txBox="1"/>
          <p:nvPr/>
        </p:nvSpPr>
        <p:spPr>
          <a:xfrm>
            <a:off x="0" y="1595520"/>
            <a:ext cx="33307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muel Gilbert - first postmaster 1849-1854</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ge coach  St Antony,  MN to Black River Falls,  WI</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4" name="Rectangle 3"/>
          <p:cNvSpPr/>
          <p:nvPr/>
        </p:nvSpPr>
        <p:spPr>
          <a:xfrm>
            <a:off x="0" y="6126120"/>
            <a:ext cx="9144000" cy="79056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5" name="Picture 11" descr="shield--black.png"/>
          <p:cNvPicPr/>
          <p:nvPr/>
        </p:nvPicPr>
        <p:blipFill>
          <a:blip r:embed="rId1"/>
          <a:stretch/>
        </p:blipFill>
        <p:spPr>
          <a:xfrm>
            <a:off x="228600" y="5562720"/>
            <a:ext cx="1460520" cy="1295280"/>
          </a:xfrm>
          <a:prstGeom prst="rect">
            <a:avLst/>
          </a:prstGeom>
          <a:ln w="0">
            <a:noFill/>
          </a:ln>
        </p:spPr>
      </p:pic>
      <p:sp>
        <p:nvSpPr>
          <p:cNvPr id="66" name="TextBox 4"/>
          <p:cNvSpPr/>
          <p:nvPr/>
        </p:nvSpPr>
        <p:spPr>
          <a:xfrm>
            <a:off x="1752480" y="6172200"/>
            <a:ext cx="4399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DEPARTMENT OF BIOLOGY</a:t>
            </a:r>
            <a:br>
              <a:rPr sz="1000"/>
            </a:br>
            <a:r>
              <a:rPr b="0" lang="en-US" sz="1000" spc="-1" strike="noStrike">
                <a:solidFill>
                  <a:srgbClr val="ffffff"/>
                </a:solidFill>
                <a:latin typeface="Arial"/>
                <a:ea typeface="Arial"/>
              </a:rPr>
              <a:t>Inspiring Innovation    Learn more at www.uwstout.edu/</a:t>
            </a:r>
            <a:endParaRPr b="0" lang="en-US" sz="1000" spc="-1" strike="noStrike">
              <a:solidFill>
                <a:srgbClr val="000000"/>
              </a:solidFill>
              <a:latin typeface="Calibri"/>
            </a:endParaRPr>
          </a:p>
        </p:txBody>
      </p:sp>
      <p:pic>
        <p:nvPicPr>
          <p:cNvPr id="67" name="Picture 2" descr="http://ezproxy.lib.uwstout.edu/ics-wpd/images/russell/712.jpg"/>
          <p:cNvPicPr/>
          <p:nvPr/>
        </p:nvPicPr>
        <p:blipFill>
          <a:blip r:embed="rId2"/>
          <a:srcRect l="0" t="2559" r="3026" b="0"/>
          <a:stretch/>
        </p:blipFill>
        <p:spPr>
          <a:xfrm>
            <a:off x="3384720" y="1486080"/>
            <a:ext cx="5759280" cy="4356000"/>
          </a:xfrm>
          <a:prstGeom prst="rect">
            <a:avLst/>
          </a:prstGeom>
          <a:ln w="0">
            <a:noFill/>
          </a:ln>
        </p:spPr>
      </p:pic>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watershed</a:t>
            </a:r>
            <a:endParaRPr b="0" lang="en-US" sz="4400" spc="-1" strike="noStrike">
              <a:solidFill>
                <a:srgbClr val="000000"/>
              </a:solidFill>
              <a:latin typeface="Calibri"/>
            </a:endParaRPr>
          </a:p>
        </p:txBody>
      </p:sp>
      <p:sp>
        <p:nvSpPr>
          <p:cNvPr id="69" name=""/>
          <p:cNvSpPr txBox="1"/>
          <p:nvPr/>
        </p:nvSpPr>
        <p:spPr>
          <a:xfrm>
            <a:off x="0" y="1143000"/>
            <a:ext cx="23623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ok for the drainage basin</a:t>
            </a: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ule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alleys </a:t>
            </a:r>
            <a:endParaRPr b="0" lang="en-US" sz="2000" spc="-1" strike="noStrike">
              <a:solidFill>
                <a:srgbClr val="000000"/>
              </a:solidFill>
              <a:latin typeface="Calibri"/>
            </a:endParaRPr>
          </a:p>
        </p:txBody>
      </p:sp>
      <p:sp>
        <p:nvSpPr>
          <p:cNvPr id="70" name="Rectangle 3"/>
          <p:cNvSpPr/>
          <p:nvPr/>
        </p:nvSpPr>
        <p:spPr>
          <a:xfrm>
            <a:off x="0" y="6070680"/>
            <a:ext cx="9144000" cy="79056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 name="Picture 11" descr="shield--black.png"/>
          <p:cNvPicPr/>
          <p:nvPr/>
        </p:nvPicPr>
        <p:blipFill>
          <a:blip r:embed="rId1"/>
          <a:stretch/>
        </p:blipFill>
        <p:spPr>
          <a:xfrm>
            <a:off x="228600" y="5562720"/>
            <a:ext cx="1460520" cy="1295280"/>
          </a:xfrm>
          <a:prstGeom prst="rect">
            <a:avLst/>
          </a:prstGeom>
          <a:ln w="0">
            <a:noFill/>
          </a:ln>
        </p:spPr>
      </p:pic>
      <p:sp>
        <p:nvSpPr>
          <p:cNvPr id="72" name="TextBox 4"/>
          <p:cNvSpPr/>
          <p:nvPr/>
        </p:nvSpPr>
        <p:spPr>
          <a:xfrm>
            <a:off x="1752480" y="6172200"/>
            <a:ext cx="4399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DEPARTMENT OF BIOLOGY</a:t>
            </a:r>
            <a:br>
              <a:rPr sz="1000"/>
            </a:br>
            <a:r>
              <a:rPr b="0" lang="en-US" sz="1000" spc="-1" strike="noStrike">
                <a:solidFill>
                  <a:srgbClr val="ffffff"/>
                </a:solidFill>
                <a:latin typeface="Arial"/>
                <a:ea typeface="Arial"/>
              </a:rPr>
              <a:t>Inspiring Innovation    Learn more at www.uwstout.edu/</a:t>
            </a:r>
            <a:endParaRPr b="0" lang="en-US" sz="1000" spc="-1" strike="noStrike">
              <a:solidFill>
                <a:srgbClr val="000000"/>
              </a:solidFill>
              <a:latin typeface="Calibri"/>
            </a:endParaRPr>
          </a:p>
        </p:txBody>
      </p:sp>
      <p:pic>
        <p:nvPicPr>
          <p:cNvPr id="73" name="Picture 2" descr="C:\Users\bomarc\Dropbox\Camera Uploads\2013-02-15 13.59.16.jpg"/>
          <p:cNvPicPr/>
          <p:nvPr/>
        </p:nvPicPr>
        <p:blipFill>
          <a:blip r:embed="rId2"/>
          <a:srcRect l="0" t="9761" r="1965" b="3809"/>
          <a:stretch/>
        </p:blipFill>
        <p:spPr>
          <a:xfrm>
            <a:off x="2333520" y="1573200"/>
            <a:ext cx="6647040" cy="4394160"/>
          </a:xfrm>
          <a:prstGeom prst="rect">
            <a:avLst/>
          </a:prstGeom>
          <a:ln w="0">
            <a:noFill/>
          </a:ln>
        </p:spPr>
      </p:pic>
      <p:sp>
        <p:nvSpPr>
          <p:cNvPr id="74" name="TextBox 8"/>
          <p:cNvSpPr/>
          <p:nvPr/>
        </p:nvSpPr>
        <p:spPr>
          <a:xfrm>
            <a:off x="3402000" y="2487600"/>
            <a:ext cx="1595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ilson Creek</a:t>
            </a:r>
            <a:endParaRPr b="0" lang="en-US" sz="1800" spc="-1" strike="noStrike">
              <a:solidFill>
                <a:srgbClr val="000000"/>
              </a:solidFill>
              <a:latin typeface="Calibri"/>
            </a:endParaRPr>
          </a:p>
        </p:txBody>
      </p:sp>
      <p:sp>
        <p:nvSpPr>
          <p:cNvPr id="75" name="TextBox 11"/>
          <p:cNvSpPr/>
          <p:nvPr/>
        </p:nvSpPr>
        <p:spPr>
          <a:xfrm>
            <a:off x="3349800" y="4363920"/>
            <a:ext cx="1593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ilbert Creek</a:t>
            </a:r>
            <a:endParaRPr b="0" lang="en-US" sz="1800" spc="-1" strike="noStrike">
              <a:solidFill>
                <a:srgbClr val="000000"/>
              </a:solidFill>
              <a:latin typeface="Calibri"/>
            </a:endParaRPr>
          </a:p>
        </p:txBody>
      </p:sp>
      <p:sp>
        <p:nvSpPr>
          <p:cNvPr id="76" name="Freeform 4"/>
          <p:cNvSpPr/>
          <p:nvPr/>
        </p:nvSpPr>
        <p:spPr>
          <a:xfrm>
            <a:off x="2936880" y="3646440"/>
            <a:ext cx="3649680" cy="1805040"/>
          </a:xfrm>
          <a:custGeom>
            <a:avLst/>
            <a:gdLst/>
            <a:ahLst/>
            <a:rect l="l" t="t" r="r" b="b"/>
            <a:pathLst>
              <a:path w="3649980" h="1805940">
                <a:moveTo>
                  <a:pt x="754380" y="91440"/>
                </a:moveTo>
                <a:cubicBezTo>
                  <a:pt x="779630" y="101540"/>
                  <a:pt x="812113" y="115398"/>
                  <a:pt x="838200" y="121920"/>
                </a:cubicBezTo>
                <a:cubicBezTo>
                  <a:pt x="876472" y="131488"/>
                  <a:pt x="858745" y="126228"/>
                  <a:pt x="891540" y="137160"/>
                </a:cubicBezTo>
                <a:cubicBezTo>
                  <a:pt x="919330" y="220530"/>
                  <a:pt x="875009" y="94250"/>
                  <a:pt x="914400" y="182880"/>
                </a:cubicBezTo>
                <a:cubicBezTo>
                  <a:pt x="920924" y="197560"/>
                  <a:pt x="924560" y="213360"/>
                  <a:pt x="929640" y="228600"/>
                </a:cubicBezTo>
                <a:lnTo>
                  <a:pt x="937260" y="251460"/>
                </a:lnTo>
                <a:cubicBezTo>
                  <a:pt x="939800" y="259080"/>
                  <a:pt x="943305" y="266444"/>
                  <a:pt x="944880" y="274320"/>
                </a:cubicBezTo>
                <a:cubicBezTo>
                  <a:pt x="947778" y="288811"/>
                  <a:pt x="952310" y="319659"/>
                  <a:pt x="960120" y="335280"/>
                </a:cubicBezTo>
                <a:cubicBezTo>
                  <a:pt x="964216" y="343471"/>
                  <a:pt x="968468" y="352109"/>
                  <a:pt x="975360" y="358140"/>
                </a:cubicBezTo>
                <a:cubicBezTo>
                  <a:pt x="1016707" y="394319"/>
                  <a:pt x="1017545" y="388031"/>
                  <a:pt x="1066800" y="396240"/>
                </a:cubicBezTo>
                <a:cubicBezTo>
                  <a:pt x="1127760" y="436880"/>
                  <a:pt x="1054100" y="383540"/>
                  <a:pt x="1104900" y="434340"/>
                </a:cubicBezTo>
                <a:cubicBezTo>
                  <a:pt x="1111376" y="440816"/>
                  <a:pt x="1120725" y="443717"/>
                  <a:pt x="1127760" y="449580"/>
                </a:cubicBezTo>
                <a:cubicBezTo>
                  <a:pt x="1136039" y="456479"/>
                  <a:pt x="1143000" y="464820"/>
                  <a:pt x="1150620" y="472440"/>
                </a:cubicBezTo>
                <a:cubicBezTo>
                  <a:pt x="1153160" y="480060"/>
                  <a:pt x="1153222" y="489028"/>
                  <a:pt x="1158240" y="495300"/>
                </a:cubicBezTo>
                <a:cubicBezTo>
                  <a:pt x="1191260" y="536575"/>
                  <a:pt x="1173480" y="481965"/>
                  <a:pt x="1196340" y="533400"/>
                </a:cubicBezTo>
                <a:cubicBezTo>
                  <a:pt x="1223067" y="593535"/>
                  <a:pt x="1193316" y="566944"/>
                  <a:pt x="1234440" y="594360"/>
                </a:cubicBezTo>
                <a:cubicBezTo>
                  <a:pt x="1260806" y="585571"/>
                  <a:pt x="1258753" y="591454"/>
                  <a:pt x="1272540" y="563880"/>
                </a:cubicBezTo>
                <a:cubicBezTo>
                  <a:pt x="1276132" y="556696"/>
                  <a:pt x="1273624" y="545689"/>
                  <a:pt x="1280160" y="541020"/>
                </a:cubicBezTo>
                <a:cubicBezTo>
                  <a:pt x="1301080" y="526077"/>
                  <a:pt x="1356755" y="521369"/>
                  <a:pt x="1379220" y="518160"/>
                </a:cubicBezTo>
                <a:cubicBezTo>
                  <a:pt x="1419860" y="520700"/>
                  <a:pt x="1460919" y="519429"/>
                  <a:pt x="1501140" y="525780"/>
                </a:cubicBezTo>
                <a:cubicBezTo>
                  <a:pt x="1529621" y="530277"/>
                  <a:pt x="1520919" y="549223"/>
                  <a:pt x="1539240" y="563880"/>
                </a:cubicBezTo>
                <a:cubicBezTo>
                  <a:pt x="1545512" y="568898"/>
                  <a:pt x="1554480" y="568960"/>
                  <a:pt x="1562100" y="571500"/>
                </a:cubicBezTo>
                <a:cubicBezTo>
                  <a:pt x="1567180" y="579120"/>
                  <a:pt x="1569149" y="590264"/>
                  <a:pt x="1577340" y="594360"/>
                </a:cubicBezTo>
                <a:cubicBezTo>
                  <a:pt x="1591159" y="601270"/>
                  <a:pt x="1608403" y="597094"/>
                  <a:pt x="1623060" y="601980"/>
                </a:cubicBezTo>
                <a:cubicBezTo>
                  <a:pt x="1631748" y="604876"/>
                  <a:pt x="1638300" y="612140"/>
                  <a:pt x="1645920" y="617220"/>
                </a:cubicBezTo>
                <a:cubicBezTo>
                  <a:pt x="1650577" y="631190"/>
                  <a:pt x="1659933" y="672627"/>
                  <a:pt x="1676400" y="685800"/>
                </a:cubicBezTo>
                <a:cubicBezTo>
                  <a:pt x="1682672" y="690818"/>
                  <a:pt x="1691640" y="690880"/>
                  <a:pt x="1699260" y="693420"/>
                </a:cubicBezTo>
                <a:cubicBezTo>
                  <a:pt x="1721339" y="690967"/>
                  <a:pt x="1795320" y="676964"/>
                  <a:pt x="1821180" y="693420"/>
                </a:cubicBezTo>
                <a:cubicBezTo>
                  <a:pt x="1836633" y="703254"/>
                  <a:pt x="1851660" y="739140"/>
                  <a:pt x="1851660" y="739140"/>
                </a:cubicBezTo>
                <a:cubicBezTo>
                  <a:pt x="1872089" y="737438"/>
                  <a:pt x="1934834" y="739463"/>
                  <a:pt x="1965960" y="723900"/>
                </a:cubicBezTo>
                <a:cubicBezTo>
                  <a:pt x="1974151" y="719804"/>
                  <a:pt x="1980629" y="712756"/>
                  <a:pt x="1988820" y="708660"/>
                </a:cubicBezTo>
                <a:cubicBezTo>
                  <a:pt x="1996004" y="705068"/>
                  <a:pt x="2004496" y="704632"/>
                  <a:pt x="2011680" y="701040"/>
                </a:cubicBezTo>
                <a:cubicBezTo>
                  <a:pt x="2019871" y="696944"/>
                  <a:pt x="2025560" y="687596"/>
                  <a:pt x="2034540" y="685800"/>
                </a:cubicBezTo>
                <a:cubicBezTo>
                  <a:pt x="2064532" y="679802"/>
                  <a:pt x="2095500" y="680720"/>
                  <a:pt x="2125980" y="678180"/>
                </a:cubicBezTo>
                <a:cubicBezTo>
                  <a:pt x="2128520" y="665480"/>
                  <a:pt x="2127808" y="651664"/>
                  <a:pt x="2133600" y="640080"/>
                </a:cubicBezTo>
                <a:cubicBezTo>
                  <a:pt x="2145016" y="617248"/>
                  <a:pt x="2159000" y="616373"/>
                  <a:pt x="2179320" y="609600"/>
                </a:cubicBezTo>
                <a:cubicBezTo>
                  <a:pt x="2202180" y="612140"/>
                  <a:pt x="2225346" y="612709"/>
                  <a:pt x="2247900" y="617220"/>
                </a:cubicBezTo>
                <a:cubicBezTo>
                  <a:pt x="2263652" y="620370"/>
                  <a:pt x="2277622" y="631006"/>
                  <a:pt x="2293620" y="632460"/>
                </a:cubicBezTo>
                <a:lnTo>
                  <a:pt x="2377440" y="640080"/>
                </a:lnTo>
                <a:cubicBezTo>
                  <a:pt x="2379980" y="647700"/>
                  <a:pt x="2382853" y="655217"/>
                  <a:pt x="2385060" y="662940"/>
                </a:cubicBezTo>
                <a:cubicBezTo>
                  <a:pt x="2387937" y="673010"/>
                  <a:pt x="2384635" y="686716"/>
                  <a:pt x="2392680" y="693420"/>
                </a:cubicBezTo>
                <a:cubicBezTo>
                  <a:pt x="2402630" y="701711"/>
                  <a:pt x="2418285" y="697632"/>
                  <a:pt x="2430780" y="701040"/>
                </a:cubicBezTo>
                <a:cubicBezTo>
                  <a:pt x="2446278" y="705267"/>
                  <a:pt x="2461260" y="711200"/>
                  <a:pt x="2476500" y="716280"/>
                </a:cubicBezTo>
                <a:lnTo>
                  <a:pt x="2522220" y="731520"/>
                </a:lnTo>
                <a:lnTo>
                  <a:pt x="2545080" y="739140"/>
                </a:lnTo>
                <a:cubicBezTo>
                  <a:pt x="2583180" y="736600"/>
                  <a:pt x="2622336" y="740781"/>
                  <a:pt x="2659380" y="731520"/>
                </a:cubicBezTo>
                <a:cubicBezTo>
                  <a:pt x="2667172" y="729572"/>
                  <a:pt x="2661320" y="714340"/>
                  <a:pt x="2667000" y="708660"/>
                </a:cubicBezTo>
                <a:cubicBezTo>
                  <a:pt x="2672680" y="702980"/>
                  <a:pt x="2682240" y="703580"/>
                  <a:pt x="2689860" y="701040"/>
                </a:cubicBezTo>
                <a:cubicBezTo>
                  <a:pt x="2717800" y="703580"/>
                  <a:pt x="2746248" y="702782"/>
                  <a:pt x="2773680" y="708660"/>
                </a:cubicBezTo>
                <a:cubicBezTo>
                  <a:pt x="2782635" y="710579"/>
                  <a:pt x="2788349" y="719804"/>
                  <a:pt x="2796540" y="723900"/>
                </a:cubicBezTo>
                <a:cubicBezTo>
                  <a:pt x="2803724" y="727492"/>
                  <a:pt x="2811677" y="729313"/>
                  <a:pt x="2819400" y="731520"/>
                </a:cubicBezTo>
                <a:cubicBezTo>
                  <a:pt x="2864021" y="744269"/>
                  <a:pt x="2865355" y="740687"/>
                  <a:pt x="2926080" y="746760"/>
                </a:cubicBezTo>
                <a:cubicBezTo>
                  <a:pt x="2933700" y="751840"/>
                  <a:pt x="2940522" y="758392"/>
                  <a:pt x="2948940" y="762000"/>
                </a:cubicBezTo>
                <a:cubicBezTo>
                  <a:pt x="2958566" y="766125"/>
                  <a:pt x="2969151" y="767566"/>
                  <a:pt x="2979420" y="769620"/>
                </a:cubicBezTo>
                <a:cubicBezTo>
                  <a:pt x="3022175" y="778171"/>
                  <a:pt x="3047974" y="779777"/>
                  <a:pt x="3093720" y="784860"/>
                </a:cubicBezTo>
                <a:cubicBezTo>
                  <a:pt x="3096260" y="792480"/>
                  <a:pt x="3100020" y="799797"/>
                  <a:pt x="3101340" y="807720"/>
                </a:cubicBezTo>
                <a:cubicBezTo>
                  <a:pt x="3110971" y="865506"/>
                  <a:pt x="3095803" y="865084"/>
                  <a:pt x="3124200" y="899160"/>
                </a:cubicBezTo>
                <a:cubicBezTo>
                  <a:pt x="3131099" y="907439"/>
                  <a:pt x="3136430" y="920248"/>
                  <a:pt x="3147060" y="922020"/>
                </a:cubicBezTo>
                <a:cubicBezTo>
                  <a:pt x="3199734" y="930799"/>
                  <a:pt x="3253740" y="927100"/>
                  <a:pt x="3307080" y="929640"/>
                </a:cubicBezTo>
                <a:lnTo>
                  <a:pt x="3375660" y="952500"/>
                </a:lnTo>
                <a:lnTo>
                  <a:pt x="3398520" y="960120"/>
                </a:lnTo>
                <a:cubicBezTo>
                  <a:pt x="3413311" y="1004494"/>
                  <a:pt x="3421531" y="1005386"/>
                  <a:pt x="3406140" y="1051560"/>
                </a:cubicBezTo>
                <a:cubicBezTo>
                  <a:pt x="3403244" y="1060248"/>
                  <a:pt x="3395980" y="1066800"/>
                  <a:pt x="3390900" y="1074420"/>
                </a:cubicBezTo>
                <a:cubicBezTo>
                  <a:pt x="3393440" y="1094740"/>
                  <a:pt x="3395153" y="1115180"/>
                  <a:pt x="3398520" y="1135380"/>
                </a:cubicBezTo>
                <a:cubicBezTo>
                  <a:pt x="3400242" y="1145710"/>
                  <a:pt x="3406140" y="1155387"/>
                  <a:pt x="3406140" y="1165860"/>
                </a:cubicBezTo>
                <a:cubicBezTo>
                  <a:pt x="3406140" y="1175721"/>
                  <a:pt x="3390985" y="1206764"/>
                  <a:pt x="3383280" y="1211580"/>
                </a:cubicBezTo>
                <a:cubicBezTo>
                  <a:pt x="3369657" y="1220094"/>
                  <a:pt x="3350926" y="1217909"/>
                  <a:pt x="3337560" y="1226820"/>
                </a:cubicBezTo>
                <a:cubicBezTo>
                  <a:pt x="3308017" y="1246515"/>
                  <a:pt x="3323388" y="1239164"/>
                  <a:pt x="3291840" y="1249680"/>
                </a:cubicBezTo>
                <a:cubicBezTo>
                  <a:pt x="3279917" y="1285448"/>
                  <a:pt x="3274826" y="1290078"/>
                  <a:pt x="3291840" y="1341120"/>
                </a:cubicBezTo>
                <a:cubicBezTo>
                  <a:pt x="3295248" y="1351343"/>
                  <a:pt x="3307080" y="1356360"/>
                  <a:pt x="3314700" y="1363980"/>
                </a:cubicBezTo>
                <a:cubicBezTo>
                  <a:pt x="3333853" y="1421439"/>
                  <a:pt x="3308017" y="1350614"/>
                  <a:pt x="3337560" y="1409700"/>
                </a:cubicBezTo>
                <a:cubicBezTo>
                  <a:pt x="3341152" y="1416884"/>
                  <a:pt x="3340162" y="1426288"/>
                  <a:pt x="3345180" y="1432560"/>
                </a:cubicBezTo>
                <a:cubicBezTo>
                  <a:pt x="3350901" y="1439711"/>
                  <a:pt x="3360420" y="1442720"/>
                  <a:pt x="3368040" y="1447800"/>
                </a:cubicBezTo>
                <a:cubicBezTo>
                  <a:pt x="3370580" y="1455420"/>
                  <a:pt x="3369980" y="1464980"/>
                  <a:pt x="3375660" y="1470660"/>
                </a:cubicBezTo>
                <a:cubicBezTo>
                  <a:pt x="3388612" y="1483612"/>
                  <a:pt x="3421380" y="1501140"/>
                  <a:pt x="3421380" y="1501140"/>
                </a:cubicBezTo>
                <a:cubicBezTo>
                  <a:pt x="3439160" y="1554480"/>
                  <a:pt x="3421380" y="1541780"/>
                  <a:pt x="3459480" y="1554480"/>
                </a:cubicBezTo>
                <a:cubicBezTo>
                  <a:pt x="3497580" y="1551940"/>
                  <a:pt x="3535805" y="1550857"/>
                  <a:pt x="3573780" y="1546860"/>
                </a:cubicBezTo>
                <a:cubicBezTo>
                  <a:pt x="3584195" y="1545764"/>
                  <a:pt x="3593787" y="1539240"/>
                  <a:pt x="3604260" y="1539240"/>
                </a:cubicBezTo>
                <a:cubicBezTo>
                  <a:pt x="3619710" y="1539240"/>
                  <a:pt x="3634740" y="1544320"/>
                  <a:pt x="3649980" y="1546860"/>
                </a:cubicBezTo>
                <a:cubicBezTo>
                  <a:pt x="3647440" y="1559560"/>
                  <a:pt x="3648786" y="1573715"/>
                  <a:pt x="3642360" y="1584960"/>
                </a:cubicBezTo>
                <a:cubicBezTo>
                  <a:pt x="3637816" y="1592911"/>
                  <a:pt x="3628587" y="1599064"/>
                  <a:pt x="3619500" y="1600200"/>
                </a:cubicBezTo>
                <a:cubicBezTo>
                  <a:pt x="3566512" y="1606824"/>
                  <a:pt x="3512820" y="1605280"/>
                  <a:pt x="3459480" y="1607820"/>
                </a:cubicBezTo>
                <a:cubicBezTo>
                  <a:pt x="3449320" y="1610360"/>
                  <a:pt x="3435816" y="1607489"/>
                  <a:pt x="3429000" y="1615440"/>
                </a:cubicBezTo>
                <a:cubicBezTo>
                  <a:pt x="3418545" y="1627637"/>
                  <a:pt x="3429000" y="1656080"/>
                  <a:pt x="3413760" y="1661160"/>
                </a:cubicBezTo>
                <a:lnTo>
                  <a:pt x="3368040" y="1676400"/>
                </a:lnTo>
                <a:lnTo>
                  <a:pt x="3345180" y="1684020"/>
                </a:lnTo>
                <a:cubicBezTo>
                  <a:pt x="3282421" y="1663100"/>
                  <a:pt x="3315363" y="1666508"/>
                  <a:pt x="3246120" y="1676400"/>
                </a:cubicBezTo>
                <a:cubicBezTo>
                  <a:pt x="3232217" y="1697255"/>
                  <a:pt x="3232083" y="1703805"/>
                  <a:pt x="3208020" y="1714500"/>
                </a:cubicBezTo>
                <a:cubicBezTo>
                  <a:pt x="3193340" y="1721024"/>
                  <a:pt x="3162300" y="1729740"/>
                  <a:pt x="3162300" y="1729740"/>
                </a:cubicBezTo>
                <a:cubicBezTo>
                  <a:pt x="3154680" y="1737360"/>
                  <a:pt x="3147946" y="1745984"/>
                  <a:pt x="3139440" y="1752600"/>
                </a:cubicBezTo>
                <a:cubicBezTo>
                  <a:pt x="3124982" y="1763845"/>
                  <a:pt x="3093720" y="1783080"/>
                  <a:pt x="3093720" y="1783080"/>
                </a:cubicBezTo>
                <a:cubicBezTo>
                  <a:pt x="3045460" y="1780540"/>
                  <a:pt x="2996328" y="1784938"/>
                  <a:pt x="2948940" y="1775460"/>
                </a:cubicBezTo>
                <a:cubicBezTo>
                  <a:pt x="2941064" y="1773885"/>
                  <a:pt x="2942640" y="1760523"/>
                  <a:pt x="2941320" y="1752600"/>
                </a:cubicBezTo>
                <a:cubicBezTo>
                  <a:pt x="2937539" y="1729912"/>
                  <a:pt x="2940973" y="1705840"/>
                  <a:pt x="2933700" y="1684020"/>
                </a:cubicBezTo>
                <a:cubicBezTo>
                  <a:pt x="2926565" y="1662615"/>
                  <a:pt x="2905109" y="1659250"/>
                  <a:pt x="2887980" y="1653540"/>
                </a:cubicBezTo>
                <a:cubicBezTo>
                  <a:pt x="2804610" y="1681330"/>
                  <a:pt x="2930890" y="1637009"/>
                  <a:pt x="2842260" y="1676400"/>
                </a:cubicBezTo>
                <a:cubicBezTo>
                  <a:pt x="2827580" y="1682924"/>
                  <a:pt x="2811780" y="1686560"/>
                  <a:pt x="2796540" y="1691640"/>
                </a:cubicBezTo>
                <a:cubicBezTo>
                  <a:pt x="2788920" y="1694180"/>
                  <a:pt x="2780363" y="1694805"/>
                  <a:pt x="2773680" y="1699260"/>
                </a:cubicBezTo>
                <a:cubicBezTo>
                  <a:pt x="2744137" y="1718955"/>
                  <a:pt x="2759508" y="1711604"/>
                  <a:pt x="2727960" y="1722120"/>
                </a:cubicBezTo>
                <a:cubicBezTo>
                  <a:pt x="2665201" y="1701200"/>
                  <a:pt x="2698143" y="1709152"/>
                  <a:pt x="2628900" y="1699260"/>
                </a:cubicBezTo>
                <a:cubicBezTo>
                  <a:pt x="2623820" y="1691640"/>
                  <a:pt x="2616556" y="1685088"/>
                  <a:pt x="2613660" y="1676400"/>
                </a:cubicBezTo>
                <a:cubicBezTo>
                  <a:pt x="2608774" y="1661743"/>
                  <a:pt x="2612950" y="1644499"/>
                  <a:pt x="2606040" y="1630680"/>
                </a:cubicBezTo>
                <a:cubicBezTo>
                  <a:pt x="2601944" y="1622489"/>
                  <a:pt x="2590800" y="1620520"/>
                  <a:pt x="2583180" y="1615440"/>
                </a:cubicBezTo>
                <a:cubicBezTo>
                  <a:pt x="2560320" y="1617980"/>
                  <a:pt x="2537154" y="1618549"/>
                  <a:pt x="2514600" y="1623060"/>
                </a:cubicBezTo>
                <a:cubicBezTo>
                  <a:pt x="2498848" y="1626210"/>
                  <a:pt x="2468880" y="1638300"/>
                  <a:pt x="2468880" y="1638300"/>
                </a:cubicBezTo>
                <a:cubicBezTo>
                  <a:pt x="2463800" y="1645920"/>
                  <a:pt x="2462673" y="1659654"/>
                  <a:pt x="2453640" y="1661160"/>
                </a:cubicBezTo>
                <a:cubicBezTo>
                  <a:pt x="2428461" y="1665357"/>
                  <a:pt x="2401657" y="1661612"/>
                  <a:pt x="2377440" y="1653540"/>
                </a:cubicBezTo>
                <a:cubicBezTo>
                  <a:pt x="2368752" y="1650644"/>
                  <a:pt x="2366296" y="1638871"/>
                  <a:pt x="2362200" y="1630680"/>
                </a:cubicBezTo>
                <a:cubicBezTo>
                  <a:pt x="2356987" y="1620255"/>
                  <a:pt x="2352989" y="1590419"/>
                  <a:pt x="2339340" y="1584960"/>
                </a:cubicBezTo>
                <a:cubicBezTo>
                  <a:pt x="2320327" y="1577355"/>
                  <a:pt x="2298700" y="1579880"/>
                  <a:pt x="2278380" y="1577340"/>
                </a:cubicBezTo>
                <a:cubicBezTo>
                  <a:pt x="2270760" y="1574800"/>
                  <a:pt x="2263552" y="1569720"/>
                  <a:pt x="2255520" y="1569720"/>
                </a:cubicBezTo>
                <a:cubicBezTo>
                  <a:pt x="2211416" y="1569720"/>
                  <a:pt x="2226092" y="1576814"/>
                  <a:pt x="2194560" y="1592580"/>
                </a:cubicBezTo>
                <a:cubicBezTo>
                  <a:pt x="2187376" y="1596172"/>
                  <a:pt x="2179320" y="1597660"/>
                  <a:pt x="2171700" y="1600200"/>
                </a:cubicBezTo>
                <a:cubicBezTo>
                  <a:pt x="2156460" y="1597660"/>
                  <a:pt x="2141062" y="1595932"/>
                  <a:pt x="2125980" y="1592580"/>
                </a:cubicBezTo>
                <a:cubicBezTo>
                  <a:pt x="2118139" y="1590838"/>
                  <a:pt x="2110912" y="1586908"/>
                  <a:pt x="2103120" y="1584960"/>
                </a:cubicBezTo>
                <a:lnTo>
                  <a:pt x="2042160" y="1569720"/>
                </a:lnTo>
                <a:cubicBezTo>
                  <a:pt x="2037080" y="1562100"/>
                  <a:pt x="2031016" y="1555051"/>
                  <a:pt x="2026920" y="1546860"/>
                </a:cubicBezTo>
                <a:cubicBezTo>
                  <a:pt x="1983862" y="1460743"/>
                  <a:pt x="2146954" y="1528910"/>
                  <a:pt x="1821180" y="1516380"/>
                </a:cubicBezTo>
                <a:cubicBezTo>
                  <a:pt x="1813560" y="1513840"/>
                  <a:pt x="1806352" y="1508760"/>
                  <a:pt x="1798320" y="1508760"/>
                </a:cubicBezTo>
                <a:cubicBezTo>
                  <a:pt x="1773717" y="1508760"/>
                  <a:pt x="1763645" y="1519177"/>
                  <a:pt x="1744980" y="1531620"/>
                </a:cubicBezTo>
                <a:cubicBezTo>
                  <a:pt x="1736424" y="1544454"/>
                  <a:pt x="1725596" y="1567046"/>
                  <a:pt x="1706880" y="1569720"/>
                </a:cubicBezTo>
                <a:cubicBezTo>
                  <a:pt x="1700182" y="1570677"/>
                  <a:pt x="1662119" y="1557340"/>
                  <a:pt x="1653540" y="1554480"/>
                </a:cubicBezTo>
                <a:cubicBezTo>
                  <a:pt x="1640840" y="1557020"/>
                  <a:pt x="1628005" y="1558959"/>
                  <a:pt x="1615440" y="1562100"/>
                </a:cubicBezTo>
                <a:cubicBezTo>
                  <a:pt x="1607648" y="1564048"/>
                  <a:pt x="1600550" y="1568724"/>
                  <a:pt x="1592580" y="1569720"/>
                </a:cubicBezTo>
                <a:cubicBezTo>
                  <a:pt x="1559718" y="1573828"/>
                  <a:pt x="1526540" y="1574800"/>
                  <a:pt x="1493520" y="1577340"/>
                </a:cubicBezTo>
                <a:cubicBezTo>
                  <a:pt x="1449844" y="1642854"/>
                  <a:pt x="1502208" y="1559964"/>
                  <a:pt x="1470660" y="1623060"/>
                </a:cubicBezTo>
                <a:cubicBezTo>
                  <a:pt x="1466564" y="1631251"/>
                  <a:pt x="1460500" y="1638300"/>
                  <a:pt x="1455420" y="1645920"/>
                </a:cubicBezTo>
                <a:cubicBezTo>
                  <a:pt x="1452880" y="1676400"/>
                  <a:pt x="1456795" y="1708127"/>
                  <a:pt x="1447800" y="1737360"/>
                </a:cubicBezTo>
                <a:cubicBezTo>
                  <a:pt x="1445438" y="1745037"/>
                  <a:pt x="1432972" y="1744980"/>
                  <a:pt x="1424940" y="1744980"/>
                </a:cubicBezTo>
                <a:cubicBezTo>
                  <a:pt x="1399413" y="1744980"/>
                  <a:pt x="1374140" y="1739900"/>
                  <a:pt x="1348740" y="1737360"/>
                </a:cubicBezTo>
                <a:cubicBezTo>
                  <a:pt x="1341120" y="1734820"/>
                  <a:pt x="1333803" y="1731060"/>
                  <a:pt x="1325880" y="1729740"/>
                </a:cubicBezTo>
                <a:cubicBezTo>
                  <a:pt x="1246137" y="1716450"/>
                  <a:pt x="1242625" y="1723168"/>
                  <a:pt x="1150620" y="1729740"/>
                </a:cubicBezTo>
                <a:cubicBezTo>
                  <a:pt x="1121462" y="1739459"/>
                  <a:pt x="1103210" y="1746842"/>
                  <a:pt x="1074420" y="1752600"/>
                </a:cubicBezTo>
                <a:cubicBezTo>
                  <a:pt x="1059270" y="1755630"/>
                  <a:pt x="1044118" y="1759225"/>
                  <a:pt x="1028700" y="1760220"/>
                </a:cubicBezTo>
                <a:cubicBezTo>
                  <a:pt x="965281" y="1764312"/>
                  <a:pt x="901700" y="1765300"/>
                  <a:pt x="838200" y="1767840"/>
                </a:cubicBezTo>
                <a:cubicBezTo>
                  <a:pt x="783792" y="1785976"/>
                  <a:pt x="805846" y="1774169"/>
                  <a:pt x="769620" y="1798320"/>
                </a:cubicBezTo>
                <a:cubicBezTo>
                  <a:pt x="751840" y="1795780"/>
                  <a:pt x="733892" y="1794222"/>
                  <a:pt x="716280" y="1790700"/>
                </a:cubicBezTo>
                <a:cubicBezTo>
                  <a:pt x="708404" y="1789125"/>
                  <a:pt x="701452" y="1783080"/>
                  <a:pt x="693420" y="1783080"/>
                </a:cubicBezTo>
                <a:cubicBezTo>
                  <a:pt x="632407" y="1783080"/>
                  <a:pt x="571500" y="1788160"/>
                  <a:pt x="510540" y="1790700"/>
                </a:cubicBezTo>
                <a:cubicBezTo>
                  <a:pt x="498785" y="1793639"/>
                  <a:pt x="451634" y="1805940"/>
                  <a:pt x="441960" y="1805940"/>
                </a:cubicBezTo>
                <a:cubicBezTo>
                  <a:pt x="423999" y="1805940"/>
                  <a:pt x="406400" y="1800860"/>
                  <a:pt x="388620" y="1798320"/>
                </a:cubicBezTo>
                <a:cubicBezTo>
                  <a:pt x="396240" y="1793240"/>
                  <a:pt x="409684" y="1792060"/>
                  <a:pt x="411480" y="1783080"/>
                </a:cubicBezTo>
                <a:cubicBezTo>
                  <a:pt x="415788" y="1761538"/>
                  <a:pt x="383875" y="1756098"/>
                  <a:pt x="373380" y="1752600"/>
                </a:cubicBezTo>
                <a:cubicBezTo>
                  <a:pt x="358545" y="1708096"/>
                  <a:pt x="377367" y="1748967"/>
                  <a:pt x="342900" y="1714500"/>
                </a:cubicBezTo>
                <a:cubicBezTo>
                  <a:pt x="292100" y="1663700"/>
                  <a:pt x="365760" y="1717040"/>
                  <a:pt x="304800" y="1676400"/>
                </a:cubicBezTo>
                <a:cubicBezTo>
                  <a:pt x="307340" y="1666240"/>
                  <a:pt x="307736" y="1655287"/>
                  <a:pt x="312420" y="1645920"/>
                </a:cubicBezTo>
                <a:cubicBezTo>
                  <a:pt x="320611" y="1629537"/>
                  <a:pt x="342900" y="1600200"/>
                  <a:pt x="342900" y="1600200"/>
                </a:cubicBezTo>
                <a:cubicBezTo>
                  <a:pt x="345440" y="1569720"/>
                  <a:pt x="345492" y="1538929"/>
                  <a:pt x="350520" y="1508760"/>
                </a:cubicBezTo>
                <a:cubicBezTo>
                  <a:pt x="353161" y="1492914"/>
                  <a:pt x="365760" y="1463040"/>
                  <a:pt x="365760" y="1463040"/>
                </a:cubicBezTo>
                <a:cubicBezTo>
                  <a:pt x="361951" y="1440187"/>
                  <a:pt x="356317" y="1391726"/>
                  <a:pt x="342900" y="1371600"/>
                </a:cubicBezTo>
                <a:lnTo>
                  <a:pt x="327660" y="1348740"/>
                </a:lnTo>
                <a:cubicBezTo>
                  <a:pt x="325767" y="1335488"/>
                  <a:pt x="322650" y="1290955"/>
                  <a:pt x="312420" y="1272540"/>
                </a:cubicBezTo>
                <a:cubicBezTo>
                  <a:pt x="303525" y="1256529"/>
                  <a:pt x="281940" y="1226820"/>
                  <a:pt x="281940" y="1226820"/>
                </a:cubicBezTo>
                <a:cubicBezTo>
                  <a:pt x="269778" y="1068711"/>
                  <a:pt x="285745" y="1171557"/>
                  <a:pt x="266700" y="1104900"/>
                </a:cubicBezTo>
                <a:cubicBezTo>
                  <a:pt x="263823" y="1094830"/>
                  <a:pt x="263205" y="1084046"/>
                  <a:pt x="259080" y="1074420"/>
                </a:cubicBezTo>
                <a:cubicBezTo>
                  <a:pt x="255472" y="1066002"/>
                  <a:pt x="248920" y="1059180"/>
                  <a:pt x="243840" y="1051560"/>
                </a:cubicBezTo>
                <a:cubicBezTo>
                  <a:pt x="241300" y="1038860"/>
                  <a:pt x="239030" y="1026103"/>
                  <a:pt x="236220" y="1013460"/>
                </a:cubicBezTo>
                <a:cubicBezTo>
                  <a:pt x="229247" y="982083"/>
                  <a:pt x="218538" y="965004"/>
                  <a:pt x="236220" y="929640"/>
                </a:cubicBezTo>
                <a:cubicBezTo>
                  <a:pt x="239812" y="922456"/>
                  <a:pt x="251460" y="924560"/>
                  <a:pt x="259080" y="922020"/>
                </a:cubicBezTo>
                <a:cubicBezTo>
                  <a:pt x="287020" y="880110"/>
                  <a:pt x="259080" y="915670"/>
                  <a:pt x="297180" y="883920"/>
                </a:cubicBezTo>
                <a:cubicBezTo>
                  <a:pt x="319182" y="865585"/>
                  <a:pt x="320295" y="860677"/>
                  <a:pt x="335280" y="838200"/>
                </a:cubicBezTo>
                <a:cubicBezTo>
                  <a:pt x="342426" y="809617"/>
                  <a:pt x="350849" y="793139"/>
                  <a:pt x="335280" y="762000"/>
                </a:cubicBezTo>
                <a:cubicBezTo>
                  <a:pt x="331184" y="753809"/>
                  <a:pt x="320789" y="750479"/>
                  <a:pt x="312420" y="746760"/>
                </a:cubicBezTo>
                <a:cubicBezTo>
                  <a:pt x="297740" y="740236"/>
                  <a:pt x="281940" y="736600"/>
                  <a:pt x="266700" y="731520"/>
                </a:cubicBezTo>
                <a:lnTo>
                  <a:pt x="243840" y="723900"/>
                </a:lnTo>
                <a:cubicBezTo>
                  <a:pt x="236220" y="721360"/>
                  <a:pt x="227663" y="720735"/>
                  <a:pt x="220980" y="716280"/>
                </a:cubicBezTo>
                <a:lnTo>
                  <a:pt x="198120" y="701040"/>
                </a:lnTo>
                <a:cubicBezTo>
                  <a:pt x="193040" y="693420"/>
                  <a:pt x="189356" y="684656"/>
                  <a:pt x="182880" y="678180"/>
                </a:cubicBezTo>
                <a:cubicBezTo>
                  <a:pt x="176404" y="671704"/>
                  <a:pt x="165741" y="670091"/>
                  <a:pt x="160020" y="662940"/>
                </a:cubicBezTo>
                <a:cubicBezTo>
                  <a:pt x="117956" y="610360"/>
                  <a:pt x="195054" y="668516"/>
                  <a:pt x="129540" y="624840"/>
                </a:cubicBezTo>
                <a:cubicBezTo>
                  <a:pt x="127000" y="617220"/>
                  <a:pt x="121920" y="610012"/>
                  <a:pt x="121920" y="601980"/>
                </a:cubicBezTo>
                <a:cubicBezTo>
                  <a:pt x="121920" y="586220"/>
                  <a:pt x="126444" y="539592"/>
                  <a:pt x="137160" y="518160"/>
                </a:cubicBezTo>
                <a:cubicBezTo>
                  <a:pt x="141256" y="509969"/>
                  <a:pt x="147320" y="502920"/>
                  <a:pt x="152400" y="495300"/>
                </a:cubicBezTo>
                <a:cubicBezTo>
                  <a:pt x="149860" y="480060"/>
                  <a:pt x="151690" y="463399"/>
                  <a:pt x="144780" y="449580"/>
                </a:cubicBezTo>
                <a:cubicBezTo>
                  <a:pt x="140684" y="441389"/>
                  <a:pt x="130289" y="438059"/>
                  <a:pt x="121920" y="434340"/>
                </a:cubicBezTo>
                <a:cubicBezTo>
                  <a:pt x="40308" y="398068"/>
                  <a:pt x="105075" y="438350"/>
                  <a:pt x="53340" y="403860"/>
                </a:cubicBezTo>
                <a:cubicBezTo>
                  <a:pt x="17780" y="350520"/>
                  <a:pt x="38100" y="368300"/>
                  <a:pt x="0" y="342900"/>
                </a:cubicBezTo>
                <a:cubicBezTo>
                  <a:pt x="18136" y="288492"/>
                  <a:pt x="6329" y="310546"/>
                  <a:pt x="30480" y="274320"/>
                </a:cubicBezTo>
                <a:cubicBezTo>
                  <a:pt x="27940" y="238760"/>
                  <a:pt x="22860" y="203291"/>
                  <a:pt x="22860" y="167640"/>
                </a:cubicBezTo>
                <a:cubicBezTo>
                  <a:pt x="22860" y="152190"/>
                  <a:pt x="16661" y="128830"/>
                  <a:pt x="30480" y="121920"/>
                </a:cubicBezTo>
                <a:cubicBezTo>
                  <a:pt x="51052" y="111634"/>
                  <a:pt x="76200" y="127000"/>
                  <a:pt x="99060" y="129540"/>
                </a:cubicBezTo>
                <a:cubicBezTo>
                  <a:pt x="145125" y="141056"/>
                  <a:pt x="119605" y="133848"/>
                  <a:pt x="175260" y="152400"/>
                </a:cubicBezTo>
                <a:lnTo>
                  <a:pt x="198120" y="160020"/>
                </a:lnTo>
                <a:lnTo>
                  <a:pt x="220980" y="167640"/>
                </a:lnTo>
                <a:cubicBezTo>
                  <a:pt x="248920" y="165100"/>
                  <a:pt x="278531" y="169871"/>
                  <a:pt x="304800" y="160020"/>
                </a:cubicBezTo>
                <a:cubicBezTo>
                  <a:pt x="313375" y="156804"/>
                  <a:pt x="290131" y="148876"/>
                  <a:pt x="281940" y="144780"/>
                </a:cubicBezTo>
                <a:cubicBezTo>
                  <a:pt x="274756" y="141188"/>
                  <a:pt x="267003" y="138480"/>
                  <a:pt x="259080" y="137160"/>
                </a:cubicBezTo>
                <a:cubicBezTo>
                  <a:pt x="193047" y="126154"/>
                  <a:pt x="201162" y="134449"/>
                  <a:pt x="144780" y="121920"/>
                </a:cubicBezTo>
                <a:cubicBezTo>
                  <a:pt x="139143" y="120667"/>
                  <a:pt x="99060" y="108194"/>
                  <a:pt x="99060" y="99060"/>
                </a:cubicBezTo>
                <a:cubicBezTo>
                  <a:pt x="99060" y="91028"/>
                  <a:pt x="114197" y="104473"/>
                  <a:pt x="121920" y="106680"/>
                </a:cubicBezTo>
                <a:cubicBezTo>
                  <a:pt x="131990" y="109557"/>
                  <a:pt x="142240" y="111760"/>
                  <a:pt x="152400" y="114300"/>
                </a:cubicBezTo>
                <a:cubicBezTo>
                  <a:pt x="160020" y="119380"/>
                  <a:pt x="166891" y="125821"/>
                  <a:pt x="175260" y="129540"/>
                </a:cubicBezTo>
                <a:cubicBezTo>
                  <a:pt x="189940" y="136064"/>
                  <a:pt x="205740" y="139700"/>
                  <a:pt x="220980" y="144780"/>
                </a:cubicBezTo>
                <a:lnTo>
                  <a:pt x="243840" y="152400"/>
                </a:lnTo>
                <a:lnTo>
                  <a:pt x="266700" y="160020"/>
                </a:lnTo>
                <a:lnTo>
                  <a:pt x="289560" y="167640"/>
                </a:lnTo>
                <a:cubicBezTo>
                  <a:pt x="302260" y="165100"/>
                  <a:pt x="315095" y="163161"/>
                  <a:pt x="327660" y="160020"/>
                </a:cubicBezTo>
                <a:cubicBezTo>
                  <a:pt x="335452" y="158072"/>
                  <a:pt x="344840" y="158080"/>
                  <a:pt x="350520" y="152400"/>
                </a:cubicBezTo>
                <a:cubicBezTo>
                  <a:pt x="356200" y="146720"/>
                  <a:pt x="353122" y="135812"/>
                  <a:pt x="358140" y="129540"/>
                </a:cubicBezTo>
                <a:cubicBezTo>
                  <a:pt x="363861" y="122389"/>
                  <a:pt x="373380" y="119380"/>
                  <a:pt x="381000" y="114300"/>
                </a:cubicBezTo>
                <a:cubicBezTo>
                  <a:pt x="406400" y="76200"/>
                  <a:pt x="388620" y="96520"/>
                  <a:pt x="441960" y="60960"/>
                </a:cubicBezTo>
                <a:lnTo>
                  <a:pt x="464820" y="45720"/>
                </a:lnTo>
                <a:cubicBezTo>
                  <a:pt x="488971" y="9494"/>
                  <a:pt x="471372" y="25756"/>
                  <a:pt x="525780" y="7620"/>
                </a:cubicBezTo>
                <a:lnTo>
                  <a:pt x="548640" y="0"/>
                </a:lnTo>
                <a:cubicBezTo>
                  <a:pt x="568960" y="2540"/>
                  <a:pt x="589452" y="3957"/>
                  <a:pt x="609600" y="7620"/>
                </a:cubicBezTo>
                <a:cubicBezTo>
                  <a:pt x="646778" y="14380"/>
                  <a:pt x="619357" y="15067"/>
                  <a:pt x="655320" y="30480"/>
                </a:cubicBezTo>
                <a:cubicBezTo>
                  <a:pt x="664946" y="34605"/>
                  <a:pt x="675640" y="35560"/>
                  <a:pt x="685800" y="38100"/>
                </a:cubicBezTo>
                <a:cubicBezTo>
                  <a:pt x="746760" y="78740"/>
                  <a:pt x="673100" y="25400"/>
                  <a:pt x="723900" y="76200"/>
                </a:cubicBezTo>
                <a:cubicBezTo>
                  <a:pt x="745738" y="98038"/>
                  <a:pt x="744830" y="86665"/>
                  <a:pt x="769620" y="99060"/>
                </a:cubicBezTo>
                <a:cubicBezTo>
                  <a:pt x="777811" y="103156"/>
                  <a:pt x="787768" y="106447"/>
                  <a:pt x="792480" y="114300"/>
                </a:cubicBezTo>
                <a:cubicBezTo>
                  <a:pt x="796400" y="120834"/>
                  <a:pt x="792480" y="129540"/>
                  <a:pt x="792480" y="137160"/>
                </a:cubicBezTo>
              </a:path>
            </a:pathLst>
          </a:custGeom>
          <a:noFill/>
          <a:ln w="381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7" name="Freeform 5"/>
          <p:cNvSpPr/>
          <p:nvPr/>
        </p:nvSpPr>
        <p:spPr>
          <a:xfrm>
            <a:off x="6388200" y="4964040"/>
            <a:ext cx="428400" cy="900360"/>
          </a:xfrm>
          <a:custGeom>
            <a:avLst/>
            <a:gdLst/>
            <a:ahLst/>
            <a:rect l="l" t="t" r="r" b="b"/>
            <a:pathLst>
              <a:path w="429168" h="900202">
                <a:moveTo>
                  <a:pt x="427372" y="15240"/>
                </a:moveTo>
                <a:cubicBezTo>
                  <a:pt x="437532" y="13970"/>
                  <a:pt x="401837" y="10761"/>
                  <a:pt x="389272" y="7620"/>
                </a:cubicBezTo>
                <a:cubicBezTo>
                  <a:pt x="381480" y="5672"/>
                  <a:pt x="374444" y="0"/>
                  <a:pt x="366412" y="0"/>
                </a:cubicBezTo>
                <a:cubicBezTo>
                  <a:pt x="350962" y="0"/>
                  <a:pt x="335932" y="5080"/>
                  <a:pt x="320692" y="7620"/>
                </a:cubicBezTo>
                <a:cubicBezTo>
                  <a:pt x="305452" y="17780"/>
                  <a:pt x="280764" y="20724"/>
                  <a:pt x="274972" y="38100"/>
                </a:cubicBezTo>
                <a:lnTo>
                  <a:pt x="259732" y="83820"/>
                </a:lnTo>
                <a:lnTo>
                  <a:pt x="252112" y="106680"/>
                </a:lnTo>
                <a:cubicBezTo>
                  <a:pt x="249572" y="152400"/>
                  <a:pt x="248833" y="198256"/>
                  <a:pt x="244492" y="243840"/>
                </a:cubicBezTo>
                <a:cubicBezTo>
                  <a:pt x="243730" y="251836"/>
                  <a:pt x="241890" y="260428"/>
                  <a:pt x="236872" y="266700"/>
                </a:cubicBezTo>
                <a:cubicBezTo>
                  <a:pt x="231151" y="273851"/>
                  <a:pt x="221632" y="276860"/>
                  <a:pt x="214012" y="281940"/>
                </a:cubicBezTo>
                <a:cubicBezTo>
                  <a:pt x="194859" y="339399"/>
                  <a:pt x="220695" y="268574"/>
                  <a:pt x="191152" y="327660"/>
                </a:cubicBezTo>
                <a:cubicBezTo>
                  <a:pt x="187560" y="334844"/>
                  <a:pt x="187124" y="343336"/>
                  <a:pt x="183532" y="350520"/>
                </a:cubicBezTo>
                <a:cubicBezTo>
                  <a:pt x="179436" y="358711"/>
                  <a:pt x="172388" y="365189"/>
                  <a:pt x="168292" y="373380"/>
                </a:cubicBezTo>
                <a:cubicBezTo>
                  <a:pt x="161121" y="387723"/>
                  <a:pt x="161314" y="409174"/>
                  <a:pt x="145432" y="419100"/>
                </a:cubicBezTo>
                <a:cubicBezTo>
                  <a:pt x="131809" y="427614"/>
                  <a:pt x="99712" y="434340"/>
                  <a:pt x="99712" y="434340"/>
                </a:cubicBezTo>
                <a:lnTo>
                  <a:pt x="76852" y="502920"/>
                </a:lnTo>
                <a:cubicBezTo>
                  <a:pt x="74312" y="510540"/>
                  <a:pt x="71180" y="517988"/>
                  <a:pt x="69232" y="525780"/>
                </a:cubicBezTo>
                <a:lnTo>
                  <a:pt x="61612" y="556260"/>
                </a:lnTo>
                <a:cubicBezTo>
                  <a:pt x="64152" y="591820"/>
                  <a:pt x="63944" y="627684"/>
                  <a:pt x="69232" y="662940"/>
                </a:cubicBezTo>
                <a:cubicBezTo>
                  <a:pt x="71615" y="678827"/>
                  <a:pt x="79392" y="693420"/>
                  <a:pt x="84472" y="708660"/>
                </a:cubicBezTo>
                <a:lnTo>
                  <a:pt x="92092" y="731520"/>
                </a:lnTo>
                <a:cubicBezTo>
                  <a:pt x="89552" y="749300"/>
                  <a:pt x="87994" y="767248"/>
                  <a:pt x="84472" y="784860"/>
                </a:cubicBezTo>
                <a:cubicBezTo>
                  <a:pt x="82897" y="792736"/>
                  <a:pt x="82532" y="802040"/>
                  <a:pt x="76852" y="807720"/>
                </a:cubicBezTo>
                <a:cubicBezTo>
                  <a:pt x="63900" y="820672"/>
                  <a:pt x="44084" y="825248"/>
                  <a:pt x="31132" y="838200"/>
                </a:cubicBezTo>
                <a:lnTo>
                  <a:pt x="8272" y="861060"/>
                </a:lnTo>
                <a:cubicBezTo>
                  <a:pt x="5732" y="868680"/>
                  <a:pt x="-2331" y="876462"/>
                  <a:pt x="652" y="883920"/>
                </a:cubicBezTo>
                <a:cubicBezTo>
                  <a:pt x="4053" y="892423"/>
                  <a:pt x="15561" y="903704"/>
                  <a:pt x="23512" y="899160"/>
                </a:cubicBezTo>
                <a:cubicBezTo>
                  <a:pt x="47842" y="885257"/>
                  <a:pt x="61409" y="831188"/>
                  <a:pt x="69232" y="807720"/>
                </a:cubicBezTo>
                <a:lnTo>
                  <a:pt x="76852" y="784860"/>
                </a:lnTo>
                <a:lnTo>
                  <a:pt x="84472" y="762000"/>
                </a:lnTo>
                <a:lnTo>
                  <a:pt x="92092" y="739140"/>
                </a:lnTo>
                <a:cubicBezTo>
                  <a:pt x="89552" y="698500"/>
                  <a:pt x="88524" y="657737"/>
                  <a:pt x="84472" y="617220"/>
                </a:cubicBezTo>
                <a:cubicBezTo>
                  <a:pt x="83430" y="606799"/>
                  <a:pt x="79861" y="596771"/>
                  <a:pt x="76852" y="586740"/>
                </a:cubicBezTo>
                <a:cubicBezTo>
                  <a:pt x="72236" y="571353"/>
                  <a:pt x="61612" y="541020"/>
                  <a:pt x="61612" y="541020"/>
                </a:cubicBezTo>
                <a:cubicBezTo>
                  <a:pt x="64152" y="525780"/>
                  <a:pt x="60372" y="507957"/>
                  <a:pt x="69232" y="495300"/>
                </a:cubicBezTo>
                <a:cubicBezTo>
                  <a:pt x="85181" y="472516"/>
                  <a:pt x="113562" y="465283"/>
                  <a:pt x="137812" y="457200"/>
                </a:cubicBezTo>
                <a:cubicBezTo>
                  <a:pt x="140352" y="449580"/>
                  <a:pt x="140977" y="441023"/>
                  <a:pt x="145432" y="434340"/>
                </a:cubicBezTo>
                <a:cubicBezTo>
                  <a:pt x="169358" y="398451"/>
                  <a:pt x="166912" y="426016"/>
                  <a:pt x="183532" y="388620"/>
                </a:cubicBezTo>
                <a:cubicBezTo>
                  <a:pt x="190056" y="373940"/>
                  <a:pt x="193692" y="358140"/>
                  <a:pt x="198772" y="342900"/>
                </a:cubicBezTo>
                <a:cubicBezTo>
                  <a:pt x="201312" y="335280"/>
                  <a:pt x="204817" y="327916"/>
                  <a:pt x="206392" y="320040"/>
                </a:cubicBezTo>
                <a:cubicBezTo>
                  <a:pt x="208932" y="307340"/>
                  <a:pt x="210871" y="294505"/>
                  <a:pt x="214012" y="281940"/>
                </a:cubicBezTo>
                <a:cubicBezTo>
                  <a:pt x="215960" y="274148"/>
                  <a:pt x="219425" y="266803"/>
                  <a:pt x="221632" y="259080"/>
                </a:cubicBezTo>
                <a:cubicBezTo>
                  <a:pt x="224887" y="247687"/>
                  <a:pt x="230782" y="217920"/>
                  <a:pt x="236872" y="205740"/>
                </a:cubicBezTo>
                <a:cubicBezTo>
                  <a:pt x="240968" y="197549"/>
                  <a:pt x="248016" y="191071"/>
                  <a:pt x="252112" y="182880"/>
                </a:cubicBezTo>
                <a:cubicBezTo>
                  <a:pt x="255704" y="175696"/>
                  <a:pt x="256140" y="167204"/>
                  <a:pt x="259732" y="160020"/>
                </a:cubicBezTo>
                <a:cubicBezTo>
                  <a:pt x="263828" y="151829"/>
                  <a:pt x="271253" y="145529"/>
                  <a:pt x="274972" y="137160"/>
                </a:cubicBezTo>
                <a:cubicBezTo>
                  <a:pt x="281496" y="122480"/>
                  <a:pt x="285132" y="106680"/>
                  <a:pt x="290212" y="91440"/>
                </a:cubicBezTo>
                <a:cubicBezTo>
                  <a:pt x="292752" y="83820"/>
                  <a:pt x="296512" y="76503"/>
                  <a:pt x="297832" y="68580"/>
                </a:cubicBezTo>
                <a:cubicBezTo>
                  <a:pt x="300372" y="53340"/>
                  <a:pt x="297787" y="36275"/>
                  <a:pt x="305452" y="22860"/>
                </a:cubicBezTo>
                <a:cubicBezTo>
                  <a:pt x="309437" y="15886"/>
                  <a:pt x="320436" y="16815"/>
                  <a:pt x="328312" y="15240"/>
                </a:cubicBezTo>
                <a:cubicBezTo>
                  <a:pt x="371800" y="6542"/>
                  <a:pt x="417212" y="16510"/>
                  <a:pt x="427372" y="15240"/>
                </a:cubicBezTo>
                <a:close/>
              </a:path>
            </a:pathLst>
          </a:custGeom>
          <a:solidFill>
            <a:srgbClr val="ffff00"/>
          </a:solidFill>
          <a:ln w="25560">
            <a:solidFill>
              <a:srgbClr val="ffff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8" name="Freeform 9"/>
          <p:cNvSpPr/>
          <p:nvPr/>
        </p:nvSpPr>
        <p:spPr>
          <a:xfrm>
            <a:off x="7275600" y="2401920"/>
            <a:ext cx="1704960" cy="2020680"/>
          </a:xfrm>
          <a:custGeom>
            <a:avLst/>
            <a:gdLst/>
            <a:ahLst/>
            <a:rect l="l" t="t" r="r" b="b"/>
            <a:pathLst>
              <a:path w="1704836" h="2020702">
                <a:moveTo>
                  <a:pt x="35197" y="2020702"/>
                </a:moveTo>
                <a:cubicBezTo>
                  <a:pt x="32657" y="1969902"/>
                  <a:pt x="33407" y="1918830"/>
                  <a:pt x="27577" y="1868302"/>
                </a:cubicBezTo>
                <a:cubicBezTo>
                  <a:pt x="16012" y="1768071"/>
                  <a:pt x="-84399" y="1818376"/>
                  <a:pt x="187597" y="1830202"/>
                </a:cubicBezTo>
                <a:cubicBezTo>
                  <a:pt x="256960" y="1853323"/>
                  <a:pt x="147409" y="1817856"/>
                  <a:pt x="248557" y="1845442"/>
                </a:cubicBezTo>
                <a:cubicBezTo>
                  <a:pt x="264055" y="1849669"/>
                  <a:pt x="280911" y="1851771"/>
                  <a:pt x="294277" y="1860682"/>
                </a:cubicBezTo>
                <a:lnTo>
                  <a:pt x="317137" y="1875922"/>
                </a:lnTo>
                <a:cubicBezTo>
                  <a:pt x="458283" y="1868493"/>
                  <a:pt x="490777" y="1915163"/>
                  <a:pt x="454297" y="1769242"/>
                </a:cubicBezTo>
                <a:cubicBezTo>
                  <a:pt x="451890" y="1759612"/>
                  <a:pt x="417519" y="1735613"/>
                  <a:pt x="408577" y="1731142"/>
                </a:cubicBezTo>
                <a:cubicBezTo>
                  <a:pt x="401393" y="1727550"/>
                  <a:pt x="392901" y="1727114"/>
                  <a:pt x="385717" y="1723522"/>
                </a:cubicBezTo>
                <a:cubicBezTo>
                  <a:pt x="377526" y="1719426"/>
                  <a:pt x="371048" y="1712378"/>
                  <a:pt x="362857" y="1708282"/>
                </a:cubicBezTo>
                <a:cubicBezTo>
                  <a:pt x="355673" y="1704690"/>
                  <a:pt x="347181" y="1704254"/>
                  <a:pt x="339997" y="1700662"/>
                </a:cubicBezTo>
                <a:cubicBezTo>
                  <a:pt x="331806" y="1696566"/>
                  <a:pt x="325328" y="1689518"/>
                  <a:pt x="317137" y="1685422"/>
                </a:cubicBezTo>
                <a:cubicBezTo>
                  <a:pt x="309953" y="1681830"/>
                  <a:pt x="301461" y="1681394"/>
                  <a:pt x="294277" y="1677802"/>
                </a:cubicBezTo>
                <a:cubicBezTo>
                  <a:pt x="261602" y="1661464"/>
                  <a:pt x="278891" y="1663295"/>
                  <a:pt x="248557" y="1639702"/>
                </a:cubicBezTo>
                <a:cubicBezTo>
                  <a:pt x="234099" y="1628457"/>
                  <a:pt x="202837" y="1609222"/>
                  <a:pt x="202837" y="1609222"/>
                </a:cubicBezTo>
                <a:cubicBezTo>
                  <a:pt x="197757" y="1601602"/>
                  <a:pt x="191693" y="1594553"/>
                  <a:pt x="187597" y="1586362"/>
                </a:cubicBezTo>
                <a:cubicBezTo>
                  <a:pt x="184005" y="1579178"/>
                  <a:pt x="180618" y="1571509"/>
                  <a:pt x="179977" y="1563502"/>
                </a:cubicBezTo>
                <a:cubicBezTo>
                  <a:pt x="175516" y="1507742"/>
                  <a:pt x="178316" y="1451481"/>
                  <a:pt x="172357" y="1395862"/>
                </a:cubicBezTo>
                <a:cubicBezTo>
                  <a:pt x="170646" y="1379889"/>
                  <a:pt x="160267" y="1365894"/>
                  <a:pt x="157117" y="1350142"/>
                </a:cubicBezTo>
                <a:cubicBezTo>
                  <a:pt x="147922" y="1304166"/>
                  <a:pt x="153593" y="1324329"/>
                  <a:pt x="141877" y="1289182"/>
                </a:cubicBezTo>
                <a:cubicBezTo>
                  <a:pt x="139337" y="1233302"/>
                  <a:pt x="140216" y="1177161"/>
                  <a:pt x="134257" y="1121542"/>
                </a:cubicBezTo>
                <a:cubicBezTo>
                  <a:pt x="132546" y="1105569"/>
                  <a:pt x="119017" y="1075822"/>
                  <a:pt x="119017" y="1075822"/>
                </a:cubicBezTo>
                <a:cubicBezTo>
                  <a:pt x="121825" y="1056165"/>
                  <a:pt x="123617" y="1020901"/>
                  <a:pt x="134257" y="999622"/>
                </a:cubicBezTo>
                <a:cubicBezTo>
                  <a:pt x="138353" y="991431"/>
                  <a:pt x="142346" y="982483"/>
                  <a:pt x="149497" y="976762"/>
                </a:cubicBezTo>
                <a:cubicBezTo>
                  <a:pt x="155769" y="971744"/>
                  <a:pt x="165173" y="972734"/>
                  <a:pt x="172357" y="969142"/>
                </a:cubicBezTo>
                <a:cubicBezTo>
                  <a:pt x="200736" y="954953"/>
                  <a:pt x="192798" y="952108"/>
                  <a:pt x="218077" y="931042"/>
                </a:cubicBezTo>
                <a:cubicBezTo>
                  <a:pt x="250771" y="903797"/>
                  <a:pt x="233440" y="929371"/>
                  <a:pt x="263797" y="892942"/>
                </a:cubicBezTo>
                <a:cubicBezTo>
                  <a:pt x="315493" y="830907"/>
                  <a:pt x="227824" y="924041"/>
                  <a:pt x="294277" y="824362"/>
                </a:cubicBezTo>
                <a:cubicBezTo>
                  <a:pt x="299357" y="816742"/>
                  <a:pt x="305421" y="809693"/>
                  <a:pt x="309517" y="801502"/>
                </a:cubicBezTo>
                <a:cubicBezTo>
                  <a:pt x="313109" y="794318"/>
                  <a:pt x="312119" y="784914"/>
                  <a:pt x="317137" y="778642"/>
                </a:cubicBezTo>
                <a:cubicBezTo>
                  <a:pt x="331696" y="760444"/>
                  <a:pt x="344451" y="764985"/>
                  <a:pt x="362857" y="755782"/>
                </a:cubicBezTo>
                <a:cubicBezTo>
                  <a:pt x="371048" y="751686"/>
                  <a:pt x="377348" y="744261"/>
                  <a:pt x="385717" y="740542"/>
                </a:cubicBezTo>
                <a:cubicBezTo>
                  <a:pt x="400397" y="734018"/>
                  <a:pt x="416197" y="730382"/>
                  <a:pt x="431437" y="725302"/>
                </a:cubicBezTo>
                <a:cubicBezTo>
                  <a:pt x="439057" y="722762"/>
                  <a:pt x="447614" y="722137"/>
                  <a:pt x="454297" y="717682"/>
                </a:cubicBezTo>
                <a:cubicBezTo>
                  <a:pt x="483840" y="697987"/>
                  <a:pt x="468469" y="705338"/>
                  <a:pt x="500017" y="694822"/>
                </a:cubicBezTo>
                <a:cubicBezTo>
                  <a:pt x="507637" y="687202"/>
                  <a:pt x="516261" y="680468"/>
                  <a:pt x="522877" y="671962"/>
                </a:cubicBezTo>
                <a:cubicBezTo>
                  <a:pt x="534122" y="657504"/>
                  <a:pt x="543197" y="641482"/>
                  <a:pt x="553357" y="626242"/>
                </a:cubicBezTo>
                <a:lnTo>
                  <a:pt x="568597" y="603382"/>
                </a:lnTo>
                <a:lnTo>
                  <a:pt x="583837" y="580522"/>
                </a:lnTo>
                <a:cubicBezTo>
                  <a:pt x="588917" y="572902"/>
                  <a:pt x="596181" y="566350"/>
                  <a:pt x="599077" y="557662"/>
                </a:cubicBezTo>
                <a:cubicBezTo>
                  <a:pt x="604512" y="541356"/>
                  <a:pt x="608034" y="524107"/>
                  <a:pt x="621937" y="511942"/>
                </a:cubicBezTo>
                <a:cubicBezTo>
                  <a:pt x="635721" y="499881"/>
                  <a:pt x="652417" y="491622"/>
                  <a:pt x="667657" y="481462"/>
                </a:cubicBezTo>
                <a:cubicBezTo>
                  <a:pt x="675277" y="476382"/>
                  <a:pt x="681829" y="469118"/>
                  <a:pt x="690517" y="466222"/>
                </a:cubicBezTo>
                <a:lnTo>
                  <a:pt x="736237" y="450982"/>
                </a:lnTo>
                <a:cubicBezTo>
                  <a:pt x="743857" y="448442"/>
                  <a:pt x="751174" y="444682"/>
                  <a:pt x="759097" y="443362"/>
                </a:cubicBezTo>
                <a:cubicBezTo>
                  <a:pt x="822533" y="432789"/>
                  <a:pt x="789522" y="437927"/>
                  <a:pt x="858157" y="428122"/>
                </a:cubicBezTo>
                <a:lnTo>
                  <a:pt x="903877" y="412882"/>
                </a:lnTo>
                <a:cubicBezTo>
                  <a:pt x="911497" y="410342"/>
                  <a:pt x="919553" y="408854"/>
                  <a:pt x="926737" y="405262"/>
                </a:cubicBezTo>
                <a:cubicBezTo>
                  <a:pt x="936897" y="400182"/>
                  <a:pt x="947354" y="395658"/>
                  <a:pt x="957217" y="390022"/>
                </a:cubicBezTo>
                <a:cubicBezTo>
                  <a:pt x="985354" y="373944"/>
                  <a:pt x="977063" y="372102"/>
                  <a:pt x="1010557" y="359542"/>
                </a:cubicBezTo>
                <a:cubicBezTo>
                  <a:pt x="1020363" y="355865"/>
                  <a:pt x="1030877" y="354462"/>
                  <a:pt x="1041037" y="351922"/>
                </a:cubicBezTo>
                <a:cubicBezTo>
                  <a:pt x="1106551" y="308246"/>
                  <a:pt x="1023661" y="360610"/>
                  <a:pt x="1086757" y="329062"/>
                </a:cubicBezTo>
                <a:cubicBezTo>
                  <a:pt x="1094948" y="324966"/>
                  <a:pt x="1101248" y="317541"/>
                  <a:pt x="1109617" y="313822"/>
                </a:cubicBezTo>
                <a:cubicBezTo>
                  <a:pt x="1124297" y="307298"/>
                  <a:pt x="1140097" y="303662"/>
                  <a:pt x="1155337" y="298582"/>
                </a:cubicBezTo>
                <a:cubicBezTo>
                  <a:pt x="1162957" y="296042"/>
                  <a:pt x="1170405" y="292910"/>
                  <a:pt x="1178197" y="290962"/>
                </a:cubicBezTo>
                <a:cubicBezTo>
                  <a:pt x="1188357" y="288422"/>
                  <a:pt x="1198646" y="286351"/>
                  <a:pt x="1208677" y="283342"/>
                </a:cubicBezTo>
                <a:cubicBezTo>
                  <a:pt x="1224064" y="278726"/>
                  <a:pt x="1238645" y="271252"/>
                  <a:pt x="1254397" y="268102"/>
                </a:cubicBezTo>
                <a:cubicBezTo>
                  <a:pt x="1267097" y="265562"/>
                  <a:pt x="1280002" y="263890"/>
                  <a:pt x="1292497" y="260482"/>
                </a:cubicBezTo>
                <a:cubicBezTo>
                  <a:pt x="1307995" y="256255"/>
                  <a:pt x="1322632" y="249138"/>
                  <a:pt x="1338217" y="245242"/>
                </a:cubicBezTo>
                <a:cubicBezTo>
                  <a:pt x="1345391" y="243448"/>
                  <a:pt x="1382613" y="234971"/>
                  <a:pt x="1391557" y="230002"/>
                </a:cubicBezTo>
                <a:cubicBezTo>
                  <a:pt x="1407568" y="221107"/>
                  <a:pt x="1422037" y="209682"/>
                  <a:pt x="1437277" y="199522"/>
                </a:cubicBezTo>
                <a:lnTo>
                  <a:pt x="1460137" y="184282"/>
                </a:lnTo>
                <a:cubicBezTo>
                  <a:pt x="1470297" y="169042"/>
                  <a:pt x="1484825" y="155938"/>
                  <a:pt x="1490617" y="138562"/>
                </a:cubicBezTo>
                <a:cubicBezTo>
                  <a:pt x="1495697" y="123322"/>
                  <a:pt x="1496946" y="106208"/>
                  <a:pt x="1505857" y="92842"/>
                </a:cubicBezTo>
                <a:cubicBezTo>
                  <a:pt x="1542315" y="38156"/>
                  <a:pt x="1523385" y="60074"/>
                  <a:pt x="1559197" y="24262"/>
                </a:cubicBezTo>
                <a:cubicBezTo>
                  <a:pt x="1597325" y="28498"/>
                  <a:pt x="1624388" y="20873"/>
                  <a:pt x="1650637" y="47122"/>
                </a:cubicBezTo>
                <a:cubicBezTo>
                  <a:pt x="1657113" y="53598"/>
                  <a:pt x="1660797" y="62362"/>
                  <a:pt x="1665877" y="69982"/>
                </a:cubicBezTo>
                <a:cubicBezTo>
                  <a:pt x="1676037" y="54742"/>
                  <a:pt x="1690565" y="41638"/>
                  <a:pt x="1696357" y="24262"/>
                </a:cubicBezTo>
                <a:cubicBezTo>
                  <a:pt x="1698897" y="16642"/>
                  <a:pt x="1707569" y="8586"/>
                  <a:pt x="1703977" y="1402"/>
                </a:cubicBezTo>
                <a:cubicBezTo>
                  <a:pt x="1701437" y="-3678"/>
                  <a:pt x="1693817" y="6482"/>
                  <a:pt x="1688737" y="9022"/>
                </a:cubicBezTo>
              </a:path>
            </a:pathLst>
          </a:custGeom>
          <a:noFill/>
          <a:ln w="25560">
            <a:solidFill>
              <a:srgbClr val="ffff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9" name="TextBox 13"/>
          <p:cNvSpPr/>
          <p:nvPr/>
        </p:nvSpPr>
        <p:spPr>
          <a:xfrm>
            <a:off x="7737480" y="308916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d Cedar River</a:t>
            </a:r>
            <a:endParaRPr b="0" lang="en-US" sz="1800" spc="-1" strike="noStrike">
              <a:solidFill>
                <a:srgbClr val="000000"/>
              </a:solidFill>
              <a:latin typeface="Calibri"/>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tershed boundaries</a:t>
            </a:r>
            <a:endParaRPr b="0" lang="en-US" sz="4400" spc="-1" strike="noStrike">
              <a:solidFill>
                <a:srgbClr val="000000"/>
              </a:solidFill>
              <a:latin typeface="Calibri"/>
            </a:endParaRPr>
          </a:p>
        </p:txBody>
      </p:sp>
      <p:sp>
        <p:nvSpPr>
          <p:cNvPr id="81" name=""/>
          <p:cNvSpPr txBox="1"/>
          <p:nvPr/>
        </p:nvSpPr>
        <p:spPr>
          <a:xfrm>
            <a:off x="457200" y="14637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eam order, area, length </a:t>
            </a:r>
            <a:endParaRPr b="0" lang="en-US" sz="3200" spc="-1" strike="noStrike">
              <a:solidFill>
                <a:srgbClr val="000000"/>
              </a:solidFill>
              <a:latin typeface="Calibri"/>
            </a:endParaRPr>
          </a:p>
        </p:txBody>
      </p:sp>
      <p:sp>
        <p:nvSpPr>
          <p:cNvPr id="82" name="Rectangle 3"/>
          <p:cNvSpPr/>
          <p:nvPr/>
        </p:nvSpPr>
        <p:spPr>
          <a:xfrm>
            <a:off x="0" y="6070680"/>
            <a:ext cx="9144000" cy="79056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3" name="Group 14"/>
          <p:cNvGrpSpPr/>
          <p:nvPr/>
        </p:nvGrpSpPr>
        <p:grpSpPr>
          <a:xfrm>
            <a:off x="1688760" y="2095560"/>
            <a:ext cx="6880680" cy="3719520"/>
            <a:chOff x="1688760" y="2095560"/>
            <a:chExt cx="6880680" cy="3719520"/>
          </a:xfrm>
        </p:grpSpPr>
        <p:pic>
          <p:nvPicPr>
            <p:cNvPr id="84" name="Picture 2" descr="C:\Users\bomarc\Dropbox\Camera Uploads\2013-02-15 13.59.16.jpg"/>
            <p:cNvPicPr/>
            <p:nvPr/>
          </p:nvPicPr>
          <p:blipFill>
            <a:blip r:embed="rId1"/>
            <a:srcRect l="39327" t="12348" r="8120" b="49652"/>
            <a:stretch/>
          </p:blipFill>
          <p:spPr>
            <a:xfrm rot="10800000">
              <a:off x="1688760" y="2095200"/>
              <a:ext cx="6857640" cy="3719520"/>
            </a:xfrm>
            <a:prstGeom prst="rect">
              <a:avLst/>
            </a:prstGeom>
            <a:ln w="9360">
              <a:solidFill>
                <a:srgbClr val="000000"/>
              </a:solidFill>
              <a:miter/>
            </a:ln>
          </p:spPr>
        </p:pic>
        <p:sp>
          <p:nvSpPr>
            <p:cNvPr id="85" name="Freeform 5"/>
            <p:cNvSpPr/>
            <p:nvPr/>
          </p:nvSpPr>
          <p:spPr>
            <a:xfrm>
              <a:off x="2518560" y="4214520"/>
              <a:ext cx="1859400" cy="792720"/>
            </a:xfrm>
            <a:custGeom>
              <a:avLst/>
              <a:gdLst/>
              <a:ahLst/>
              <a:rect l="l" t="t" r="r" b="b"/>
              <a:pathLst>
                <a:path w="1859280" h="792480">
                  <a:moveTo>
                    <a:pt x="1859280" y="0"/>
                  </a:moveTo>
                  <a:cubicBezTo>
                    <a:pt x="1819966" y="5616"/>
                    <a:pt x="1749439" y="9201"/>
                    <a:pt x="1706880" y="30480"/>
                  </a:cubicBezTo>
                  <a:cubicBezTo>
                    <a:pt x="1690497" y="38671"/>
                    <a:pt x="1676400" y="50800"/>
                    <a:pt x="1661160" y="60960"/>
                  </a:cubicBezTo>
                  <a:cubicBezTo>
                    <a:pt x="1640840" y="91440"/>
                    <a:pt x="1611784" y="117647"/>
                    <a:pt x="1600200" y="152400"/>
                  </a:cubicBezTo>
                  <a:cubicBezTo>
                    <a:pt x="1595120" y="167640"/>
                    <a:pt x="1592144" y="183752"/>
                    <a:pt x="1584960" y="198120"/>
                  </a:cubicBezTo>
                  <a:cubicBezTo>
                    <a:pt x="1576769" y="214503"/>
                    <a:pt x="1562671" y="227457"/>
                    <a:pt x="1554480" y="243840"/>
                  </a:cubicBezTo>
                  <a:cubicBezTo>
                    <a:pt x="1547296" y="258208"/>
                    <a:pt x="1546424" y="275192"/>
                    <a:pt x="1539240" y="289560"/>
                  </a:cubicBezTo>
                  <a:cubicBezTo>
                    <a:pt x="1531049" y="305943"/>
                    <a:pt x="1516951" y="318897"/>
                    <a:pt x="1508760" y="335280"/>
                  </a:cubicBezTo>
                  <a:cubicBezTo>
                    <a:pt x="1480968" y="390864"/>
                    <a:pt x="1504638" y="424388"/>
                    <a:pt x="1432560" y="472440"/>
                  </a:cubicBezTo>
                  <a:cubicBezTo>
                    <a:pt x="1387605" y="502410"/>
                    <a:pt x="1377790" y="504636"/>
                    <a:pt x="1341120" y="548640"/>
                  </a:cubicBezTo>
                  <a:cubicBezTo>
                    <a:pt x="1329394" y="562711"/>
                    <a:pt x="1324424" y="582299"/>
                    <a:pt x="1310640" y="594360"/>
                  </a:cubicBezTo>
                  <a:cubicBezTo>
                    <a:pt x="1283071" y="618483"/>
                    <a:pt x="1219200" y="655320"/>
                    <a:pt x="1219200" y="655320"/>
                  </a:cubicBezTo>
                  <a:cubicBezTo>
                    <a:pt x="1209040" y="670560"/>
                    <a:pt x="1204252" y="691332"/>
                    <a:pt x="1188720" y="701040"/>
                  </a:cubicBezTo>
                  <a:cubicBezTo>
                    <a:pt x="1161475" y="718068"/>
                    <a:pt x="1124013" y="713698"/>
                    <a:pt x="1097280" y="731520"/>
                  </a:cubicBezTo>
                  <a:cubicBezTo>
                    <a:pt x="1082040" y="741680"/>
                    <a:pt x="1067943" y="753809"/>
                    <a:pt x="1051560" y="762000"/>
                  </a:cubicBezTo>
                  <a:cubicBezTo>
                    <a:pt x="1020318" y="777621"/>
                    <a:pt x="958623" y="786683"/>
                    <a:pt x="929640" y="792480"/>
                  </a:cubicBezTo>
                  <a:cubicBezTo>
                    <a:pt x="863600" y="787400"/>
                    <a:pt x="795574" y="794096"/>
                    <a:pt x="731520" y="777240"/>
                  </a:cubicBezTo>
                  <a:lnTo>
                    <a:pt x="594360" y="685800"/>
                  </a:lnTo>
                  <a:lnTo>
                    <a:pt x="320040" y="502920"/>
                  </a:lnTo>
                  <a:lnTo>
                    <a:pt x="274320" y="472440"/>
                  </a:lnTo>
                  <a:cubicBezTo>
                    <a:pt x="259080" y="462280"/>
                    <a:pt x="245976" y="447752"/>
                    <a:pt x="228600" y="441960"/>
                  </a:cubicBezTo>
                  <a:cubicBezTo>
                    <a:pt x="213360" y="436880"/>
                    <a:pt x="197248" y="433904"/>
                    <a:pt x="182880" y="426720"/>
                  </a:cubicBezTo>
                  <a:cubicBezTo>
                    <a:pt x="166497" y="418529"/>
                    <a:pt x="153543" y="404431"/>
                    <a:pt x="137160" y="396240"/>
                  </a:cubicBezTo>
                  <a:cubicBezTo>
                    <a:pt x="122792" y="389056"/>
                    <a:pt x="107122" y="384485"/>
                    <a:pt x="91440" y="381000"/>
                  </a:cubicBezTo>
                  <a:cubicBezTo>
                    <a:pt x="61275" y="374297"/>
                    <a:pt x="0" y="365760"/>
                    <a:pt x="0" y="365760"/>
                  </a:cubicBezTo>
                </a:path>
              </a:pathLst>
            </a:custGeom>
            <a:noFill/>
            <a:ln w="381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6" name="Freeform 8"/>
            <p:cNvSpPr/>
            <p:nvPr/>
          </p:nvSpPr>
          <p:spPr>
            <a:xfrm>
              <a:off x="2396520" y="3848760"/>
              <a:ext cx="1737360" cy="548640"/>
            </a:xfrm>
            <a:custGeom>
              <a:avLst/>
              <a:gdLst/>
              <a:ahLst/>
              <a:rect l="l" t="t" r="r" b="b"/>
              <a:pathLst>
                <a:path w="1737360" h="548722">
                  <a:moveTo>
                    <a:pt x="1737360" y="548722"/>
                  </a:moveTo>
                  <a:cubicBezTo>
                    <a:pt x="1629655" y="527181"/>
                    <a:pt x="1685734" y="541673"/>
                    <a:pt x="1569720" y="503002"/>
                  </a:cubicBezTo>
                  <a:cubicBezTo>
                    <a:pt x="1554480" y="497922"/>
                    <a:pt x="1540054" y="488335"/>
                    <a:pt x="1524000" y="487762"/>
                  </a:cubicBezTo>
                  <a:lnTo>
                    <a:pt x="1097280" y="472522"/>
                  </a:lnTo>
                  <a:cubicBezTo>
                    <a:pt x="1057966" y="466906"/>
                    <a:pt x="987439" y="463321"/>
                    <a:pt x="944880" y="442042"/>
                  </a:cubicBezTo>
                  <a:cubicBezTo>
                    <a:pt x="928497" y="433851"/>
                    <a:pt x="914400" y="421722"/>
                    <a:pt x="899160" y="411562"/>
                  </a:cubicBezTo>
                  <a:cubicBezTo>
                    <a:pt x="889000" y="396322"/>
                    <a:pt x="882464" y="377903"/>
                    <a:pt x="868680" y="365842"/>
                  </a:cubicBezTo>
                  <a:cubicBezTo>
                    <a:pt x="804184" y="309408"/>
                    <a:pt x="794315" y="310574"/>
                    <a:pt x="731520" y="289642"/>
                  </a:cubicBezTo>
                  <a:cubicBezTo>
                    <a:pt x="721360" y="274402"/>
                    <a:pt x="716280" y="254082"/>
                    <a:pt x="701040" y="243922"/>
                  </a:cubicBezTo>
                  <a:cubicBezTo>
                    <a:pt x="683612" y="232304"/>
                    <a:pt x="660142" y="234701"/>
                    <a:pt x="640080" y="228682"/>
                  </a:cubicBezTo>
                  <a:cubicBezTo>
                    <a:pt x="609306" y="219450"/>
                    <a:pt x="579120" y="208362"/>
                    <a:pt x="548640" y="198202"/>
                  </a:cubicBezTo>
                  <a:lnTo>
                    <a:pt x="502920" y="182962"/>
                  </a:lnTo>
                  <a:cubicBezTo>
                    <a:pt x="388002" y="144656"/>
                    <a:pt x="529653" y="196328"/>
                    <a:pt x="411480" y="137242"/>
                  </a:cubicBezTo>
                  <a:cubicBezTo>
                    <a:pt x="397112" y="130058"/>
                    <a:pt x="380128" y="129186"/>
                    <a:pt x="365760" y="122002"/>
                  </a:cubicBezTo>
                  <a:cubicBezTo>
                    <a:pt x="349377" y="113811"/>
                    <a:pt x="336778" y="98961"/>
                    <a:pt x="320040" y="91522"/>
                  </a:cubicBezTo>
                  <a:cubicBezTo>
                    <a:pt x="290680" y="78473"/>
                    <a:pt x="259080" y="71202"/>
                    <a:pt x="228600" y="61042"/>
                  </a:cubicBezTo>
                  <a:cubicBezTo>
                    <a:pt x="213360" y="55962"/>
                    <a:pt x="198465" y="49698"/>
                    <a:pt x="182880" y="45802"/>
                  </a:cubicBezTo>
                  <a:cubicBezTo>
                    <a:pt x="162560" y="40722"/>
                    <a:pt x="141982" y="36581"/>
                    <a:pt x="121920" y="30562"/>
                  </a:cubicBezTo>
                  <a:cubicBezTo>
                    <a:pt x="9610" y="-3131"/>
                    <a:pt x="66160" y="82"/>
                    <a:pt x="0" y="82"/>
                  </a:cubicBezTo>
                </a:path>
              </a:pathLst>
            </a:custGeom>
            <a:noFill/>
            <a:ln w="381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7" name="Freeform 9"/>
            <p:cNvSpPr/>
            <p:nvPr/>
          </p:nvSpPr>
          <p:spPr>
            <a:xfrm>
              <a:off x="2701440" y="2171520"/>
              <a:ext cx="335160" cy="685800"/>
            </a:xfrm>
            <a:custGeom>
              <a:avLst/>
              <a:gdLst/>
              <a:ahLst/>
              <a:rect l="l" t="t" r="r" b="b"/>
              <a:pathLst>
                <a:path w="335368" h="685800">
                  <a:moveTo>
                    <a:pt x="335368" y="685800"/>
                  </a:moveTo>
                  <a:cubicBezTo>
                    <a:pt x="308598" y="525181"/>
                    <a:pt x="330318" y="663167"/>
                    <a:pt x="304888" y="472440"/>
                  </a:cubicBezTo>
                  <a:cubicBezTo>
                    <a:pt x="300141" y="436834"/>
                    <a:pt x="297725" y="400761"/>
                    <a:pt x="289648" y="365760"/>
                  </a:cubicBezTo>
                  <a:cubicBezTo>
                    <a:pt x="282424" y="334454"/>
                    <a:pt x="269328" y="304800"/>
                    <a:pt x="259168" y="274320"/>
                  </a:cubicBezTo>
                  <a:cubicBezTo>
                    <a:pt x="254088" y="259080"/>
                    <a:pt x="257294" y="237511"/>
                    <a:pt x="243928" y="228600"/>
                  </a:cubicBezTo>
                  <a:lnTo>
                    <a:pt x="152488" y="167640"/>
                  </a:lnTo>
                  <a:lnTo>
                    <a:pt x="106768" y="137160"/>
                  </a:lnTo>
                  <a:cubicBezTo>
                    <a:pt x="86448" y="106680"/>
                    <a:pt x="76288" y="66040"/>
                    <a:pt x="45808" y="45720"/>
                  </a:cubicBezTo>
                  <a:cubicBezTo>
                    <a:pt x="-4139" y="12422"/>
                    <a:pt x="88" y="33556"/>
                    <a:pt x="88" y="0"/>
                  </a:cubicBezTo>
                </a:path>
              </a:pathLst>
            </a:custGeom>
            <a:noFill/>
            <a:ln w="381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8" name="Freeform 10"/>
            <p:cNvSpPr/>
            <p:nvPr/>
          </p:nvSpPr>
          <p:spPr>
            <a:xfrm>
              <a:off x="2670840" y="4839480"/>
              <a:ext cx="380880" cy="533520"/>
            </a:xfrm>
            <a:custGeom>
              <a:avLst/>
              <a:gdLst/>
              <a:ahLst/>
              <a:rect l="l" t="t" r="r" b="b"/>
              <a:pathLst>
                <a:path w="381000" h="533400">
                  <a:moveTo>
                    <a:pt x="381000" y="0"/>
                  </a:moveTo>
                  <a:cubicBezTo>
                    <a:pt x="375920" y="50800"/>
                    <a:pt x="373523" y="101940"/>
                    <a:pt x="365760" y="152400"/>
                  </a:cubicBezTo>
                  <a:cubicBezTo>
                    <a:pt x="363317" y="168278"/>
                    <a:pt x="359431" y="184754"/>
                    <a:pt x="350520" y="198120"/>
                  </a:cubicBezTo>
                  <a:cubicBezTo>
                    <a:pt x="333668" y="223399"/>
                    <a:pt x="287193" y="260263"/>
                    <a:pt x="259080" y="274320"/>
                  </a:cubicBezTo>
                  <a:cubicBezTo>
                    <a:pt x="244712" y="281504"/>
                    <a:pt x="227728" y="282376"/>
                    <a:pt x="213360" y="289560"/>
                  </a:cubicBezTo>
                  <a:cubicBezTo>
                    <a:pt x="156603" y="317939"/>
                    <a:pt x="172477" y="323629"/>
                    <a:pt x="121920" y="365760"/>
                  </a:cubicBezTo>
                  <a:cubicBezTo>
                    <a:pt x="107849" y="377486"/>
                    <a:pt x="91440" y="386080"/>
                    <a:pt x="76200" y="396240"/>
                  </a:cubicBezTo>
                  <a:cubicBezTo>
                    <a:pt x="55880" y="426720"/>
                    <a:pt x="26824" y="452927"/>
                    <a:pt x="15240" y="487680"/>
                  </a:cubicBezTo>
                  <a:lnTo>
                    <a:pt x="0" y="533400"/>
                  </a:lnTo>
                </a:path>
              </a:pathLst>
            </a:custGeom>
            <a:noFill/>
            <a:ln w="381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 name="Freeform 11"/>
            <p:cNvSpPr/>
            <p:nvPr/>
          </p:nvSpPr>
          <p:spPr>
            <a:xfrm>
              <a:off x="2533680" y="3208320"/>
              <a:ext cx="883800" cy="213120"/>
            </a:xfrm>
            <a:custGeom>
              <a:avLst/>
              <a:gdLst/>
              <a:ahLst/>
              <a:rect l="l" t="t" r="r" b="b"/>
              <a:pathLst>
                <a:path w="883920" h="213360">
                  <a:moveTo>
                    <a:pt x="883920" y="167640"/>
                  </a:moveTo>
                  <a:cubicBezTo>
                    <a:pt x="853440" y="172720"/>
                    <a:pt x="822645" y="176177"/>
                    <a:pt x="792480" y="182880"/>
                  </a:cubicBezTo>
                  <a:cubicBezTo>
                    <a:pt x="776798" y="186365"/>
                    <a:pt x="762683" y="195997"/>
                    <a:pt x="746760" y="198120"/>
                  </a:cubicBezTo>
                  <a:cubicBezTo>
                    <a:pt x="686125" y="206205"/>
                    <a:pt x="624840" y="208280"/>
                    <a:pt x="563880" y="213360"/>
                  </a:cubicBezTo>
                  <a:cubicBezTo>
                    <a:pt x="472440" y="208280"/>
                    <a:pt x="379216" y="216798"/>
                    <a:pt x="289560" y="198120"/>
                  </a:cubicBezTo>
                  <a:cubicBezTo>
                    <a:pt x="253698" y="190649"/>
                    <a:pt x="228600" y="157480"/>
                    <a:pt x="198120" y="137160"/>
                  </a:cubicBezTo>
                  <a:lnTo>
                    <a:pt x="152400" y="106680"/>
                  </a:lnTo>
                  <a:cubicBezTo>
                    <a:pt x="125307" y="66040"/>
                    <a:pt x="89747" y="0"/>
                    <a:pt x="30480" y="0"/>
                  </a:cubicBezTo>
                  <a:lnTo>
                    <a:pt x="0" y="0"/>
                  </a:lnTo>
                </a:path>
              </a:pathLst>
            </a:custGeom>
            <a:noFill/>
            <a:ln w="381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0" name="Freeform 12"/>
            <p:cNvSpPr/>
            <p:nvPr/>
          </p:nvSpPr>
          <p:spPr>
            <a:xfrm>
              <a:off x="1921680" y="2377440"/>
              <a:ext cx="6264360" cy="2241000"/>
            </a:xfrm>
            <a:custGeom>
              <a:avLst/>
              <a:gdLst/>
              <a:ahLst/>
              <a:rect l="l" t="t" r="r" b="b"/>
              <a:pathLst>
                <a:path w="6263640" h="2240280">
                  <a:moveTo>
                    <a:pt x="0" y="0"/>
                  </a:moveTo>
                  <a:cubicBezTo>
                    <a:pt x="180649" y="36130"/>
                    <a:pt x="-6510" y="-11360"/>
                    <a:pt x="121920" y="45720"/>
                  </a:cubicBezTo>
                  <a:cubicBezTo>
                    <a:pt x="151280" y="58769"/>
                    <a:pt x="182880" y="66040"/>
                    <a:pt x="213360" y="76200"/>
                  </a:cubicBezTo>
                  <a:lnTo>
                    <a:pt x="304800" y="106680"/>
                  </a:lnTo>
                  <a:cubicBezTo>
                    <a:pt x="320040" y="111760"/>
                    <a:pt x="337154" y="113009"/>
                    <a:pt x="350520" y="121920"/>
                  </a:cubicBezTo>
                  <a:cubicBezTo>
                    <a:pt x="381000" y="142240"/>
                    <a:pt x="407207" y="171296"/>
                    <a:pt x="441960" y="182880"/>
                  </a:cubicBezTo>
                  <a:cubicBezTo>
                    <a:pt x="472440" y="193040"/>
                    <a:pt x="506667" y="195538"/>
                    <a:pt x="533400" y="213360"/>
                  </a:cubicBezTo>
                  <a:cubicBezTo>
                    <a:pt x="563880" y="233680"/>
                    <a:pt x="590087" y="262736"/>
                    <a:pt x="624840" y="274320"/>
                  </a:cubicBezTo>
                  <a:cubicBezTo>
                    <a:pt x="655320" y="284480"/>
                    <a:pt x="689547" y="286978"/>
                    <a:pt x="716280" y="304800"/>
                  </a:cubicBezTo>
                  <a:cubicBezTo>
                    <a:pt x="788816" y="353157"/>
                    <a:pt x="733495" y="323680"/>
                    <a:pt x="822960" y="350520"/>
                  </a:cubicBezTo>
                  <a:cubicBezTo>
                    <a:pt x="853734" y="359752"/>
                    <a:pt x="887667" y="363178"/>
                    <a:pt x="914400" y="381000"/>
                  </a:cubicBezTo>
                  <a:cubicBezTo>
                    <a:pt x="944880" y="401320"/>
                    <a:pt x="971087" y="430376"/>
                    <a:pt x="1005840" y="441960"/>
                  </a:cubicBezTo>
                  <a:cubicBezTo>
                    <a:pt x="1021080" y="447040"/>
                    <a:pt x="1037517" y="449398"/>
                    <a:pt x="1051560" y="457200"/>
                  </a:cubicBezTo>
                  <a:cubicBezTo>
                    <a:pt x="1083582" y="474990"/>
                    <a:pt x="1112520" y="497840"/>
                    <a:pt x="1143000" y="518160"/>
                  </a:cubicBezTo>
                  <a:lnTo>
                    <a:pt x="1188720" y="548640"/>
                  </a:lnTo>
                  <a:cubicBezTo>
                    <a:pt x="1270000" y="670560"/>
                    <a:pt x="1163320" y="523240"/>
                    <a:pt x="1264920" y="624840"/>
                  </a:cubicBezTo>
                  <a:cubicBezTo>
                    <a:pt x="1366520" y="726440"/>
                    <a:pt x="1219200" y="619760"/>
                    <a:pt x="1341120" y="701040"/>
                  </a:cubicBezTo>
                  <a:cubicBezTo>
                    <a:pt x="1346200" y="716280"/>
                    <a:pt x="1345001" y="735401"/>
                    <a:pt x="1356360" y="746760"/>
                  </a:cubicBezTo>
                  <a:cubicBezTo>
                    <a:pt x="1367719" y="758119"/>
                    <a:pt x="1392743" y="748928"/>
                    <a:pt x="1402080" y="762000"/>
                  </a:cubicBezTo>
                  <a:cubicBezTo>
                    <a:pt x="1420754" y="788144"/>
                    <a:pt x="1422400" y="822960"/>
                    <a:pt x="1432560" y="853440"/>
                  </a:cubicBezTo>
                  <a:cubicBezTo>
                    <a:pt x="1437640" y="868680"/>
                    <a:pt x="1438889" y="885794"/>
                    <a:pt x="1447800" y="899160"/>
                  </a:cubicBezTo>
                  <a:cubicBezTo>
                    <a:pt x="1457960" y="914400"/>
                    <a:pt x="1470089" y="928497"/>
                    <a:pt x="1478280" y="944880"/>
                  </a:cubicBezTo>
                  <a:cubicBezTo>
                    <a:pt x="1516608" y="1021536"/>
                    <a:pt x="1458376" y="985936"/>
                    <a:pt x="1554480" y="1082040"/>
                  </a:cubicBezTo>
                  <a:cubicBezTo>
                    <a:pt x="1569720" y="1097280"/>
                    <a:pt x="1581360" y="1117293"/>
                    <a:pt x="1600200" y="1127760"/>
                  </a:cubicBezTo>
                  <a:cubicBezTo>
                    <a:pt x="1628286" y="1143363"/>
                    <a:pt x="1691640" y="1158240"/>
                    <a:pt x="1691640" y="1158240"/>
                  </a:cubicBezTo>
                  <a:cubicBezTo>
                    <a:pt x="1701800" y="1173480"/>
                    <a:pt x="1714681" y="1187222"/>
                    <a:pt x="1722120" y="1203960"/>
                  </a:cubicBezTo>
                  <a:cubicBezTo>
                    <a:pt x="1735169" y="1233320"/>
                    <a:pt x="1725867" y="1277578"/>
                    <a:pt x="1752600" y="1295400"/>
                  </a:cubicBezTo>
                  <a:lnTo>
                    <a:pt x="1844040" y="1356360"/>
                  </a:lnTo>
                  <a:cubicBezTo>
                    <a:pt x="1849120" y="1371600"/>
                    <a:pt x="1855384" y="1386495"/>
                    <a:pt x="1859280" y="1402080"/>
                  </a:cubicBezTo>
                  <a:cubicBezTo>
                    <a:pt x="1865562" y="1427210"/>
                    <a:pt x="1861669" y="1455790"/>
                    <a:pt x="1874520" y="1478280"/>
                  </a:cubicBezTo>
                  <a:cubicBezTo>
                    <a:pt x="1893401" y="1511321"/>
                    <a:pt x="1938126" y="1508537"/>
                    <a:pt x="1965960" y="1524000"/>
                  </a:cubicBezTo>
                  <a:cubicBezTo>
                    <a:pt x="2123170" y="1611339"/>
                    <a:pt x="1999667" y="1565716"/>
                    <a:pt x="2103120" y="1600200"/>
                  </a:cubicBezTo>
                  <a:cubicBezTo>
                    <a:pt x="2167822" y="1697253"/>
                    <a:pt x="2086715" y="1599682"/>
                    <a:pt x="2225040" y="1661160"/>
                  </a:cubicBezTo>
                  <a:cubicBezTo>
                    <a:pt x="2244735" y="1669913"/>
                    <a:pt x="2255520" y="1691640"/>
                    <a:pt x="2270760" y="1706880"/>
                  </a:cubicBezTo>
                  <a:lnTo>
                    <a:pt x="2301240" y="1798320"/>
                  </a:lnTo>
                  <a:cubicBezTo>
                    <a:pt x="2318817" y="1851052"/>
                    <a:pt x="2307053" y="1846946"/>
                    <a:pt x="2362200" y="1874520"/>
                  </a:cubicBezTo>
                  <a:cubicBezTo>
                    <a:pt x="2376568" y="1881704"/>
                    <a:pt x="2392074" y="1887119"/>
                    <a:pt x="2407920" y="1889760"/>
                  </a:cubicBezTo>
                  <a:cubicBezTo>
                    <a:pt x="2453295" y="1897323"/>
                    <a:pt x="2499360" y="1899920"/>
                    <a:pt x="2545080" y="1905000"/>
                  </a:cubicBezTo>
                  <a:cubicBezTo>
                    <a:pt x="2653896" y="1941272"/>
                    <a:pt x="2609787" y="1917658"/>
                    <a:pt x="2682240" y="1965960"/>
                  </a:cubicBezTo>
                  <a:cubicBezTo>
                    <a:pt x="2707640" y="2042160"/>
                    <a:pt x="2682240" y="2006600"/>
                    <a:pt x="2788920" y="2042160"/>
                  </a:cubicBezTo>
                  <a:lnTo>
                    <a:pt x="2834640" y="2057400"/>
                  </a:lnTo>
                  <a:cubicBezTo>
                    <a:pt x="2895600" y="2052320"/>
                    <a:pt x="2956885" y="2050245"/>
                    <a:pt x="3017520" y="2042160"/>
                  </a:cubicBezTo>
                  <a:cubicBezTo>
                    <a:pt x="3033443" y="2040037"/>
                    <a:pt x="3047317" y="2029043"/>
                    <a:pt x="3063240" y="2026920"/>
                  </a:cubicBezTo>
                  <a:cubicBezTo>
                    <a:pt x="3123875" y="2018835"/>
                    <a:pt x="3185160" y="2016760"/>
                    <a:pt x="3246120" y="2011680"/>
                  </a:cubicBezTo>
                  <a:cubicBezTo>
                    <a:pt x="3276600" y="2001520"/>
                    <a:pt x="3306055" y="1987501"/>
                    <a:pt x="3337560" y="1981200"/>
                  </a:cubicBezTo>
                  <a:cubicBezTo>
                    <a:pt x="3590839" y="1930544"/>
                    <a:pt x="3226899" y="1999886"/>
                    <a:pt x="3870960" y="1935480"/>
                  </a:cubicBezTo>
                  <a:lnTo>
                    <a:pt x="4023360" y="1920240"/>
                  </a:lnTo>
                  <a:cubicBezTo>
                    <a:pt x="4053840" y="1925320"/>
                    <a:pt x="4086277" y="1923595"/>
                    <a:pt x="4114800" y="1935480"/>
                  </a:cubicBezTo>
                  <a:cubicBezTo>
                    <a:pt x="4148615" y="1949569"/>
                    <a:pt x="4171487" y="1984856"/>
                    <a:pt x="4206240" y="1996440"/>
                  </a:cubicBezTo>
                  <a:lnTo>
                    <a:pt x="4251960" y="2011680"/>
                  </a:lnTo>
                  <a:cubicBezTo>
                    <a:pt x="4307840" y="2006600"/>
                    <a:pt x="4364054" y="2004375"/>
                    <a:pt x="4419600" y="1996440"/>
                  </a:cubicBezTo>
                  <a:cubicBezTo>
                    <a:pt x="4473229" y="1988779"/>
                    <a:pt x="4462748" y="1974866"/>
                    <a:pt x="4511040" y="1950720"/>
                  </a:cubicBezTo>
                  <a:cubicBezTo>
                    <a:pt x="4525408" y="1943536"/>
                    <a:pt x="4541175" y="1939376"/>
                    <a:pt x="4556760" y="1935480"/>
                  </a:cubicBezTo>
                  <a:cubicBezTo>
                    <a:pt x="4581940" y="1929185"/>
                    <a:pt x="4704419" y="1906599"/>
                    <a:pt x="4724400" y="1905000"/>
                  </a:cubicBezTo>
                  <a:cubicBezTo>
                    <a:pt x="4820746" y="1897292"/>
                    <a:pt x="4917440" y="1894840"/>
                    <a:pt x="5013960" y="1889760"/>
                  </a:cubicBezTo>
                  <a:lnTo>
                    <a:pt x="5151120" y="1844040"/>
                  </a:lnTo>
                  <a:lnTo>
                    <a:pt x="5196840" y="1828800"/>
                  </a:lnTo>
                  <a:lnTo>
                    <a:pt x="5242560" y="1813560"/>
                  </a:lnTo>
                  <a:cubicBezTo>
                    <a:pt x="5334000" y="1818640"/>
                    <a:pt x="5426006" y="1817441"/>
                    <a:pt x="5516880" y="1828800"/>
                  </a:cubicBezTo>
                  <a:cubicBezTo>
                    <a:pt x="5643140" y="1844582"/>
                    <a:pt x="5571643" y="1853139"/>
                    <a:pt x="5654040" y="1889760"/>
                  </a:cubicBezTo>
                  <a:lnTo>
                    <a:pt x="5791200" y="1935480"/>
                  </a:lnTo>
                  <a:lnTo>
                    <a:pt x="5836920" y="1950720"/>
                  </a:lnTo>
                  <a:lnTo>
                    <a:pt x="5882640" y="1965960"/>
                  </a:lnTo>
                  <a:cubicBezTo>
                    <a:pt x="5938520" y="2049780"/>
                    <a:pt x="5882640" y="1978660"/>
                    <a:pt x="5958840" y="2042160"/>
                  </a:cubicBezTo>
                  <a:cubicBezTo>
                    <a:pt x="6011438" y="2085991"/>
                    <a:pt x="6018964" y="2123161"/>
                    <a:pt x="6096000" y="2148840"/>
                  </a:cubicBezTo>
                  <a:cubicBezTo>
                    <a:pt x="6111240" y="2153920"/>
                    <a:pt x="6127677" y="2156278"/>
                    <a:pt x="6141720" y="2164080"/>
                  </a:cubicBezTo>
                  <a:cubicBezTo>
                    <a:pt x="6173742" y="2181870"/>
                    <a:pt x="6200395" y="2208657"/>
                    <a:pt x="6233160" y="2225040"/>
                  </a:cubicBezTo>
                  <a:lnTo>
                    <a:pt x="6263640" y="2240280"/>
                  </a:lnTo>
                </a:path>
              </a:pathLst>
            </a:custGeom>
            <a:noFill/>
            <a:ln w="381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1" name="TextBox 13"/>
            <p:cNvSpPr/>
            <p:nvPr/>
          </p:nvSpPr>
          <p:spPr>
            <a:xfrm>
              <a:off x="2869200" y="3086280"/>
              <a:ext cx="30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a:t>
              </a:r>
              <a:endParaRPr b="0" lang="en-US" sz="1800" spc="-1" strike="noStrike">
                <a:solidFill>
                  <a:srgbClr val="000000"/>
                </a:solidFill>
                <a:latin typeface="Calibri"/>
              </a:endParaRPr>
            </a:p>
          </p:txBody>
        </p:sp>
        <p:sp>
          <p:nvSpPr>
            <p:cNvPr id="92" name="TextBox 15"/>
            <p:cNvSpPr/>
            <p:nvPr/>
          </p:nvSpPr>
          <p:spPr>
            <a:xfrm>
              <a:off x="2792880" y="3657960"/>
              <a:ext cx="38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a:t>
              </a:r>
              <a:endParaRPr b="0" lang="en-US" sz="1800" spc="-1" strike="noStrike">
                <a:solidFill>
                  <a:srgbClr val="000000"/>
                </a:solidFill>
                <a:latin typeface="Calibri"/>
              </a:endParaRPr>
            </a:p>
          </p:txBody>
        </p:sp>
        <p:sp>
          <p:nvSpPr>
            <p:cNvPr id="93" name="TextBox 16"/>
            <p:cNvSpPr/>
            <p:nvPr/>
          </p:nvSpPr>
          <p:spPr>
            <a:xfrm>
              <a:off x="2731320" y="4374720"/>
              <a:ext cx="30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a:t>
              </a:r>
              <a:endParaRPr b="0" lang="en-US" sz="1800" spc="-1" strike="noStrike">
                <a:solidFill>
                  <a:srgbClr val="000000"/>
                </a:solidFill>
                <a:latin typeface="Calibri"/>
              </a:endParaRPr>
            </a:p>
          </p:txBody>
        </p:sp>
        <p:sp>
          <p:nvSpPr>
            <p:cNvPr id="94" name="TextBox 17"/>
            <p:cNvSpPr/>
            <p:nvPr/>
          </p:nvSpPr>
          <p:spPr>
            <a:xfrm>
              <a:off x="2869200" y="5098680"/>
              <a:ext cx="30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a:t>
              </a:r>
              <a:endParaRPr b="0" lang="en-US" sz="1800" spc="-1" strike="noStrike">
                <a:solidFill>
                  <a:srgbClr val="000000"/>
                </a:solidFill>
                <a:latin typeface="Calibri"/>
              </a:endParaRPr>
            </a:p>
          </p:txBody>
        </p:sp>
        <p:sp>
          <p:nvSpPr>
            <p:cNvPr id="95" name="TextBox 18"/>
            <p:cNvSpPr/>
            <p:nvPr/>
          </p:nvSpPr>
          <p:spPr>
            <a:xfrm>
              <a:off x="3021840" y="2240280"/>
              <a:ext cx="30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a:t>
              </a:r>
              <a:endParaRPr b="0" lang="en-US" sz="1800" spc="-1" strike="noStrike">
                <a:solidFill>
                  <a:srgbClr val="000000"/>
                </a:solidFill>
                <a:latin typeface="Calibri"/>
              </a:endParaRPr>
            </a:p>
          </p:txBody>
        </p:sp>
        <p:sp>
          <p:nvSpPr>
            <p:cNvPr id="96" name="TextBox 19"/>
            <p:cNvSpPr/>
            <p:nvPr/>
          </p:nvSpPr>
          <p:spPr>
            <a:xfrm>
              <a:off x="3311280" y="2796840"/>
              <a:ext cx="30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a:t>
              </a:r>
              <a:endParaRPr b="0" lang="en-US" sz="1800" spc="-1" strike="noStrike">
                <a:solidFill>
                  <a:srgbClr val="000000"/>
                </a:solidFill>
                <a:latin typeface="Calibri"/>
              </a:endParaRPr>
            </a:p>
          </p:txBody>
        </p:sp>
        <p:sp>
          <p:nvSpPr>
            <p:cNvPr id="97" name="TextBox 21"/>
            <p:cNvSpPr/>
            <p:nvPr/>
          </p:nvSpPr>
          <p:spPr>
            <a:xfrm>
              <a:off x="3372480" y="4610880"/>
              <a:ext cx="30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a:t>
              </a:r>
              <a:endParaRPr b="0" lang="en-US" sz="1800" spc="-1" strike="noStrike">
                <a:solidFill>
                  <a:srgbClr val="000000"/>
                </a:solidFill>
                <a:latin typeface="Calibri"/>
              </a:endParaRPr>
            </a:p>
          </p:txBody>
        </p:sp>
        <p:sp>
          <p:nvSpPr>
            <p:cNvPr id="98" name="TextBox 22"/>
            <p:cNvSpPr/>
            <p:nvPr/>
          </p:nvSpPr>
          <p:spPr>
            <a:xfrm>
              <a:off x="4225320" y="3764880"/>
              <a:ext cx="30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a:t>
              </a:r>
              <a:endParaRPr b="0" lang="en-US" sz="1800" spc="-1" strike="noStrike">
                <a:solidFill>
                  <a:srgbClr val="000000"/>
                </a:solidFill>
                <a:latin typeface="Calibri"/>
              </a:endParaRPr>
            </a:p>
          </p:txBody>
        </p:sp>
        <p:sp>
          <p:nvSpPr>
            <p:cNvPr id="99" name="Freeform 4"/>
            <p:cNvSpPr/>
            <p:nvPr/>
          </p:nvSpPr>
          <p:spPr>
            <a:xfrm>
              <a:off x="8104680" y="4610880"/>
              <a:ext cx="464760" cy="563760"/>
            </a:xfrm>
            <a:custGeom>
              <a:avLst/>
              <a:gdLst/>
              <a:ahLst/>
              <a:rect l="l" t="t" r="r" b="b"/>
              <a:pathLst>
                <a:path w="464820" h="563880">
                  <a:moveTo>
                    <a:pt x="91440" y="0"/>
                  </a:moveTo>
                  <a:cubicBezTo>
                    <a:pt x="81280" y="12700"/>
                    <a:pt x="68748" y="23822"/>
                    <a:pt x="60960" y="38100"/>
                  </a:cubicBezTo>
                  <a:cubicBezTo>
                    <a:pt x="53268" y="52203"/>
                    <a:pt x="60960" y="78740"/>
                    <a:pt x="45720" y="83820"/>
                  </a:cubicBezTo>
                  <a:lnTo>
                    <a:pt x="0" y="99060"/>
                  </a:lnTo>
                  <a:cubicBezTo>
                    <a:pt x="2540" y="114300"/>
                    <a:pt x="-1240" y="132123"/>
                    <a:pt x="7620" y="144780"/>
                  </a:cubicBezTo>
                  <a:cubicBezTo>
                    <a:pt x="23569" y="167564"/>
                    <a:pt x="51950" y="174797"/>
                    <a:pt x="76200" y="182880"/>
                  </a:cubicBezTo>
                  <a:lnTo>
                    <a:pt x="99060" y="251460"/>
                  </a:lnTo>
                  <a:cubicBezTo>
                    <a:pt x="101600" y="259080"/>
                    <a:pt x="102225" y="267637"/>
                    <a:pt x="106680" y="274320"/>
                  </a:cubicBezTo>
                  <a:lnTo>
                    <a:pt x="137160" y="320040"/>
                  </a:lnTo>
                  <a:cubicBezTo>
                    <a:pt x="142240" y="327660"/>
                    <a:pt x="149504" y="334212"/>
                    <a:pt x="152400" y="342900"/>
                  </a:cubicBezTo>
                  <a:cubicBezTo>
                    <a:pt x="159945" y="365536"/>
                    <a:pt x="164767" y="393367"/>
                    <a:pt x="182880" y="411480"/>
                  </a:cubicBezTo>
                  <a:cubicBezTo>
                    <a:pt x="189356" y="417956"/>
                    <a:pt x="198120" y="421640"/>
                    <a:pt x="205740" y="426720"/>
                  </a:cubicBezTo>
                  <a:cubicBezTo>
                    <a:pt x="210820" y="434340"/>
                    <a:pt x="213829" y="443859"/>
                    <a:pt x="220980" y="449580"/>
                  </a:cubicBezTo>
                  <a:cubicBezTo>
                    <a:pt x="227252" y="454598"/>
                    <a:pt x="236656" y="453608"/>
                    <a:pt x="243840" y="457200"/>
                  </a:cubicBezTo>
                  <a:cubicBezTo>
                    <a:pt x="252031" y="461296"/>
                    <a:pt x="259080" y="467360"/>
                    <a:pt x="266700" y="472440"/>
                  </a:cubicBezTo>
                  <a:cubicBezTo>
                    <a:pt x="269240" y="480060"/>
                    <a:pt x="272578" y="487459"/>
                    <a:pt x="274320" y="495300"/>
                  </a:cubicBezTo>
                  <a:cubicBezTo>
                    <a:pt x="277672" y="510382"/>
                    <a:pt x="277054" y="526363"/>
                    <a:pt x="281940" y="541020"/>
                  </a:cubicBezTo>
                  <a:cubicBezTo>
                    <a:pt x="284836" y="549708"/>
                    <a:pt x="292100" y="556260"/>
                    <a:pt x="297180" y="563880"/>
                  </a:cubicBezTo>
                  <a:cubicBezTo>
                    <a:pt x="332740" y="561340"/>
                    <a:pt x="368454" y="560425"/>
                    <a:pt x="403860" y="556260"/>
                  </a:cubicBezTo>
                  <a:cubicBezTo>
                    <a:pt x="411837" y="555322"/>
                    <a:pt x="418928" y="550588"/>
                    <a:pt x="426720" y="548640"/>
                  </a:cubicBezTo>
                  <a:cubicBezTo>
                    <a:pt x="439285" y="545499"/>
                    <a:pt x="452120" y="543560"/>
                    <a:pt x="464820" y="541020"/>
                  </a:cubicBezTo>
                  <a:cubicBezTo>
                    <a:pt x="385057" y="521079"/>
                    <a:pt x="444813" y="533400"/>
                    <a:pt x="281940" y="533400"/>
                  </a:cubicBezTo>
                </a:path>
              </a:pathLst>
            </a:custGeom>
            <a:noFill/>
            <a:ln w="381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0" name="TextBox 23"/>
            <p:cNvSpPr/>
            <p:nvPr/>
          </p:nvSpPr>
          <p:spPr>
            <a:xfrm>
              <a:off x="2289960" y="2247840"/>
              <a:ext cx="30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a:t>
              </a:r>
              <a:endParaRPr b="0" lang="en-US" sz="1800" spc="-1" strike="noStrike">
                <a:solidFill>
                  <a:srgbClr val="000000"/>
                </a:solidFill>
                <a:latin typeface="Calibri"/>
              </a:endParaRPr>
            </a:p>
          </p:txBody>
        </p:sp>
      </p:grpSp>
      <p:pic>
        <p:nvPicPr>
          <p:cNvPr id="101" name="Picture 11" descr="shield--black.png"/>
          <p:cNvPicPr/>
          <p:nvPr/>
        </p:nvPicPr>
        <p:blipFill>
          <a:blip r:embed="rId2"/>
          <a:stretch/>
        </p:blipFill>
        <p:spPr>
          <a:xfrm>
            <a:off x="228600" y="5562720"/>
            <a:ext cx="1460520" cy="1295280"/>
          </a:xfrm>
          <a:prstGeom prst="rect">
            <a:avLst/>
          </a:prstGeom>
          <a:ln w="0">
            <a:noFill/>
          </a:ln>
        </p:spPr>
      </p:pic>
      <p:sp>
        <p:nvSpPr>
          <p:cNvPr id="102" name="TextBox 4"/>
          <p:cNvSpPr/>
          <p:nvPr/>
        </p:nvSpPr>
        <p:spPr>
          <a:xfrm>
            <a:off x="1752480" y="6172200"/>
            <a:ext cx="4399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DEPARTMENT OF BIOLOGY</a:t>
            </a:r>
            <a:br>
              <a:rPr sz="1000"/>
            </a:br>
            <a:r>
              <a:rPr b="0" lang="en-US" sz="1000" spc="-1" strike="noStrike">
                <a:solidFill>
                  <a:srgbClr val="ffffff"/>
                </a:solidFill>
                <a:latin typeface="Arial"/>
                <a:ea typeface="Arial"/>
              </a:rPr>
              <a:t>Inspiring Innovation    Learn more at www.uwstout.edu/</a:t>
            </a:r>
            <a:endParaRPr b="0" lang="en-US" sz="1000" spc="-1" strike="noStrike">
              <a:solidFill>
                <a:srgbClr val="000000"/>
              </a:solidFill>
              <a:latin typeface="Calibri"/>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85440"/>
            <a:ext cx="3733920" cy="172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panding upon the watershed concept</a:t>
            </a:r>
            <a:endParaRPr b="0" lang="en-US" sz="4000" spc="-1" strike="noStrike">
              <a:solidFill>
                <a:srgbClr val="000000"/>
              </a:solidFill>
              <a:latin typeface="Calibri"/>
            </a:endParaRPr>
          </a:p>
        </p:txBody>
      </p:sp>
      <p:sp>
        <p:nvSpPr>
          <p:cNvPr id="104" name=""/>
          <p:cNvSpPr txBox="1"/>
          <p:nvPr/>
        </p:nvSpPr>
        <p:spPr>
          <a:xfrm>
            <a:off x="304920" y="2590560"/>
            <a:ext cx="3659040" cy="3306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ilbert Creek has an even larger context</a:t>
            </a:r>
            <a:endParaRPr b="0" lang="en-US" sz="3200" spc="-1" strike="noStrike">
              <a:solidFill>
                <a:srgbClr val="000000"/>
              </a:solidFill>
              <a:latin typeface="Calibri"/>
            </a:endParaRPr>
          </a:p>
        </p:txBody>
      </p:sp>
      <p:grpSp>
        <p:nvGrpSpPr>
          <p:cNvPr id="105" name="Group 3"/>
          <p:cNvGrpSpPr/>
          <p:nvPr/>
        </p:nvGrpSpPr>
        <p:grpSpPr>
          <a:xfrm>
            <a:off x="4114800" y="111240"/>
            <a:ext cx="5027760" cy="6746760"/>
            <a:chOff x="4114800" y="111240"/>
            <a:chExt cx="5027760" cy="6746760"/>
          </a:xfrm>
        </p:grpSpPr>
        <p:pic>
          <p:nvPicPr>
            <p:cNvPr id="106" name="Picture 2" descr="http://www.northstareconomics.com/DriftlessAreaTUmap1.jpg"/>
            <p:cNvPicPr/>
            <p:nvPr/>
          </p:nvPicPr>
          <p:blipFill>
            <a:blip r:embed="rId1"/>
            <a:srcRect l="5873" t="4225" r="5873" b="4225"/>
            <a:stretch/>
          </p:blipFill>
          <p:spPr>
            <a:xfrm>
              <a:off x="4114800" y="111240"/>
              <a:ext cx="5027760" cy="6746760"/>
            </a:xfrm>
            <a:prstGeom prst="rect">
              <a:avLst/>
            </a:prstGeom>
            <a:ln w="0">
              <a:noFill/>
            </a:ln>
          </p:spPr>
        </p:pic>
        <p:grpSp>
          <p:nvGrpSpPr>
            <p:cNvPr id="107" name="5-Point Star 4"/>
            <p:cNvGrpSpPr/>
            <p:nvPr/>
          </p:nvGrpSpPr>
          <p:grpSpPr>
            <a:xfrm>
              <a:off x="6315120" y="2072520"/>
              <a:ext cx="213120" cy="213120"/>
              <a:chOff x="6315120" y="2072520"/>
              <a:chExt cx="213120" cy="213120"/>
            </a:xfrm>
          </p:grpSpPr>
          <p:pic>
            <p:nvPicPr>
              <p:cNvPr id="108" name="5-Point Star 4" descr=""/>
              <p:cNvPicPr/>
              <p:nvPr/>
            </p:nvPicPr>
            <p:blipFill>
              <a:blip r:embed="rId2"/>
              <a:stretch/>
            </p:blipFill>
            <p:spPr>
              <a:xfrm>
                <a:off x="6315120" y="2072520"/>
                <a:ext cx="213120" cy="213120"/>
              </a:xfrm>
              <a:prstGeom prst="rect">
                <a:avLst/>
              </a:prstGeom>
              <a:ln w="0">
                <a:noFill/>
              </a:ln>
            </p:spPr>
          </p:pic>
          <p:sp>
            <p:nvSpPr>
              <p:cNvPr id="109" name=""/>
              <p:cNvSpPr/>
              <p:nvPr/>
            </p:nvSpPr>
            <p:spPr>
              <a:xfrm>
                <a:off x="6388920" y="2162520"/>
                <a:ext cx="69840" cy="69840"/>
              </a:xfrm>
              <a:prstGeom prst="rect">
                <a:avLst/>
              </a:prstGeom>
              <a:noFill/>
              <a:ln w="0">
                <a:noFill/>
              </a:ln>
            </p:spPr>
            <p:style>
              <a:lnRef idx="0"/>
              <a:fillRef idx="0"/>
              <a:effectRef idx="0"/>
              <a:fontRef idx="minor"/>
            </p:style>
            <p:txBody>
              <a:bodyPr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0" name="Freeform 8"/>
          <p:cNvSpPr/>
          <p:nvPr/>
        </p:nvSpPr>
        <p:spPr>
          <a:xfrm>
            <a:off x="6392880" y="2222640"/>
            <a:ext cx="1157400" cy="2111400"/>
          </a:xfrm>
          <a:custGeom>
            <a:avLst/>
            <a:gdLst/>
            <a:ahLst/>
            <a:rect l="l" t="t" r="r" b="b"/>
            <a:pathLst>
              <a:path w="1156637" h="2112848">
                <a:moveTo>
                  <a:pt x="1124561" y="2112848"/>
                </a:moveTo>
                <a:cubicBezTo>
                  <a:pt x="1125858" y="2106363"/>
                  <a:pt x="1125847" y="2099472"/>
                  <a:pt x="1128452" y="2093393"/>
                </a:cubicBezTo>
                <a:cubicBezTo>
                  <a:pt x="1129897" y="2090021"/>
                  <a:pt x="1134594" y="2088892"/>
                  <a:pt x="1136235" y="2085611"/>
                </a:cubicBezTo>
                <a:cubicBezTo>
                  <a:pt x="1164023" y="2030036"/>
                  <a:pt x="1128905" y="2084932"/>
                  <a:pt x="1151799" y="2050591"/>
                </a:cubicBezTo>
                <a:cubicBezTo>
                  <a:pt x="1156445" y="2032006"/>
                  <a:pt x="1159836" y="2026402"/>
                  <a:pt x="1151799" y="2003898"/>
                </a:cubicBezTo>
                <a:cubicBezTo>
                  <a:pt x="1148653" y="1995090"/>
                  <a:pt x="1139193" y="1989425"/>
                  <a:pt x="1136235" y="1980552"/>
                </a:cubicBezTo>
                <a:lnTo>
                  <a:pt x="1128452" y="1957206"/>
                </a:lnTo>
                <a:lnTo>
                  <a:pt x="1120670" y="1933859"/>
                </a:lnTo>
                <a:cubicBezTo>
                  <a:pt x="1115777" y="1919179"/>
                  <a:pt x="1114595" y="1912222"/>
                  <a:pt x="1101215" y="1898840"/>
                </a:cubicBezTo>
                <a:cubicBezTo>
                  <a:pt x="1098621" y="1896246"/>
                  <a:pt x="1096714" y="1892698"/>
                  <a:pt x="1093433" y="1891057"/>
                </a:cubicBezTo>
                <a:cubicBezTo>
                  <a:pt x="1086096" y="1887388"/>
                  <a:pt x="1077868" y="1885869"/>
                  <a:pt x="1070086" y="1883275"/>
                </a:cubicBezTo>
                <a:cubicBezTo>
                  <a:pt x="1066195" y="1881978"/>
                  <a:pt x="1061826" y="1881659"/>
                  <a:pt x="1058413" y="1879384"/>
                </a:cubicBezTo>
                <a:cubicBezTo>
                  <a:pt x="1039894" y="1867038"/>
                  <a:pt x="1054017" y="1874563"/>
                  <a:pt x="1031176" y="1867711"/>
                </a:cubicBezTo>
                <a:cubicBezTo>
                  <a:pt x="1023319" y="1865354"/>
                  <a:pt x="1007829" y="1859929"/>
                  <a:pt x="1007829" y="1859929"/>
                </a:cubicBezTo>
                <a:cubicBezTo>
                  <a:pt x="1003938" y="1857335"/>
                  <a:pt x="999235" y="1855666"/>
                  <a:pt x="996156" y="1852147"/>
                </a:cubicBezTo>
                <a:cubicBezTo>
                  <a:pt x="981748" y="1835680"/>
                  <a:pt x="982045" y="1833160"/>
                  <a:pt x="976701" y="1817127"/>
                </a:cubicBezTo>
                <a:cubicBezTo>
                  <a:pt x="975404" y="1804157"/>
                  <a:pt x="975212" y="1791028"/>
                  <a:pt x="972810" y="1778217"/>
                </a:cubicBezTo>
                <a:cubicBezTo>
                  <a:pt x="971298" y="1770154"/>
                  <a:pt x="971854" y="1759420"/>
                  <a:pt x="965028" y="1754870"/>
                </a:cubicBezTo>
                <a:cubicBezTo>
                  <a:pt x="956363" y="1749093"/>
                  <a:pt x="951908" y="1747225"/>
                  <a:pt x="945572" y="1739306"/>
                </a:cubicBezTo>
                <a:cubicBezTo>
                  <a:pt x="932771" y="1723306"/>
                  <a:pt x="944633" y="1729914"/>
                  <a:pt x="926117" y="1723742"/>
                </a:cubicBezTo>
                <a:cubicBezTo>
                  <a:pt x="923523" y="1719851"/>
                  <a:pt x="921987" y="1714990"/>
                  <a:pt x="918335" y="1712069"/>
                </a:cubicBezTo>
                <a:cubicBezTo>
                  <a:pt x="915132" y="1709507"/>
                  <a:pt x="910331" y="1710011"/>
                  <a:pt x="906662" y="1708177"/>
                </a:cubicBezTo>
                <a:cubicBezTo>
                  <a:pt x="876501" y="1693095"/>
                  <a:pt x="912649" y="1706281"/>
                  <a:pt x="883315" y="1696504"/>
                </a:cubicBezTo>
                <a:cubicBezTo>
                  <a:pt x="880721" y="1692613"/>
                  <a:pt x="878840" y="1688138"/>
                  <a:pt x="875533" y="1684831"/>
                </a:cubicBezTo>
                <a:cubicBezTo>
                  <a:pt x="872226" y="1681524"/>
                  <a:pt x="866781" y="1680701"/>
                  <a:pt x="863860" y="1677049"/>
                </a:cubicBezTo>
                <a:cubicBezTo>
                  <a:pt x="842381" y="1650200"/>
                  <a:pt x="881749" y="1679896"/>
                  <a:pt x="848296" y="1657594"/>
                </a:cubicBezTo>
                <a:cubicBezTo>
                  <a:pt x="837657" y="1625674"/>
                  <a:pt x="853546" y="1676064"/>
                  <a:pt x="840514" y="1610901"/>
                </a:cubicBezTo>
                <a:cubicBezTo>
                  <a:pt x="838905" y="1602857"/>
                  <a:pt x="835326" y="1595336"/>
                  <a:pt x="832732" y="1587554"/>
                </a:cubicBezTo>
                <a:cubicBezTo>
                  <a:pt x="831435" y="1583663"/>
                  <a:pt x="832253" y="1578156"/>
                  <a:pt x="828840" y="1575881"/>
                </a:cubicBezTo>
                <a:cubicBezTo>
                  <a:pt x="824949" y="1573287"/>
                  <a:pt x="820760" y="1571093"/>
                  <a:pt x="817167" y="1568099"/>
                </a:cubicBezTo>
                <a:cubicBezTo>
                  <a:pt x="812940" y="1564576"/>
                  <a:pt x="810073" y="1559478"/>
                  <a:pt x="805494" y="1556426"/>
                </a:cubicBezTo>
                <a:cubicBezTo>
                  <a:pt x="802081" y="1554151"/>
                  <a:pt x="797406" y="1554527"/>
                  <a:pt x="793821" y="1552535"/>
                </a:cubicBezTo>
                <a:cubicBezTo>
                  <a:pt x="785645" y="1547993"/>
                  <a:pt x="779348" y="1539928"/>
                  <a:pt x="770475" y="1536971"/>
                </a:cubicBezTo>
                <a:cubicBezTo>
                  <a:pt x="742458" y="1527633"/>
                  <a:pt x="777473" y="1538972"/>
                  <a:pt x="743237" y="1529189"/>
                </a:cubicBezTo>
                <a:cubicBezTo>
                  <a:pt x="725923" y="1524241"/>
                  <a:pt x="736284" y="1525463"/>
                  <a:pt x="716000" y="1521406"/>
                </a:cubicBezTo>
                <a:cubicBezTo>
                  <a:pt x="708264" y="1519859"/>
                  <a:pt x="700415" y="1518926"/>
                  <a:pt x="692653" y="1517515"/>
                </a:cubicBezTo>
                <a:cubicBezTo>
                  <a:pt x="686146" y="1516332"/>
                  <a:pt x="679578" y="1515364"/>
                  <a:pt x="673198" y="1513624"/>
                </a:cubicBezTo>
                <a:cubicBezTo>
                  <a:pt x="665284" y="1511466"/>
                  <a:pt x="649852" y="1505842"/>
                  <a:pt x="649852" y="1505842"/>
                </a:cubicBezTo>
                <a:cubicBezTo>
                  <a:pt x="647258" y="1503248"/>
                  <a:pt x="645215" y="1499947"/>
                  <a:pt x="642069" y="1498060"/>
                </a:cubicBezTo>
                <a:cubicBezTo>
                  <a:pt x="638552" y="1495950"/>
                  <a:pt x="634064" y="1496003"/>
                  <a:pt x="630396" y="1494169"/>
                </a:cubicBezTo>
                <a:cubicBezTo>
                  <a:pt x="626213" y="1492078"/>
                  <a:pt x="622614" y="1488981"/>
                  <a:pt x="618723" y="1486387"/>
                </a:cubicBezTo>
                <a:lnTo>
                  <a:pt x="595377" y="1451367"/>
                </a:lnTo>
                <a:cubicBezTo>
                  <a:pt x="592783" y="1447476"/>
                  <a:pt x="589074" y="1444130"/>
                  <a:pt x="587595" y="1439694"/>
                </a:cubicBezTo>
                <a:lnTo>
                  <a:pt x="579812" y="1416348"/>
                </a:lnTo>
                <a:cubicBezTo>
                  <a:pt x="579717" y="1415682"/>
                  <a:pt x="573204" y="1368581"/>
                  <a:pt x="572030" y="1365764"/>
                </a:cubicBezTo>
                <a:cubicBezTo>
                  <a:pt x="568433" y="1357130"/>
                  <a:pt x="559424" y="1351290"/>
                  <a:pt x="556466" y="1342417"/>
                </a:cubicBezTo>
                <a:cubicBezTo>
                  <a:pt x="555169" y="1338526"/>
                  <a:pt x="554567" y="1334329"/>
                  <a:pt x="552575" y="1330744"/>
                </a:cubicBezTo>
                <a:cubicBezTo>
                  <a:pt x="548033" y="1322568"/>
                  <a:pt x="537011" y="1307398"/>
                  <a:pt x="537011" y="1307398"/>
                </a:cubicBezTo>
                <a:cubicBezTo>
                  <a:pt x="535714" y="1297022"/>
                  <a:pt x="533120" y="1286726"/>
                  <a:pt x="533120" y="1276269"/>
                </a:cubicBezTo>
                <a:cubicBezTo>
                  <a:pt x="533120" y="1258064"/>
                  <a:pt x="534884" y="1239874"/>
                  <a:pt x="537011" y="1221794"/>
                </a:cubicBezTo>
                <a:cubicBezTo>
                  <a:pt x="537490" y="1217721"/>
                  <a:pt x="539907" y="1214100"/>
                  <a:pt x="540902" y="1210121"/>
                </a:cubicBezTo>
                <a:cubicBezTo>
                  <a:pt x="551903" y="1166119"/>
                  <a:pt x="535879" y="1217410"/>
                  <a:pt x="552575" y="1167320"/>
                </a:cubicBezTo>
                <a:cubicBezTo>
                  <a:pt x="552575" y="1167319"/>
                  <a:pt x="560356" y="1143974"/>
                  <a:pt x="560357" y="1143973"/>
                </a:cubicBezTo>
                <a:cubicBezTo>
                  <a:pt x="562951" y="1140082"/>
                  <a:pt x="566048" y="1136483"/>
                  <a:pt x="568139" y="1132300"/>
                </a:cubicBezTo>
                <a:cubicBezTo>
                  <a:pt x="584248" y="1100081"/>
                  <a:pt x="557510" y="1142407"/>
                  <a:pt x="579812" y="1108954"/>
                </a:cubicBezTo>
                <a:cubicBezTo>
                  <a:pt x="582406" y="1101172"/>
                  <a:pt x="590190" y="1093389"/>
                  <a:pt x="587595" y="1085607"/>
                </a:cubicBezTo>
                <a:cubicBezTo>
                  <a:pt x="586298" y="1081716"/>
                  <a:pt x="586603" y="1076834"/>
                  <a:pt x="583703" y="1073934"/>
                </a:cubicBezTo>
                <a:cubicBezTo>
                  <a:pt x="570323" y="1060554"/>
                  <a:pt x="563363" y="1059372"/>
                  <a:pt x="548684" y="1054479"/>
                </a:cubicBezTo>
                <a:cubicBezTo>
                  <a:pt x="533186" y="1031232"/>
                  <a:pt x="550110" y="1051443"/>
                  <a:pt x="529229" y="1038914"/>
                </a:cubicBezTo>
                <a:cubicBezTo>
                  <a:pt x="523066" y="1035216"/>
                  <a:pt x="517201" y="1024764"/>
                  <a:pt x="513664" y="1019459"/>
                </a:cubicBezTo>
                <a:cubicBezTo>
                  <a:pt x="512367" y="1011677"/>
                  <a:pt x="512268" y="1003597"/>
                  <a:pt x="509773" y="996113"/>
                </a:cubicBezTo>
                <a:cubicBezTo>
                  <a:pt x="508294" y="991677"/>
                  <a:pt x="504082" y="988623"/>
                  <a:pt x="501991" y="984440"/>
                </a:cubicBezTo>
                <a:cubicBezTo>
                  <a:pt x="499201" y="978859"/>
                  <a:pt x="495455" y="962187"/>
                  <a:pt x="494209" y="957202"/>
                </a:cubicBezTo>
                <a:cubicBezTo>
                  <a:pt x="492912" y="944232"/>
                  <a:pt x="492300" y="931175"/>
                  <a:pt x="490318" y="918292"/>
                </a:cubicBezTo>
                <a:cubicBezTo>
                  <a:pt x="489694" y="914238"/>
                  <a:pt x="487554" y="910562"/>
                  <a:pt x="486427" y="906618"/>
                </a:cubicBezTo>
                <a:cubicBezTo>
                  <a:pt x="484958" y="901476"/>
                  <a:pt x="483696" y="896274"/>
                  <a:pt x="482536" y="891054"/>
                </a:cubicBezTo>
                <a:cubicBezTo>
                  <a:pt x="481101" y="884598"/>
                  <a:pt x="480385" y="877979"/>
                  <a:pt x="478645" y="871599"/>
                </a:cubicBezTo>
                <a:cubicBezTo>
                  <a:pt x="473106" y="851290"/>
                  <a:pt x="470288" y="850923"/>
                  <a:pt x="466972" y="832688"/>
                </a:cubicBezTo>
                <a:cubicBezTo>
                  <a:pt x="465331" y="823665"/>
                  <a:pt x="464377" y="814530"/>
                  <a:pt x="463080" y="805451"/>
                </a:cubicBezTo>
                <a:cubicBezTo>
                  <a:pt x="462455" y="793570"/>
                  <a:pt x="460633" y="725290"/>
                  <a:pt x="455298" y="700392"/>
                </a:cubicBezTo>
                <a:cubicBezTo>
                  <a:pt x="453579" y="692371"/>
                  <a:pt x="450110" y="684828"/>
                  <a:pt x="447516" y="677046"/>
                </a:cubicBezTo>
                <a:lnTo>
                  <a:pt x="439734" y="653699"/>
                </a:lnTo>
                <a:cubicBezTo>
                  <a:pt x="438437" y="649808"/>
                  <a:pt x="439734" y="643323"/>
                  <a:pt x="435843" y="642026"/>
                </a:cubicBezTo>
                <a:lnTo>
                  <a:pt x="424170" y="638135"/>
                </a:lnTo>
                <a:cubicBezTo>
                  <a:pt x="405207" y="609691"/>
                  <a:pt x="428635" y="639657"/>
                  <a:pt x="404715" y="622571"/>
                </a:cubicBezTo>
                <a:cubicBezTo>
                  <a:pt x="386120" y="609289"/>
                  <a:pt x="390687" y="599736"/>
                  <a:pt x="365804" y="591442"/>
                </a:cubicBezTo>
                <a:cubicBezTo>
                  <a:pt x="336464" y="581662"/>
                  <a:pt x="372629" y="594854"/>
                  <a:pt x="342457" y="579769"/>
                </a:cubicBezTo>
                <a:cubicBezTo>
                  <a:pt x="338788" y="577935"/>
                  <a:pt x="334369" y="577870"/>
                  <a:pt x="330784" y="575878"/>
                </a:cubicBezTo>
                <a:cubicBezTo>
                  <a:pt x="322608" y="571336"/>
                  <a:pt x="315220" y="565502"/>
                  <a:pt x="307438" y="560314"/>
                </a:cubicBezTo>
                <a:cubicBezTo>
                  <a:pt x="303547" y="557720"/>
                  <a:pt x="300201" y="554011"/>
                  <a:pt x="295765" y="552532"/>
                </a:cubicBezTo>
                <a:lnTo>
                  <a:pt x="272418" y="544749"/>
                </a:lnTo>
                <a:cubicBezTo>
                  <a:pt x="268527" y="543452"/>
                  <a:pt x="264158" y="543133"/>
                  <a:pt x="260745" y="540858"/>
                </a:cubicBezTo>
                <a:cubicBezTo>
                  <a:pt x="256854" y="538264"/>
                  <a:pt x="253255" y="535167"/>
                  <a:pt x="249072" y="533076"/>
                </a:cubicBezTo>
                <a:cubicBezTo>
                  <a:pt x="245404" y="531242"/>
                  <a:pt x="241067" y="531019"/>
                  <a:pt x="237399" y="529185"/>
                </a:cubicBezTo>
                <a:cubicBezTo>
                  <a:pt x="221434" y="521203"/>
                  <a:pt x="230005" y="523270"/>
                  <a:pt x="217943" y="513621"/>
                </a:cubicBezTo>
                <a:cubicBezTo>
                  <a:pt x="214291" y="510700"/>
                  <a:pt x="210161" y="508433"/>
                  <a:pt x="206270" y="505839"/>
                </a:cubicBezTo>
                <a:cubicBezTo>
                  <a:pt x="183968" y="472386"/>
                  <a:pt x="213664" y="511754"/>
                  <a:pt x="186815" y="490274"/>
                </a:cubicBezTo>
                <a:cubicBezTo>
                  <a:pt x="183163" y="487353"/>
                  <a:pt x="182340" y="481908"/>
                  <a:pt x="179033" y="478601"/>
                </a:cubicBezTo>
                <a:cubicBezTo>
                  <a:pt x="175726" y="475294"/>
                  <a:pt x="171251" y="473413"/>
                  <a:pt x="167360" y="470819"/>
                </a:cubicBezTo>
                <a:cubicBezTo>
                  <a:pt x="164766" y="466928"/>
                  <a:pt x="162884" y="462453"/>
                  <a:pt x="159577" y="459146"/>
                </a:cubicBezTo>
                <a:cubicBezTo>
                  <a:pt x="156270" y="455839"/>
                  <a:pt x="150825" y="455016"/>
                  <a:pt x="147904" y="451364"/>
                </a:cubicBezTo>
                <a:cubicBezTo>
                  <a:pt x="145342" y="448161"/>
                  <a:pt x="145847" y="443360"/>
                  <a:pt x="144013" y="439691"/>
                </a:cubicBezTo>
                <a:cubicBezTo>
                  <a:pt x="137528" y="426719"/>
                  <a:pt x="136232" y="428018"/>
                  <a:pt x="124558" y="420235"/>
                </a:cubicBezTo>
                <a:cubicBezTo>
                  <a:pt x="102256" y="386782"/>
                  <a:pt x="128994" y="429108"/>
                  <a:pt x="112885" y="396889"/>
                </a:cubicBezTo>
                <a:cubicBezTo>
                  <a:pt x="110794" y="392706"/>
                  <a:pt x="107194" y="389399"/>
                  <a:pt x="105103" y="385216"/>
                </a:cubicBezTo>
                <a:cubicBezTo>
                  <a:pt x="95001" y="365011"/>
                  <a:pt x="108631" y="380962"/>
                  <a:pt x="93429" y="365760"/>
                </a:cubicBezTo>
                <a:cubicBezTo>
                  <a:pt x="91254" y="357060"/>
                  <a:pt x="85545" y="332534"/>
                  <a:pt x="81756" y="326850"/>
                </a:cubicBezTo>
                <a:lnTo>
                  <a:pt x="73974" y="315177"/>
                </a:lnTo>
                <a:cubicBezTo>
                  <a:pt x="72677" y="311286"/>
                  <a:pt x="72645" y="306706"/>
                  <a:pt x="70083" y="303503"/>
                </a:cubicBezTo>
                <a:cubicBezTo>
                  <a:pt x="62650" y="294211"/>
                  <a:pt x="56135" y="296529"/>
                  <a:pt x="46737" y="291830"/>
                </a:cubicBezTo>
                <a:cubicBezTo>
                  <a:pt x="42554" y="289739"/>
                  <a:pt x="39246" y="286139"/>
                  <a:pt x="35063" y="284048"/>
                </a:cubicBezTo>
                <a:cubicBezTo>
                  <a:pt x="2848" y="267941"/>
                  <a:pt x="45165" y="294674"/>
                  <a:pt x="11717" y="272375"/>
                </a:cubicBezTo>
                <a:cubicBezTo>
                  <a:pt x="8657" y="267785"/>
                  <a:pt x="-723" y="255933"/>
                  <a:pt x="44" y="249029"/>
                </a:cubicBezTo>
                <a:cubicBezTo>
                  <a:pt x="3477" y="218134"/>
                  <a:pt x="6598" y="234281"/>
                  <a:pt x="15608" y="214009"/>
                </a:cubicBezTo>
                <a:cubicBezTo>
                  <a:pt x="18940" y="206513"/>
                  <a:pt x="20796" y="198445"/>
                  <a:pt x="23390" y="190663"/>
                </a:cubicBezTo>
                <a:lnTo>
                  <a:pt x="27281" y="178989"/>
                </a:lnTo>
                <a:cubicBezTo>
                  <a:pt x="28578" y="145267"/>
                  <a:pt x="25624" y="111110"/>
                  <a:pt x="31172" y="77822"/>
                </a:cubicBezTo>
                <a:cubicBezTo>
                  <a:pt x="32378" y="70584"/>
                  <a:pt x="42667" y="68362"/>
                  <a:pt x="46737" y="62257"/>
                </a:cubicBezTo>
                <a:cubicBezTo>
                  <a:pt x="49331" y="58366"/>
                  <a:pt x="52428" y="54767"/>
                  <a:pt x="54519" y="50584"/>
                </a:cubicBezTo>
                <a:cubicBezTo>
                  <a:pt x="62512" y="34599"/>
                  <a:pt x="58410" y="17737"/>
                  <a:pt x="58410" y="0"/>
                </a:cubicBezTo>
              </a:path>
            </a:pathLst>
          </a:custGeom>
          <a:no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does your watershed matter?</a:t>
            </a:r>
            <a:endParaRPr b="0" lang="en-US" sz="4400" spc="-1" strike="noStrike">
              <a:solidFill>
                <a:srgbClr val="000000"/>
              </a:solidFill>
              <a:latin typeface="Calibri"/>
            </a:endParaRPr>
          </a:p>
        </p:txBody>
      </p:sp>
      <p:sp>
        <p:nvSpPr>
          <p:cNvPr id="112" name="Rectangle 3"/>
          <p:cNvSpPr/>
          <p:nvPr/>
        </p:nvSpPr>
        <p:spPr>
          <a:xfrm>
            <a:off x="0" y="6070680"/>
            <a:ext cx="9144000" cy="79056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3" name="Picture 11" descr="shield--black.png"/>
          <p:cNvPicPr/>
          <p:nvPr/>
        </p:nvPicPr>
        <p:blipFill>
          <a:blip r:embed="rId1"/>
          <a:stretch/>
        </p:blipFill>
        <p:spPr>
          <a:xfrm>
            <a:off x="228600" y="5562720"/>
            <a:ext cx="1460520" cy="1295280"/>
          </a:xfrm>
          <a:prstGeom prst="rect">
            <a:avLst/>
          </a:prstGeom>
          <a:ln w="0">
            <a:noFill/>
          </a:ln>
        </p:spPr>
      </p:pic>
      <p:sp>
        <p:nvSpPr>
          <p:cNvPr id="114" name="TextBox 4"/>
          <p:cNvSpPr/>
          <p:nvPr/>
        </p:nvSpPr>
        <p:spPr>
          <a:xfrm>
            <a:off x="1752480" y="6172200"/>
            <a:ext cx="4399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DEPARTMENT OF BIOLOGY</a:t>
            </a:r>
            <a:br>
              <a:rPr sz="1000"/>
            </a:br>
            <a:r>
              <a:rPr b="0" lang="en-US" sz="1000" spc="-1" strike="noStrike">
                <a:solidFill>
                  <a:srgbClr val="ffffff"/>
                </a:solidFill>
                <a:latin typeface="Arial"/>
                <a:ea typeface="Arial"/>
              </a:rPr>
              <a:t>Inspiring Innovation    Learn more at www.uwstout.edu/</a:t>
            </a:r>
            <a:endParaRPr b="0" lang="en-US" sz="1000" spc="-1" strike="noStrike">
              <a:solidFill>
                <a:srgbClr val="000000"/>
              </a:solidFill>
              <a:latin typeface="Calibri"/>
            </a:endParaRPr>
          </a:p>
        </p:txBody>
      </p:sp>
      <p:pic>
        <p:nvPicPr>
          <p:cNvPr id="115" name="Picture 2" descr="outline map US rivers">
            <a:hlinkClick r:id="rId2"/>
          </p:cNvPr>
          <p:cNvPicPr/>
          <p:nvPr/>
        </p:nvPicPr>
        <p:blipFill>
          <a:blip r:embed="rId3"/>
          <a:stretch/>
        </p:blipFill>
        <p:spPr>
          <a:xfrm>
            <a:off x="1689120" y="1190520"/>
            <a:ext cx="6715080" cy="4372200"/>
          </a:xfrm>
          <a:prstGeom prst="rect">
            <a:avLst/>
          </a:prstGeom>
          <a:ln w="0">
            <a:noFill/>
          </a:ln>
        </p:spPr>
      </p:pic>
      <p:grpSp>
        <p:nvGrpSpPr>
          <p:cNvPr id="116" name="Freeform 10"/>
          <p:cNvGrpSpPr/>
          <p:nvPr/>
        </p:nvGrpSpPr>
        <p:grpSpPr>
          <a:xfrm>
            <a:off x="5241960" y="2133720"/>
            <a:ext cx="780840" cy="1511280"/>
            <a:chOff x="5241960" y="2133720"/>
            <a:chExt cx="780840" cy="1511280"/>
          </a:xfrm>
        </p:grpSpPr>
        <p:pic>
          <p:nvPicPr>
            <p:cNvPr id="117" name="Freeform 10" descr=""/>
            <p:cNvPicPr/>
            <p:nvPr/>
          </p:nvPicPr>
          <p:blipFill>
            <a:blip r:embed="rId4"/>
            <a:stretch/>
          </p:blipFill>
          <p:spPr>
            <a:xfrm>
              <a:off x="5241960" y="2133720"/>
              <a:ext cx="780840" cy="1511280"/>
            </a:xfrm>
            <a:prstGeom prst="rect">
              <a:avLst/>
            </a:prstGeom>
            <a:ln w="0">
              <a:noFill/>
            </a:ln>
          </p:spPr>
        </p:pic>
        <p:sp>
          <p:nvSpPr>
            <p:cNvPr id="118" name=""/>
            <p:cNvSpPr/>
            <p:nvPr/>
          </p:nvSpPr>
          <p:spPr>
            <a:xfrm>
              <a:off x="5489640" y="2368440"/>
              <a:ext cx="284040" cy="1027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9" name="Freeform 11"/>
          <p:cNvGrpSpPr/>
          <p:nvPr/>
        </p:nvGrpSpPr>
        <p:grpSpPr>
          <a:xfrm>
            <a:off x="5535720" y="3144960"/>
            <a:ext cx="627120" cy="677880"/>
            <a:chOff x="5535720" y="3144960"/>
            <a:chExt cx="627120" cy="677880"/>
          </a:xfrm>
        </p:grpSpPr>
        <p:pic>
          <p:nvPicPr>
            <p:cNvPr id="120" name="Freeform 11" descr=""/>
            <p:cNvPicPr/>
            <p:nvPr/>
          </p:nvPicPr>
          <p:blipFill>
            <a:blip r:embed="rId5"/>
            <a:stretch/>
          </p:blipFill>
          <p:spPr>
            <a:xfrm>
              <a:off x="5535720" y="3144960"/>
              <a:ext cx="627120" cy="677880"/>
            </a:xfrm>
            <a:prstGeom prst="rect">
              <a:avLst/>
            </a:prstGeom>
            <a:ln w="0">
              <a:noFill/>
            </a:ln>
          </p:spPr>
        </p:pic>
        <p:sp>
          <p:nvSpPr>
            <p:cNvPr id="121" name=""/>
            <p:cNvSpPr/>
            <p:nvPr/>
          </p:nvSpPr>
          <p:spPr>
            <a:xfrm>
              <a:off x="5784840" y="3390840"/>
              <a:ext cx="127080" cy="184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2" name="Freeform 12"/>
          <p:cNvGrpSpPr/>
          <p:nvPr/>
        </p:nvGrpSpPr>
        <p:grpSpPr>
          <a:xfrm>
            <a:off x="5419800" y="3346560"/>
            <a:ext cx="755640" cy="1622160"/>
            <a:chOff x="5419800" y="3346560"/>
            <a:chExt cx="755640" cy="1622160"/>
          </a:xfrm>
        </p:grpSpPr>
        <p:pic>
          <p:nvPicPr>
            <p:cNvPr id="123" name="Freeform 12" descr=""/>
            <p:cNvPicPr/>
            <p:nvPr/>
          </p:nvPicPr>
          <p:blipFill>
            <a:blip r:embed="rId6"/>
            <a:stretch/>
          </p:blipFill>
          <p:spPr>
            <a:xfrm>
              <a:off x="5419800" y="3346560"/>
              <a:ext cx="755640" cy="1622160"/>
            </a:xfrm>
            <a:prstGeom prst="rect">
              <a:avLst/>
            </a:prstGeom>
            <a:ln w="0">
              <a:noFill/>
            </a:ln>
          </p:spPr>
        </p:pic>
        <p:sp>
          <p:nvSpPr>
            <p:cNvPr id="124" name=""/>
            <p:cNvSpPr/>
            <p:nvPr/>
          </p:nvSpPr>
          <p:spPr>
            <a:xfrm>
              <a:off x="5668920" y="3587760"/>
              <a:ext cx="254160" cy="1130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5" name="Freeform 13"/>
          <p:cNvGrpSpPr/>
          <p:nvPr/>
        </p:nvGrpSpPr>
        <p:grpSpPr>
          <a:xfrm>
            <a:off x="5486400" y="4468680"/>
            <a:ext cx="792000" cy="689040"/>
            <a:chOff x="5486400" y="4468680"/>
            <a:chExt cx="792000" cy="689040"/>
          </a:xfrm>
        </p:grpSpPr>
        <p:pic>
          <p:nvPicPr>
            <p:cNvPr id="126" name="Freeform 13" descr=""/>
            <p:cNvPicPr/>
            <p:nvPr/>
          </p:nvPicPr>
          <p:blipFill>
            <a:blip r:embed="rId7"/>
            <a:stretch/>
          </p:blipFill>
          <p:spPr>
            <a:xfrm>
              <a:off x="5486400" y="4468680"/>
              <a:ext cx="792000" cy="689040"/>
            </a:xfrm>
            <a:prstGeom prst="rect">
              <a:avLst/>
            </a:prstGeom>
            <a:ln w="0">
              <a:noFill/>
            </a:ln>
          </p:spPr>
        </p:pic>
        <p:sp>
          <p:nvSpPr>
            <p:cNvPr id="127" name=""/>
            <p:cNvSpPr/>
            <p:nvPr/>
          </p:nvSpPr>
          <p:spPr>
            <a:xfrm>
              <a:off x="5738760" y="4721400"/>
              <a:ext cx="289080" cy="18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8" name="Freeform 14"/>
          <p:cNvGrpSpPr/>
          <p:nvPr/>
        </p:nvGrpSpPr>
        <p:grpSpPr>
          <a:xfrm>
            <a:off x="5327640" y="2109960"/>
            <a:ext cx="330120" cy="407880"/>
            <a:chOff x="5327640" y="2109960"/>
            <a:chExt cx="330120" cy="407880"/>
          </a:xfrm>
        </p:grpSpPr>
        <p:pic>
          <p:nvPicPr>
            <p:cNvPr id="129" name="Freeform 14" descr=""/>
            <p:cNvPicPr/>
            <p:nvPr/>
          </p:nvPicPr>
          <p:blipFill>
            <a:blip r:embed="rId8"/>
            <a:stretch/>
          </p:blipFill>
          <p:spPr>
            <a:xfrm>
              <a:off x="5327640" y="2109960"/>
              <a:ext cx="330120" cy="407880"/>
            </a:xfrm>
            <a:prstGeom prst="rect">
              <a:avLst/>
            </a:prstGeom>
            <a:ln w="0">
              <a:noFill/>
            </a:ln>
          </p:spPr>
        </p:pic>
        <p:sp>
          <p:nvSpPr>
            <p:cNvPr id="130" name=""/>
            <p:cNvSpPr/>
            <p:nvPr/>
          </p:nvSpPr>
          <p:spPr>
            <a:xfrm>
              <a:off x="5479920" y="2254320"/>
              <a:ext cx="27000" cy="119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1" name="Oval 15"/>
          <p:cNvSpPr/>
          <p:nvPr/>
        </p:nvSpPr>
        <p:spPr>
          <a:xfrm>
            <a:off x="5943600" y="4721400"/>
            <a:ext cx="914400" cy="4507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Dead zone</a:t>
            </a:r>
            <a:endParaRPr b="0" lang="en-US" sz="1400" spc="-1" strike="noStrike">
              <a:solidFill>
                <a:srgbClr val="000000"/>
              </a:solidFill>
              <a:latin typeface="Calibri"/>
            </a:endParaRPr>
          </a:p>
        </p:txBody>
      </p:sp>
      <p:sp>
        <p:nvSpPr>
          <p:cNvPr id="132" name="TextBox 16"/>
          <p:cNvSpPr/>
          <p:nvPr/>
        </p:nvSpPr>
        <p:spPr>
          <a:xfrm>
            <a:off x="5708520" y="1531800"/>
            <a:ext cx="1576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Gilbert creek</a:t>
            </a:r>
            <a:endParaRPr b="0" lang="en-US" sz="2000" spc="-1" strike="noStrike">
              <a:solidFill>
                <a:srgbClr val="000000"/>
              </a:solidFill>
              <a:latin typeface="Calibri"/>
            </a:endParaRPr>
          </a:p>
        </p:txBody>
      </p:sp>
      <p:cxnSp>
        <p:nvCxnSpPr>
          <p:cNvPr id="133" name="Straight Arrow Connector 18"/>
          <p:cNvCxnSpPr/>
          <p:nvPr/>
        </p:nvCxnSpPr>
        <p:spPr>
          <a:xfrm flipH="1">
            <a:off x="5632200" y="1931760"/>
            <a:ext cx="396000" cy="322920"/>
          </a:xfrm>
          <a:prstGeom prst="straightConnector1">
            <a:avLst/>
          </a:prstGeom>
          <a:ln w="25560">
            <a:solidFill>
              <a:srgbClr val="c0504d"/>
            </a:solidFill>
            <a:miter/>
            <a:tailEnd len="med" type="arrow" w="med"/>
          </a:ln>
        </p:spPr>
      </p:cxn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lection </a:t>
            </a:r>
            <a:endParaRPr b="0" lang="en-US" sz="44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re the dimensions of your watersh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resources do you hav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resources do you still ne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re will you get access to the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can you make these placed-based outdoor activities for your classroom?</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Rectangle 3"/>
          <p:cNvSpPr/>
          <p:nvPr/>
        </p:nvSpPr>
        <p:spPr>
          <a:xfrm>
            <a:off x="0" y="6070680"/>
            <a:ext cx="9144000" cy="79056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7" name="Picture 11" descr="shield--black.png"/>
          <p:cNvPicPr/>
          <p:nvPr/>
        </p:nvPicPr>
        <p:blipFill>
          <a:blip r:embed="rId1"/>
          <a:stretch/>
        </p:blipFill>
        <p:spPr>
          <a:xfrm>
            <a:off x="228600" y="5562720"/>
            <a:ext cx="1460520" cy="1295280"/>
          </a:xfrm>
          <a:prstGeom prst="rect">
            <a:avLst/>
          </a:prstGeom>
          <a:ln w="0">
            <a:noFill/>
          </a:ln>
        </p:spPr>
      </p:pic>
      <p:sp>
        <p:nvSpPr>
          <p:cNvPr id="138" name="TextBox 4"/>
          <p:cNvSpPr/>
          <p:nvPr/>
        </p:nvSpPr>
        <p:spPr>
          <a:xfrm>
            <a:off x="1752480" y="6172200"/>
            <a:ext cx="4399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DEPARTMENT OF BIOLOGY</a:t>
            </a:r>
            <a:br>
              <a:rPr sz="1000"/>
            </a:br>
            <a:r>
              <a:rPr b="0" lang="en-US" sz="1000" spc="-1" strike="noStrike">
                <a:solidFill>
                  <a:srgbClr val="ffffff"/>
                </a:solidFill>
                <a:latin typeface="Arial"/>
                <a:ea typeface="Arial"/>
              </a:rPr>
              <a:t>Inspiring Innovation    Learn more at www.uwstout.edu/</a:t>
            </a:r>
            <a:endParaRPr b="0" lang="en-US" sz="1000" spc="-1" strike="noStrike">
              <a:solidFill>
                <a:srgbClr val="000000"/>
              </a:solidFill>
              <a:latin typeface="Calibri"/>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and: Below Ground</a:t>
            </a:r>
            <a:endParaRPr b="0" lang="en-US" sz="4400" spc="-1" strike="noStrike">
              <a:solidFill>
                <a:srgbClr val="000000"/>
              </a:solidFill>
              <a:latin typeface="Calibri"/>
            </a:endParaRPr>
          </a:p>
        </p:txBody>
      </p:sp>
      <p:sp>
        <p:nvSpPr>
          <p:cNvPr id="140" name="Rectangle 3"/>
          <p:cNvSpPr/>
          <p:nvPr/>
        </p:nvSpPr>
        <p:spPr>
          <a:xfrm>
            <a:off x="0" y="6070680"/>
            <a:ext cx="9144000" cy="79056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1" name="Picture 2" descr="http://www.uwbookstore.com/StoreImages/177-445870-2_hi.jpg"/>
          <p:cNvPicPr/>
          <p:nvPr/>
        </p:nvPicPr>
        <p:blipFill>
          <a:blip r:embed="rId1"/>
          <a:srcRect l="18057" t="0" r="20712" b="5717"/>
          <a:stretch/>
        </p:blipFill>
        <p:spPr>
          <a:xfrm>
            <a:off x="609480" y="1446120"/>
            <a:ext cx="2778120" cy="4278240"/>
          </a:xfrm>
          <a:prstGeom prst="rect">
            <a:avLst/>
          </a:prstGeom>
          <a:ln w="0">
            <a:noFill/>
          </a:ln>
        </p:spPr>
      </p:pic>
      <p:pic>
        <p:nvPicPr>
          <p:cNvPr id="142" name="Picture 11" descr="shield--black.png"/>
          <p:cNvPicPr/>
          <p:nvPr/>
        </p:nvPicPr>
        <p:blipFill>
          <a:blip r:embed="rId2"/>
          <a:stretch/>
        </p:blipFill>
        <p:spPr>
          <a:xfrm>
            <a:off x="228600" y="5562720"/>
            <a:ext cx="1460520" cy="1295280"/>
          </a:xfrm>
          <a:prstGeom prst="rect">
            <a:avLst/>
          </a:prstGeom>
          <a:ln w="0">
            <a:noFill/>
          </a:ln>
        </p:spPr>
      </p:pic>
      <p:pic>
        <p:nvPicPr>
          <p:cNvPr id="143" name="Picture 2" descr="map of Wisconsin showing bedrock geology"/>
          <p:cNvPicPr/>
          <p:nvPr/>
        </p:nvPicPr>
        <p:blipFill>
          <a:blip r:embed="rId3"/>
          <a:stretch/>
        </p:blipFill>
        <p:spPr>
          <a:xfrm>
            <a:off x="3581280" y="1554120"/>
            <a:ext cx="5562720" cy="4297320"/>
          </a:xfrm>
          <a:prstGeom prst="rect">
            <a:avLst/>
          </a:prstGeom>
          <a:ln w="0">
            <a:noFill/>
          </a:ln>
        </p:spPr>
      </p:pic>
      <p:grpSp>
        <p:nvGrpSpPr>
          <p:cNvPr id="144" name="5-Point Star 4"/>
          <p:cNvGrpSpPr/>
          <p:nvPr/>
        </p:nvGrpSpPr>
        <p:grpSpPr>
          <a:xfrm>
            <a:off x="5772240" y="3432240"/>
            <a:ext cx="214200" cy="212760"/>
            <a:chOff x="5772240" y="3432240"/>
            <a:chExt cx="214200" cy="212760"/>
          </a:xfrm>
        </p:grpSpPr>
        <p:pic>
          <p:nvPicPr>
            <p:cNvPr id="145" name="5-Point Star 4" descr=""/>
            <p:cNvPicPr/>
            <p:nvPr/>
          </p:nvPicPr>
          <p:blipFill>
            <a:blip r:embed="rId4"/>
            <a:stretch/>
          </p:blipFill>
          <p:spPr>
            <a:xfrm>
              <a:off x="5772240" y="3432240"/>
              <a:ext cx="214200" cy="212760"/>
            </a:xfrm>
            <a:prstGeom prst="rect">
              <a:avLst/>
            </a:prstGeom>
            <a:ln w="0">
              <a:noFill/>
            </a:ln>
          </p:spPr>
        </p:pic>
        <p:sp>
          <p:nvSpPr>
            <p:cNvPr id="146" name=""/>
            <p:cNvSpPr/>
            <p:nvPr/>
          </p:nvSpPr>
          <p:spPr>
            <a:xfrm>
              <a:off x="5848200" y="3517920"/>
              <a:ext cx="69840" cy="69840"/>
            </a:xfrm>
            <a:prstGeom prst="rect">
              <a:avLst/>
            </a:prstGeom>
            <a:noFill/>
            <a:ln w="0">
              <a:noFill/>
            </a:ln>
          </p:spPr>
          <p:style>
            <a:lnRef idx="0"/>
            <a:fillRef idx="0"/>
            <a:effectRef idx="0"/>
            <a:fontRef idx="minor"/>
          </p:style>
          <p:txBody>
            <a:bodyPr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7" name="TextBox 4"/>
          <p:cNvSpPr/>
          <p:nvPr/>
        </p:nvSpPr>
        <p:spPr>
          <a:xfrm>
            <a:off x="1676520" y="6095880"/>
            <a:ext cx="43988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DEPARTMENT OF BIOLOGY</a:t>
            </a:r>
            <a:br>
              <a:rPr sz="1000"/>
            </a:br>
            <a:r>
              <a:rPr b="0" lang="en-US" sz="1000" spc="-1" strike="noStrike">
                <a:solidFill>
                  <a:srgbClr val="ffffff"/>
                </a:solidFill>
                <a:latin typeface="Arial"/>
                <a:ea typeface="Arial"/>
              </a:rPr>
              <a:t>Inspiring Innovation    Learn more at www.uwstout.edu/</a:t>
            </a:r>
            <a:endParaRPr b="0" lang="en-US" sz="1000" spc="-1" strike="noStrike">
              <a:solidFill>
                <a:srgbClr val="000000"/>
              </a:solidFill>
              <a:latin typeface="Calibri"/>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9T16:22:34Z</dcterms:created>
  <dc:creator>Bomar, Charles</dc:creator>
  <dc:description/>
  <dc:language>en-US</dc:language>
  <cp:lastModifiedBy>Laubach</cp:lastModifiedBy>
  <dcterms:modified xsi:type="dcterms:W3CDTF">2013-02-22T04:09:51Z</dcterms:modified>
  <cp:revision>64</cp:revision>
  <dc:subject/>
  <dc:title>A watershed biography: welcome to gilbert creek</dc:title>
</cp:coreProperties>
</file>